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77E-A6B2-4211-917D-6768CE1E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8AB-29A0-4441-9D67-41BFF0D3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2F0-CA47-41B7-8B7C-D06A7918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ABA-0869-48F4-8197-5738B9FF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207-1D55-4065-95E5-70274B9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95A-1FD0-4ED1-B1E0-44BAA3DD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CEB-E079-40AB-8C8B-9776A2F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C89-1CCC-40A3-B6E1-49A0F31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088-1ECB-4E44-AC6C-0D1D1A2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5DB-6382-4185-B0CD-28856E1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DFE-A36D-404F-9D71-D85ECF9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4D7-0733-4956-84A5-1A964F4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194-2FA6-4BEC-9B49-2CEBB3C7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136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IRE CONTINENTAL SUR LA SECURIT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ROBI, 12-16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s enseignements tirés de 15 ans années de financement du projet DI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212840" cy="107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8120" y="6093000"/>
            <a:ext cx="86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 du CILSS/PRA/SA-LCD-PO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madou Mactar Konaté, expert en sécurité alimentai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19640" y="260280"/>
          <a:ext cx="201600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0280"/>
                    <a:ext cx="2016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9500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jet réalisé sur financemen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nion Europé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29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620640"/>
            <a:ext cx="4103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P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20606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84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141720"/>
            <a:ext cx="850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élioration des instruments du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agnostic permanen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our la sécurité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365720"/>
            <a:ext cx="85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émarré en 1984. Il a été exécuté en trois phase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IAPER I (1984-1987), DIAPER II (1988-1993), DIAPER III (1994-1999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nforcer la capacité des services nationaux de statistiques agricoles et d’élevage des pays du CILSS afin de fournir en temps opportun, l’information statistique fiable nécessaire à la prévision et au suivi de la production agricole en particulier, et de la situation alimentaire des populations en géné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56640"/>
            <a:ext cx="84978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Activités organisées autour de trois principaux domaines 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ppui institutionn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 développement méthodologi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Instruments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1 -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Enquête agricole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sée sur un échantillonnage probabil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Univers statistique, le ménage agrico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Taille (5 ménages/village) = 5 000 à 10 000 ménages environ par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ût annuel = environ 25 000 000FCFA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( 38 100 Euro) par pays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2 – Suivi de la campagne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GTP (groupe de travail pluridisciplinaire (agriculture, élevag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hydraulique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mbinaison d’observations de terrain et satell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Mission conjointe CILSS/FAO d’évaluation des récol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Outils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1 – Bilan céréalier Expost et prévisionnel : Novembre/Oct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lance entre l’offre et la demande (production, stocks, impor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aides ali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33360"/>
            <a:ext cx="32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ésultats Ob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oisième phase (1994-1999) devait aboutir à l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se en charge technique et financière du dispositif par le CILSS et par les É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ns le cadre d’un processus étalé sur 5 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la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tique du Bonus/Ma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plan technique, l’accent fut placé su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mélioration de la qualité et de la fiabilité des données, l’analyse et la diffusion de l’information et la formation du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niveau institutionnel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mise en place de structures politiques ou comité de sécurité aliment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favoriser l’exploitation des données et inciter au financement des enquêtes fut inscrite comme conditionnalité au financement de cette phase du proj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240" y="4762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(1994-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1800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t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1412640"/>
            <a:ext cx="547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marche objectiv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nsus autour des donné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isation dans les pays (début 2000) : budget Ét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349360"/>
            <a:ext cx="2016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284640"/>
            <a:ext cx="6769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fficulté dans la détermination des stocks et impor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uivi indirect des zones à ris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éthode ciblée sur les céré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dget État difficilement mobili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321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nseignement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560" y="907920"/>
            <a:ext cx="8785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ise en charge financière du dispositif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ux niveaux national et régional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’est pas garanti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dget État difficilement mobilis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isque de perte d’un système fondé sur quinze (15) ans d’investissement est aujourd’hui rée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alors que les problèmes de sécurité alimentaire restent en tête des priorités des États et des populations sahéliennes, comme de la communauté internat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a multiplicité des causes, la différenciation des formes de crises alimentaires structurelles et conjoncturelles, nécessitent pourtant non seulement l’entretien et l’adaptation des outils existants mais requiert le développement d’outils complément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ssources humaines (encadrement non formé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14842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MERCI   DE   VOTRE   ATTENTION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16360" y="3102120"/>
            <a:ext cx="35272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0:31:52Z</dcterms:created>
  <dc:creator>Amadou Mactar KONATE</dc:creator>
  <dc:description/>
  <dc:language>en-US</dc:language>
  <cp:lastModifiedBy>Amadou Mactar KONATE</cp:lastModifiedBy>
  <dcterms:modified xsi:type="dcterms:W3CDTF">2007-03-11T21:02:56Z</dcterms:modified>
  <cp:revision>16</cp:revision>
  <dc:subject/>
  <dc:title>DIAPER Diagnostic permanent</dc:title>
</cp:coreProperties>
</file>