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A5B-3825-4B1A-AD49-BB746616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70B-2ED4-4068-86D1-6238FB26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743-30DC-4D85-83BE-66D48EFA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D9F-7F32-47F1-837B-FBB69D75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9DA-9D53-47A3-9A18-3E9DD5D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E96-E988-4E45-9533-CB8815B0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867-D215-4F5A-A61B-4BFBBB8B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8F3-D804-455D-BB52-4750CF33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36F-B19F-432D-BF1E-7723746E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B7E-1EDB-4EF6-A97B-E28EB2DF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D8C-9B23-4FFD-A472-9DFEBFD4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1C9-4341-484C-BD4F-FA567F12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4CC-F6FB-4EE6-B3C3-DC1DACFCC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1360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IRE CONTINENTAL SUR LA SECURIT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ROBI, 12-16 mar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s enseignements tirés de 15 ans années de financement du projet DI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1212840" cy="107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8120" y="6093000"/>
            <a:ext cx="86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 du CILSS/PRA/SA-LCD-PO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madou Mactar Konaté, expert en sécurité alimentair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19640" y="260280"/>
          <a:ext cx="201600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260280"/>
                    <a:ext cx="2016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5950080"/>
            <a:ext cx="59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jet réalisé sur financement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nion Europée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829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700360" y="620640"/>
            <a:ext cx="41036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AP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7236000" y="206064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984 -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141720"/>
            <a:ext cx="850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élioration des instruments du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agnostic permanen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our la sécurité ali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365720"/>
            <a:ext cx="85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émarré en 1984. Il a été exécuté en trois phases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IAPER I (1984-1987), DIAPER II (1988-1993), DIAPER III (1994-1999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nforcer la capacité des services nationaux de statistiques agricoles et d’élevage des pays du CILSS afin de fournir en temps opportun, l’information statistique fiable nécessaire à la prévision et au suivi de la production agricole en particulier, et de la situation alimentaire des populations en géné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356640"/>
            <a:ext cx="84978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Activités organisées autour de trois principaux domaines 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appui institutionn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 développement méthodologi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1268280"/>
            <a:ext cx="85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9900"/>
                </a:solidFill>
                <a:uFillTx/>
                <a:latin typeface="Arial"/>
              </a:rPr>
              <a:t>Instruments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1 - 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Enquête agricole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Basée sur un échantillonnage probabilis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Univers statistique, le ménage agrico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Taille (5 ménages/village) = 5 000 à 10 000 ménages environ par 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Coût annuel = environ 25 000 000FCFA 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( 38 100 Euro) par pays 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2 – Suivi de la campagne agr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GTP (groupe de travail pluridisciplinaire (agriculture, élevag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hydraulique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Combinaison d’observations de terrain et satell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Mission conjointe CILSS/FAO d’évaluation des récol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9900"/>
                </a:solidFill>
                <a:uFillTx/>
                <a:latin typeface="Arial"/>
              </a:rPr>
              <a:t>Outils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1 – Bilan céréalier Expost et prévisionnel : Novembre/Oct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Balance entre l’offre et la demande (production, stocks, impor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aides ali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33360"/>
            <a:ext cx="32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ésultats Ob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oisième phase (1994-1999) devait aboutir à l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se en charge technique et financière du dispositif par le CILSS et par les Ét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ans le cadre d’un processus étalé sur 5 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la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tique du Bonus/Ma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 plan technique, l’accent fut placé su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amélioration de la qualité et de la fiabilité des données, l’analyse et la diffusion de l’information et la formation du perso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 niveau institutionnel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mise en place de structures politiques ou comité de sécurité aliment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favoriser l’exploitation des données et inciter au financement des enquêtes fut inscrite comme conditionnalité au financement de cette phase du proj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240" y="4762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(1994-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1800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t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26920" y="1412640"/>
            <a:ext cx="547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marche objectiv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ensus autour des donné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isation dans les pays (début 2000) : budget Ét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349360"/>
            <a:ext cx="2016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i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284640"/>
            <a:ext cx="6769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fficulté dans la détermination des stocks et impor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uivi indirect des zones à ris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éthode ciblée sur les céré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dget État difficilement mobili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321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nseignements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8560" y="907920"/>
            <a:ext cx="8785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ise en charge financière du dispositif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ux niveaux national et régional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’est pas garanti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dget État difficilement mobilis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isque de perte d’un système fondé sur quinze (15) ans d’investissement est aujourd’hui rée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alors que les problèmes de sécurité alimentaire restent en tête des priorités des États et des populations sahéliennes, comme de la communauté internat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a multiplicité des causes, la différenciation des formes de crises alimentaires structurelles et conjoncturelles, nécessitent pourtant non seulement l’entretien et l’adaptation des outils existants mais requiert le développement d’outils complément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ssources humaines (encadrement non formé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148428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MERCI   DE   VOTRE   ATTENTION 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16360" y="3102120"/>
            <a:ext cx="352728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0:31:52Z</dcterms:created>
  <dc:creator>Amadou Mactar KONATE</dc:creator>
  <dc:description/>
  <dc:language>en-US</dc:language>
  <cp:lastModifiedBy>Amadou Mactar KONATE</cp:lastModifiedBy>
  <dcterms:modified xsi:type="dcterms:W3CDTF">2007-03-11T21:02:56Z</dcterms:modified>
  <cp:revision>16</cp:revision>
  <dc:subject/>
  <dc:title>DIAPER Diagnostic permanent</dc:title>
</cp:coreProperties>
</file>