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77A-926A-4BA5-AA6A-AF323B84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F8F0-78A5-4141-805D-40EC86B6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0903-07E4-4601-839B-97D68343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AB5E-EF8A-49DB-AA56-A9450725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4BDB-FDD7-41CF-82DA-DB8871E7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E9E1-59BE-4CBC-86D9-B16F39D5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7DD-4030-41C6-8CFF-8AA24E2F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2EF-5C1A-4DBC-B84C-43F5AD2E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C4C-8662-42CF-9A6C-2219E9B9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9C3-BFBB-428F-A2BA-8CE2E17C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733-693D-4DD8-AE18-32FB914F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C19-8F91-44AD-A326-CACF502F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DA95-02C9-48B3-86D1-7506FF175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1360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NAIRE CONTINENTAL SUR LA SECURITE ALI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AROBI, 12-16 mar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s enseignements tirés de 15 ans années de financement du projet DI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5013360"/>
            <a:ext cx="1212840" cy="107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8120" y="6093000"/>
            <a:ext cx="86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ion du CILSS/PRA/SA-LCD-PO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madou Mactar Konaté, expert en sécurité alimentair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419640" y="260280"/>
          <a:ext cx="2016000" cy="12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260280"/>
                    <a:ext cx="20160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7640" y="5950080"/>
            <a:ext cx="590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ojet réalisé sur financement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nion Europée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5829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700360" y="620640"/>
            <a:ext cx="41036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APE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7236000" y="206064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1984 -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3141720"/>
            <a:ext cx="8507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élioration des instruments du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agnostic permanen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pour la sécurité alimen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4365720"/>
            <a:ext cx="8569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Démarré en 1984. Il a été exécuté en trois phases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DIAPER I (1984-1987), DIAPER II (1988-1993), DIAPER III (1994-1999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nforcer la capacité des services nationaux de statistiques agricoles et d’élevage des pays du CILSS afin de fournir en temps opportun, l’information statistique fiable nécessaire à la prévision et au suivi de la production agricole en particulier, et de la situation alimentaire des populations en géné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3356640"/>
            <a:ext cx="84978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Activités organisées autour de trois principaux domaines 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’appui institutionne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 développement méthodologiqu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 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1268280"/>
            <a:ext cx="8569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9900"/>
                </a:solidFill>
                <a:uFillTx/>
                <a:latin typeface="Arial"/>
              </a:rPr>
              <a:t>Instruments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1 - </a:t>
            </a: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Enquête agricole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Basée sur un échantillonnage probabilis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Univers statistique, le ménage agrico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Taille (5 ménages/village) = 5 000 à 10 000 ménages environ par p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Coût annuel = environ 25 000 000FCFA </a:t>
            </a: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( 38 100 Euro) par pays (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2 – Suivi de la campagne agri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GTP (groupe de travail pluridisciplinaire (agriculture, élevage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                 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hydraulique, et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Combinaison d’observations de terrain et satelli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Mission conjointe CILSS/FAO d’évaluation des récol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9900"/>
                </a:solidFill>
                <a:uFillTx/>
                <a:latin typeface="Arial"/>
              </a:rPr>
              <a:t>Outils</a:t>
            </a: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1 – Bilan céréalier Expost et prévisionnel : Novembre/Oct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- Balance entre l’offre et la demande (production, stocks, import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                 </a:t>
            </a:r>
            <a:r>
              <a:rPr b="0" lang="fr-FR" sz="1800" spc="-1" strike="noStrike">
                <a:solidFill>
                  <a:srgbClr val="cc9900"/>
                </a:solidFill>
                <a:latin typeface="Arial"/>
              </a:rPr>
              <a:t>aides ali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33360"/>
            <a:ext cx="324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ésultats Obt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6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troisième phase (1994-1999) devait aboutir à l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ise en charge technique et financière du dispositif par le CILSS et par les Éta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ans le cadre d’un processus étalé sur 5 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la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tique du Bonus/Ma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 plan technique, l’accent fut placé su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’amélioration de la qualité et de la fiabilité des données, l’analyse et la diffusion de l’information et la formation du person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 niveau institutionnel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 mise en place de structures politiques ou comité de sécurité alimenta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favoriser l’exploitation des données et inciter au financement des enquêtes fut inscrite comme conditionnalité au financement de cette phase du proj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18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240" y="4762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se (1994-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1800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Ato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26920" y="1412640"/>
            <a:ext cx="547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émarche objectiv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ensus autour des donné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alisation dans les pays (début 2000) : budget Ét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349360"/>
            <a:ext cx="2016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Lim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3284640"/>
            <a:ext cx="67690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ifficulté dans la détermination des stocks et impor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uivi indirect des zones à ris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éthode ciblée sur les céré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udget État difficilement mobilis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4321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Enseignements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8560" y="907920"/>
            <a:ext cx="8785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ise en charge financière du dispositif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aux niveaux national et régional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’est pas garantie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budget État difficilement mobilis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e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isque de perte d’un système fondé sur quinze (15) ans d’investissement est aujourd’hui réel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alors que les problèmes de sécurité alimentaire restent en tête des priorités des États et des populations sahéliennes, comme de la communauté internation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La multiplicité des causes, la différenciation des formes de crises alimentaires structurelles et conjoncturelles, nécessitent pourtant non seulement l’entretien et l’adaptation des outils existants mais requiert le développement d’outils complémentai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essources humaines (encadrement non formé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148428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MERCI   DE   VOTRE   ATTENTION 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16360" y="3102120"/>
            <a:ext cx="352728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00:31:52Z</dcterms:created>
  <dc:creator>Amadou Mactar KONATE</dc:creator>
  <dc:description/>
  <dc:language>en-US</dc:language>
  <cp:lastModifiedBy>Amadou Mactar KONATE</cp:lastModifiedBy>
  <dcterms:modified xsi:type="dcterms:W3CDTF">2007-03-11T21:02:56Z</dcterms:modified>
  <cp:revision>16</cp:revision>
  <dc:subject/>
  <dc:title>DIAPER Diagnostic permanent</dc:title>
</cp:coreProperties>
</file>