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45B-7D80-4A1E-A7D6-8250E9AE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B33-ABD3-4431-B2DA-E463D48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D53-31FB-4A14-8858-7646D68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D1F-9DD2-4794-AF02-C56901EE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370-4DAA-49BD-8790-D204AC8A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246-2993-41E6-A821-F1B3565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2C3-5D4B-44DA-902B-8F2FD78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F5C-D158-4FA6-8FF9-C0E5E87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1A4-BC61-4C8E-A714-5EFD978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151-A339-42F1-B4CF-D0B418A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2F9-F89B-40F3-864A-5556E92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37D-C403-4476-B9E7-5A027B9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376-F78A-40A2-8629-7CA1FE5D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seminar on systems of social transfers to fight extrem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ng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42960" y="635796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53D-73C7-4050-A7A5-7CD21B7A9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– rising foo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April 08 – IFP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mplement safety-net programmes like food or income transf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 April 08 – World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mprove access to safety net programs, such as cash transfers and risk management instruments to protect the poo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 April 08 – Gordon Br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ordinated response … to address soaring food pric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0 April 08 – Robert Zoellick, WB-IMF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xpand and improve access to safety net programs such as cash transf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4 April 08 – Michel Barn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U to lead a global initiative on food security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5 April 08 – EC seminar on systems of social transf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39"/>
          <p:cNvSpPr/>
          <p:nvPr/>
        </p:nvSpPr>
        <p:spPr>
          <a:xfrm flipV="1">
            <a:off x="6224040" y="2392200"/>
            <a:ext cx="1414440" cy="136080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62"/>
          <p:cNvSpPr/>
          <p:nvPr/>
        </p:nvSpPr>
        <p:spPr>
          <a:xfrm flipV="1">
            <a:off x="3268080" y="2749320"/>
            <a:ext cx="1214280" cy="85716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50"/>
          <p:cNvSpPr/>
          <p:nvPr/>
        </p:nvSpPr>
        <p:spPr>
          <a:xfrm flipV="1">
            <a:off x="994680" y="2423880"/>
            <a:ext cx="1500120" cy="121428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Oval 18"/>
          <p:cNvGrpSpPr/>
          <p:nvPr/>
        </p:nvGrpSpPr>
        <p:grpSpPr>
          <a:xfrm>
            <a:off x="2333520" y="3573360"/>
            <a:ext cx="1901880" cy="1060560"/>
            <a:chOff x="2333520" y="3573360"/>
            <a:chExt cx="1901880" cy="1060560"/>
          </a:xfrm>
        </p:grpSpPr>
        <p:pic>
          <p:nvPicPr>
            <p:cNvPr id="50" name="Oval 18" descr=""/>
            <p:cNvPicPr/>
            <p:nvPr/>
          </p:nvPicPr>
          <p:blipFill>
            <a:blip r:embed="rId1"/>
            <a:stretch/>
          </p:blipFill>
          <p:spPr>
            <a:xfrm>
              <a:off x="2333520" y="3573360"/>
              <a:ext cx="19018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24040" y="3753000"/>
              <a:ext cx="131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Oval 19"/>
          <p:cNvGrpSpPr/>
          <p:nvPr/>
        </p:nvGrpSpPr>
        <p:grpSpPr>
          <a:xfrm>
            <a:off x="7107120" y="3573360"/>
            <a:ext cx="1913040" cy="1060560"/>
            <a:chOff x="7107120" y="3573360"/>
            <a:chExt cx="1913040" cy="1060560"/>
          </a:xfrm>
        </p:grpSpPr>
        <p:pic>
          <p:nvPicPr>
            <p:cNvPr id="53" name="Oval 19" descr=""/>
            <p:cNvPicPr/>
            <p:nvPr/>
          </p:nvPicPr>
          <p:blipFill>
            <a:blip r:embed="rId2"/>
            <a:stretch/>
          </p:blipFill>
          <p:spPr>
            <a:xfrm>
              <a:off x="7107120" y="3573360"/>
              <a:ext cx="19130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10600" y="3753000"/>
              <a:ext cx="131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Trans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val 20"/>
          <p:cNvGrpSpPr/>
          <p:nvPr/>
        </p:nvGrpSpPr>
        <p:grpSpPr>
          <a:xfrm>
            <a:off x="4606920" y="3573360"/>
            <a:ext cx="1914480" cy="1060560"/>
            <a:chOff x="4606920" y="3573360"/>
            <a:chExt cx="1914480" cy="1060560"/>
          </a:xfrm>
        </p:grpSpPr>
        <p:pic>
          <p:nvPicPr>
            <p:cNvPr id="56" name="Oval 20" descr=""/>
            <p:cNvPicPr/>
            <p:nvPr/>
          </p:nvPicPr>
          <p:blipFill>
            <a:blip r:embed="rId3"/>
            <a:stretch/>
          </p:blipFill>
          <p:spPr>
            <a:xfrm>
              <a:off x="4606920" y="3573360"/>
              <a:ext cx="19144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910040" y="3753000"/>
              <a:ext cx="131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Assis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21"/>
          <p:cNvSpPr/>
          <p:nvPr/>
        </p:nvSpPr>
        <p:spPr>
          <a:xfrm>
            <a:off x="4567320" y="4964040"/>
            <a:ext cx="185724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Social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Oval 22"/>
          <p:cNvGrpSpPr/>
          <p:nvPr/>
        </p:nvGrpSpPr>
        <p:grpSpPr>
          <a:xfrm>
            <a:off x="108000" y="3573360"/>
            <a:ext cx="1768320" cy="1060560"/>
            <a:chOff x="108000" y="3573360"/>
            <a:chExt cx="1768320" cy="1060560"/>
          </a:xfrm>
        </p:grpSpPr>
        <p:pic>
          <p:nvPicPr>
            <p:cNvPr id="60" name="Oval 22" descr=""/>
            <p:cNvPicPr/>
            <p:nvPr/>
          </p:nvPicPr>
          <p:blipFill>
            <a:blip r:embed="rId4"/>
            <a:stretch/>
          </p:blipFill>
          <p:spPr>
            <a:xfrm>
              <a:off x="108000" y="3573360"/>
              <a:ext cx="17683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88800" y="3753000"/>
              <a:ext cx="1213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Social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23"/>
          <p:cNvSpPr/>
          <p:nvPr/>
        </p:nvSpPr>
        <p:spPr>
          <a:xfrm>
            <a:off x="1566720" y="1392120"/>
            <a:ext cx="1857600" cy="1000080"/>
          </a:xfrm>
          <a:prstGeom prst="ellipse">
            <a:avLst/>
          </a:prstGeom>
          <a:noFill/>
          <a:ln w="633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4495680" y="2249640"/>
            <a:ext cx="200052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Social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1566720" y="5749920"/>
            <a:ext cx="1857600" cy="1000080"/>
          </a:xfrm>
          <a:prstGeom prst="ellipse">
            <a:avLst/>
          </a:prstGeom>
          <a:noFill/>
          <a:ln w="633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rebuchet M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val 36"/>
          <p:cNvGrpSpPr/>
          <p:nvPr/>
        </p:nvGrpSpPr>
        <p:grpSpPr>
          <a:xfrm>
            <a:off x="6680160" y="1360440"/>
            <a:ext cx="1901880" cy="1054080"/>
            <a:chOff x="6680160" y="1360440"/>
            <a:chExt cx="1901880" cy="1054080"/>
          </a:xfrm>
        </p:grpSpPr>
        <p:pic>
          <p:nvPicPr>
            <p:cNvPr id="66" name="Oval 36" descr=""/>
            <p:cNvPicPr/>
            <p:nvPr/>
          </p:nvPicPr>
          <p:blipFill>
            <a:blip r:embed="rId5"/>
            <a:stretch/>
          </p:blipFill>
          <p:spPr>
            <a:xfrm>
              <a:off x="6680160" y="1360440"/>
              <a:ext cx="1901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981840" y="1538280"/>
              <a:ext cx="13143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Free Basic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Oval 37"/>
          <p:cNvGrpSpPr/>
          <p:nvPr/>
        </p:nvGrpSpPr>
        <p:grpSpPr>
          <a:xfrm>
            <a:off x="6680160" y="5719680"/>
            <a:ext cx="1914480" cy="1054080"/>
            <a:chOff x="6680160" y="5719680"/>
            <a:chExt cx="1914480" cy="1054080"/>
          </a:xfrm>
        </p:grpSpPr>
        <p:pic>
          <p:nvPicPr>
            <p:cNvPr id="69" name="Oval 37" descr=""/>
            <p:cNvPicPr/>
            <p:nvPr/>
          </p:nvPicPr>
          <p:blipFill>
            <a:blip r:embed="rId6"/>
            <a:stretch/>
          </p:blipFill>
          <p:spPr>
            <a:xfrm>
              <a:off x="6680160" y="5719680"/>
              <a:ext cx="1914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981840" y="5896080"/>
              <a:ext cx="131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Trebuchet MS"/>
                </a:rPr>
                <a:t>Universal Edu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Straight Connector 44"/>
          <p:cNvSpPr/>
          <p:nvPr/>
        </p:nvSpPr>
        <p:spPr>
          <a:xfrm>
            <a:off x="6210360" y="4464000"/>
            <a:ext cx="1428840" cy="128592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48"/>
          <p:cNvSpPr/>
          <p:nvPr/>
        </p:nvSpPr>
        <p:spPr>
          <a:xfrm>
            <a:off x="1066680" y="4575240"/>
            <a:ext cx="1428840" cy="114300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6"/>
          <p:cNvSpPr/>
          <p:nvPr/>
        </p:nvSpPr>
        <p:spPr>
          <a:xfrm>
            <a:off x="3456000" y="1892160"/>
            <a:ext cx="3286080" cy="1800"/>
          </a:xfrm>
          <a:prstGeom prst="line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58"/>
          <p:cNvSpPr/>
          <p:nvPr/>
        </p:nvSpPr>
        <p:spPr>
          <a:xfrm>
            <a:off x="3456000" y="6249960"/>
            <a:ext cx="3286080" cy="144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60"/>
          <p:cNvSpPr/>
          <p:nvPr/>
        </p:nvSpPr>
        <p:spPr>
          <a:xfrm>
            <a:off x="6496200" y="4106880"/>
            <a:ext cx="571320" cy="144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65"/>
          <p:cNvSpPr/>
          <p:nvPr/>
        </p:nvSpPr>
        <p:spPr>
          <a:xfrm>
            <a:off x="3268800" y="4606920"/>
            <a:ext cx="1285560" cy="857160"/>
          </a:xfrm>
          <a:prstGeom prst="line">
            <a:avLst/>
          </a:prstGeom>
          <a:ln cap="rnd" w="6336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8"/>
          <p:cNvCxnSpPr/>
          <p:nvPr/>
        </p:nvCxnSpPr>
        <p:spPr>
          <a:xfrm>
            <a:off x="4210200" y="4106880"/>
            <a:ext cx="429120" cy="216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" name="Straight Arrow Connector 71"/>
          <p:cNvCxnSpPr/>
          <p:nvPr/>
        </p:nvCxnSpPr>
        <p:spPr>
          <a:xfrm>
            <a:off x="1852200" y="4106880"/>
            <a:ext cx="500760" cy="216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by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003320"/>
            <a:ext cx="82090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-co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budget,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able, regular, guarant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-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: safety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: 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ig, start small, scale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1640" y="549756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19680" y="34066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1640" y="35481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1320" y="147636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72040" y="11746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89560" y="2530080"/>
            <a:ext cx="0" cy="6476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Spring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74960" y="1626840"/>
            <a:ext cx="0" cy="86508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1654200"/>
            <a:ext cx="720720" cy="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4960" y="2990880"/>
            <a:ext cx="0" cy="72072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3711600"/>
            <a:ext cx="647640" cy="0"/>
          </a:xfrm>
          <a:prstGeom prst="line">
            <a:avLst/>
          </a:prstGeom>
          <a:ln w="5724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4240" y="47023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afety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74960" y="4059000"/>
            <a:ext cx="0" cy="71892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4960" y="4016520"/>
            <a:ext cx="64764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4960" y="5202360"/>
            <a:ext cx="0" cy="71892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4960" y="5905440"/>
            <a:ext cx="647640" cy="1584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95520" y="1120680"/>
            <a:ext cx="2160720" cy="12956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5520" y="5154480"/>
            <a:ext cx="216072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3178080"/>
            <a:ext cx="2160720" cy="129564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4511520"/>
            <a:ext cx="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1052640"/>
            <a:ext cx="3186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5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Livelihood promotion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[“Risk reduction”] 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Micro-credit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Public works</a:t>
            </a:r>
            <a:br>
              <a:rPr sz="1600"/>
            </a:b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School f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8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Social insurance</a:t>
            </a:r>
            <a:br>
              <a:rPr sz="1600"/>
            </a:b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[“Risk mitigation”] 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Unemployment benefit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Weather insurance</a:t>
            </a:r>
            <a:br>
              <a:rPr sz="1600"/>
            </a:b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Burial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1001"/>
              </a:spcBef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ocial assistance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[“Risk coping”]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mergency food aid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upport to PLWHA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Old age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ous 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574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ctoral lin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201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58:16Z</dcterms:created>
  <dc:creator>Nicholas Freeland</dc:creator>
  <dc:description/>
  <dc:language>en-US</dc:language>
  <cp:lastModifiedBy>Nicholas Freeland</cp:lastModifiedBy>
  <dcterms:modified xsi:type="dcterms:W3CDTF">2008-04-18T08:06:05Z</dcterms:modified>
  <cp:revision>18</cp:revision>
  <dc:subject/>
  <dc:title>Social Transfers</dc:title>
</cp:coreProperties>
</file>