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8" name="PlaceHolder 1"/>
          <p:cNvSpPr>
            <a:spLocks noGrp="1"/>
          </p:cNvSpPr>
          <p:nvPr>
            <p:ph type="hdr"/>
          </p:nvPr>
        </p:nvSpPr>
        <p:spPr>
          <a:xfrm>
            <a:off x="0" y="0"/>
            <a:ext cx="2935440" cy="463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36880" y="0"/>
            <a:ext cx="2935440" cy="463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917280" y="773280"/>
            <a:ext cx="4940280" cy="3705120"/>
          </a:xfrm>
          <a:prstGeom prst="rect">
            <a:avLst/>
          </a:prstGeom>
          <a:solidFill>
            <a:srgbClr val="ffffff"/>
          </a:solid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1" name="PlaceHolder 4"/>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418680"/>
            <a:ext cx="2935440" cy="463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36880" y="9418680"/>
            <a:ext cx="29354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B45B-58DB-4BA6-BC6C-3EBE4C55E50F}"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73280"/>
            <a:ext cx="4940280" cy="3705120"/>
          </a:xfrm>
          <a:prstGeom prst="rect">
            <a:avLst/>
          </a:prstGeom>
          <a:ln w="0">
            <a:noFill/>
          </a:ln>
        </p:spPr>
      </p:sp>
      <p:sp>
        <p:nvSpPr>
          <p:cNvPr id="127" name="PlaceHolder 2"/>
          <p:cNvSpPr>
            <a:spLocks noGrp="1"/>
          </p:cNvSpPr>
          <p:nvPr>
            <p:ph type="body"/>
          </p:nvPr>
        </p:nvSpPr>
        <p:spPr>
          <a:xfrm>
            <a:off x="903240" y="4708440"/>
            <a:ext cx="4965840" cy="44784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there is a real need for all of us to know more about what is happening in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I remember a message from the Delegation of Ethiopia asking for support regarding the programming on social tranfers. They felt isolated and disconnected from the rest of the Delegations developing such a king of project. We realized that on this topic few has been done even if it represents a significant part of the programmes delivered under Food Security banner. Generally the thematic or regional seminars already organised covered issues related to the traditional pillar availability of food, or FSTP, but nothing really devoted to the pillar access to food. For information my colleagues will organize also a two days seminar on the third pillar « nutrition » on the 8th of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there are here colleagues from Dev, Aidco, Echo, and external resources person, who can provide you additional conceptual elements, even if the tonality of this seminar is not to be too academic but more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Nicholas Freeland from Regional Hunger and Vulnerabilty Programme (RHVP) is in charge of preparing a concept note following this seminar and taking into consideration the conclusion of the discussion. Sorry Nicholas for the mistake with the acronym of your organisation in the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67F72-0024-4FAD-B170-E59A63020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9CFA7-9B6B-4CB7-AD31-14CB3DE4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BDB01-89F6-40E2-849D-3F5573CC2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93A82-D979-4723-92DC-945EF554B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DDD79-4D92-44CD-BD1A-5F736A648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E793C-9059-45FE-8A01-56F302377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B6826-8250-4CF4-8B68-116A233A6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2F4C6-F293-4534-9394-80D0D3948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E5790-9ABB-4C00-ACD0-71900561D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DB8E9-A8C4-44CB-BF9F-D5C6642E6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97EF0-C4AF-4B65-9808-3B90E89B7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B01D-0B20-42A4-B2E3-CCF1B52F0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19DB7-F080-42B3-94B1-3AF09F623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D711C-0386-4BB7-B37D-F9AB23779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AA114-CF89-4A89-AAC6-49598906D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66A55-1B8C-45B2-B4D9-ACB39B4F1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DC6E2-1C59-4630-8D9A-137D7ECA9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43494-EE43-4D61-9631-807862AD4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69490-DE5E-4DC6-8D30-CDE267B8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852D-FBA9-442D-B708-14A0A832B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C33D-7133-47C0-A0CC-92DDCAFBA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428BF-098B-4F7A-AC77-34852F07A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A883-0B3A-47D0-8BBA-61DB578E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2CD8D-803B-4270-9C98-E58F47918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1127-86DA-4329-88D7-661019A59993}"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Times New Roman"/>
                </a:endParaRPr>
              </a:p>
            </p:txBody>
          </p:sp>
        </p:grpSp>
      </p:grpSp>
      <p:grpSp>
        <p:nvGrpSpPr>
          <p:cNvPr id="11" name=""/>
          <p:cNvGrpSpPr/>
          <p:nvPr/>
        </p:nvGrpSpPr>
        <p:grpSpPr>
          <a:xfrm>
            <a:off x="8317080" y="0"/>
            <a:ext cx="863280" cy="6858000"/>
            <a:chOff x="8317080" y="0"/>
            <a:chExt cx="863280" cy="6858000"/>
          </a:xfrm>
        </p:grpSpPr>
        <p:sp>
          <p:nvSpPr>
            <p:cNvPr id="12"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 name=""/>
            <p:cNvGrpSpPr/>
            <p:nvPr/>
          </p:nvGrpSpPr>
          <p:grpSpPr>
            <a:xfrm>
              <a:off x="8317080" y="682560"/>
              <a:ext cx="863280" cy="1224000"/>
              <a:chOff x="8317080" y="682560"/>
              <a:chExt cx="863280" cy="1224000"/>
            </a:xfrm>
          </p:grpSpPr>
          <p:sp>
            <p:nvSpPr>
              <p:cNvPr id="14"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Times New Roman"/>
                </a:endParaRPr>
              </a:p>
            </p:txBody>
          </p:sp>
        </p:grpSp>
      </p:grpSp>
      <p:sp>
        <p:nvSpPr>
          <p:cNvPr id="1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55" name="PlaceHolder 2"/>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56" name="PlaceHolder 3"/>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CBA5-04EF-471B-BE91-13FB942D69F3}"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grpSp>
        <p:nvGrpSpPr>
          <p:cNvPr id="58" name=""/>
          <p:cNvGrpSpPr/>
          <p:nvPr/>
        </p:nvGrpSpPr>
        <p:grpSpPr>
          <a:xfrm>
            <a:off x="8317080" y="0"/>
            <a:ext cx="863280" cy="6858000"/>
            <a:chOff x="8317080" y="0"/>
            <a:chExt cx="863280" cy="6858000"/>
          </a:xfrm>
        </p:grpSpPr>
        <p:sp>
          <p:nvSpPr>
            <p:cNvPr id="59"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8317080" y="682560"/>
              <a:ext cx="863280" cy="1224000"/>
              <a:chOff x="8317080" y="682560"/>
              <a:chExt cx="863280" cy="1224000"/>
            </a:xfrm>
          </p:grpSpPr>
          <p:sp>
            <p:nvSpPr>
              <p:cNvPr id="61"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Times New Roman"/>
                </a:endParaRPr>
              </a:p>
            </p:txBody>
          </p:sp>
        </p:grpSp>
      </p:grpSp>
      <p:grpSp>
        <p:nvGrpSpPr>
          <p:cNvPr id="64" name=""/>
          <p:cNvGrpSpPr/>
          <p:nvPr/>
        </p:nvGrpSpPr>
        <p:grpSpPr>
          <a:xfrm>
            <a:off x="8317080" y="0"/>
            <a:ext cx="863280" cy="6858000"/>
            <a:chOff x="8317080" y="0"/>
            <a:chExt cx="863280" cy="6858000"/>
          </a:xfrm>
        </p:grpSpPr>
        <p:sp>
          <p:nvSpPr>
            <p:cNvPr id="65"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8317080" y="682560"/>
              <a:ext cx="863280" cy="1224000"/>
              <a:chOff x="8317080" y="682560"/>
              <a:chExt cx="863280" cy="1224000"/>
            </a:xfrm>
          </p:grpSpPr>
          <p:sp>
            <p:nvSpPr>
              <p:cNvPr id="67"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Times New Roman"/>
                </a:endParaRPr>
              </a:p>
            </p:txBody>
          </p:sp>
        </p:grpSp>
      </p:grpSp>
      <p:pic>
        <p:nvPicPr>
          <p:cNvPr id="70" name="" descr=""/>
          <p:cNvPicPr/>
          <p:nvPr/>
        </p:nvPicPr>
        <p:blipFill>
          <a:blip r:embed="rId2"/>
          <a:stretch/>
        </p:blipFill>
        <p:spPr>
          <a:xfrm>
            <a:off x="7251840" y="5388120"/>
            <a:ext cx="1065240" cy="12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903320" y="2130480"/>
            <a:ext cx="5007240" cy="424080"/>
          </a:xfrm>
          <a:prstGeom prst="rect">
            <a:avLst/>
          </a:prstGeom>
          <a:noFill/>
          <a:ln w="0">
            <a:noFill/>
          </a:ln>
        </p:spPr>
        <p:style>
          <a:lnRef idx="0"/>
          <a:fillRef idx="0"/>
          <a:effectRef idx="0"/>
          <a:fontRef idx="minor"/>
        </p:style>
        <p:txBody>
          <a:bodyPr lIns="90000" rIns="90000" tIns="46800" bIns="46800" anchor="t">
            <a:sp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3399"/>
                </a:solidFill>
                <a:latin typeface="Times New Roman"/>
              </a:rPr>
              <a:t>Objectives of the seminar</a:t>
            </a:r>
            <a:endParaRPr b="0" lang="en-US" sz="2800" spc="-1" strike="noStrike">
              <a:solidFill>
                <a:srgbClr val="000000"/>
              </a:solidFill>
              <a:latin typeface="Times New Roman"/>
            </a:endParaRPr>
          </a:p>
        </p:txBody>
      </p:sp>
      <p:sp>
        <p:nvSpPr>
          <p:cNvPr id="115" name=""/>
          <p:cNvSpPr/>
          <p:nvPr/>
        </p:nvSpPr>
        <p:spPr>
          <a:xfrm>
            <a:off x="1930320" y="3054240"/>
            <a:ext cx="5334120" cy="2789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ocial Transfers - Food Security Seminar    April  15-18, 2008 Brussels</a:t>
            </a:r>
          </a:p>
        </p:txBody>
      </p:sp>
      <p:sp>
        <p:nvSpPr>
          <p:cNvPr id="3" name="PlaceHolder 2"/>
          <p:cNvSpPr>
            <a:spLocks noGrp="1"/>
          </p:cNvSpPr>
          <p:nvPr>
            <p:ph type="sldNum" idx="3"/>
          </p:nvPr>
        </p:nvSpPr>
        <p:spPr/>
        <p:txBody>
          <a:bodyPr/>
          <a:p>
            <a:fld id="{0E241306-51AB-47E2-AD9E-1A3A0AFD901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Objectives</a:t>
            </a:r>
            <a:endParaRPr b="1" lang="en-US" sz="2400" spc="-1" strike="noStrike">
              <a:solidFill>
                <a:srgbClr val="aa1f1d"/>
              </a:solidFill>
              <a:latin typeface="Verdana"/>
            </a:endParaRPr>
          </a:p>
        </p:txBody>
      </p:sp>
      <p:sp>
        <p:nvSpPr>
          <p:cNvPr id="117" name="PlaceHolder 2"/>
          <p:cNvSpPr>
            <a:spLocks noGrp="1"/>
          </p:cNvSpPr>
          <p:nvPr>
            <p:ph/>
          </p:nvPr>
        </p:nvSpPr>
        <p:spPr>
          <a:xfrm>
            <a:off x="457200" y="1460520"/>
            <a:ext cx="8229600" cy="441648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r>
              <a:rPr b="0" lang="fr-FR" sz="2400" spc="-1" strike="noStrike">
                <a:solidFill>
                  <a:srgbClr val="103c72"/>
                </a:solidFill>
                <a:latin typeface="Times New Roman"/>
              </a:rPr>
              <a:t>exchanges of views and experiences between operational colleagu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reinforce conceptual basis to deliver an efficient social transfers programme</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use recommendations within FSTP (« innovative approaches »)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preparation of a concept note on Food Security and Social Transfers</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ABE89245-D841-441B-8A82-1CDF1467A2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Rehabilitate Access to Food?</a:t>
            </a:r>
            <a:endParaRPr b="1" lang="en-US" sz="2400" spc="-1" strike="noStrike">
              <a:solidFill>
                <a:srgbClr val="aa1f1d"/>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Echo: Emergency response</a:t>
            </a:r>
            <a:endParaRPr b="0" lang="en-US" sz="24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FSTP: Thematic programme</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1.Agricultural Research and technology</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2.Linking information and decison making</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3.Regional programmes: disaster, agricultural policy, management of natural resources,etc.</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4.LRRD: Adressing Food Security in exceptional situations of transition and in fragile and failed states.</a:t>
            </a:r>
            <a:r>
              <a:rPr b="0" lang="en-GB" sz="1400" spc="-1" strike="noStrike" u="sng">
                <a:solidFill>
                  <a:srgbClr val="103c72"/>
                </a:solidFill>
                <a:uFillTx/>
                <a:latin typeface="Verdana"/>
                <a:ea typeface="宋体"/>
              </a:rPr>
              <a:t> </a:t>
            </a:r>
            <a:endParaRPr b="0" lang="en-US" sz="1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5.Innovative approaches to figth food insecurity</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6.Advocacy: harmonization and alignment with development partner and donors</a:t>
            </a:r>
            <a:endParaRPr b="0" lang="en-US" sz="24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Geographical programmes (CSP)</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273C4802-04AE-45AA-9F38-0B4EC0E422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Rehabilitate Access to Food (2)?</a:t>
            </a:r>
            <a:endParaRPr b="1" lang="en-US" sz="2400" spc="-1" strike="noStrike">
              <a:solidFill>
                <a:srgbClr val="aa1f1d"/>
              </a:solidFill>
              <a:latin typeface="Verdana"/>
            </a:endParaRPr>
          </a:p>
        </p:txBody>
      </p:sp>
      <p:sp>
        <p:nvSpPr>
          <p:cNvPr id="1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Lack of food » cannot bring a satisfactory response to Food Insecurity and structural causes of poverty (MGD 1)</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In different countries the first social transfers/social protection programmes were introduced and tested through Food Security/Access to Food</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Capitalise fruitful FS experiences on a balanced strategy based on « Availibility » « Access » and « Use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9B2CC5EF-5CFF-4517-AAA5-45FD14564D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Outline of the seminar</a:t>
            </a:r>
            <a:endParaRPr b="1" lang="en-US" sz="2400" spc="-1" strike="noStrike">
              <a:solidFill>
                <a:srgbClr val="aa1f1d"/>
              </a:solidFill>
              <a:latin typeface="Verdana"/>
            </a:endParaRPr>
          </a:p>
        </p:txBody>
      </p:sp>
      <p:sp>
        <p:nvSpPr>
          <p:cNvPr id="12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50 participants from Delegations, Headquarter, International organisation, external participants (Local expert, Government, local agencie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20 Delegations represented from 4 continents (from fragile states to transition countrie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Methodology: Covering social transfers programmes from a simple system to sophisticated one (cash transfers to reform of social assistance)</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Reply to particular demand from the Delegation (exit strategy, phasing out, etc.)</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Toward social transfers programmes delivered through budgetary support (Sectoral Budgetary Support)</a:t>
            </a: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724E240B-0C07-4B2C-9A41-122A3C82B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Workshop</a:t>
            </a:r>
            <a:endParaRPr b="1" lang="en-US" sz="2400" spc="-1" strike="noStrike">
              <a:solidFill>
                <a:srgbClr val="aa1f1d"/>
              </a:solidFill>
              <a:latin typeface="Verdana"/>
            </a:endParaRPr>
          </a:p>
        </p:txBody>
      </p:sp>
      <p:sp>
        <p:nvSpPr>
          <p:cNvPr id="1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3 sessions devoted to the workshop with the preparation of  4 thematic groups, followed by the presentations (3 or 4 group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Example of themes to be discussed: cash transfers (conditional, unconditional), targeting, public work, child benefits, social transfers through budgetary support, social transfers and risk management/asset creation,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E91AD2B6-49DC-480B-8CE6-71BAE00AC37E}"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idco-sd-tech2</cp:lastModifiedBy>
  <cp:lastPrinted>2003-11-06T16:40:02Z</cp:lastPrinted>
  <dcterms:modified xsi:type="dcterms:W3CDTF">2008-04-14T15:53:14Z</dcterms:modified>
  <cp:revision>61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4366246</vt:r8>
  </property>
  <property fmtid="{D5CDD505-2E9C-101B-9397-08002B2CF9AE}" pid="3" name="_AuthorEmail">
    <vt:lpwstr>Simeon.MOUTAFTCHIEFF@ec.europa.eu</vt:lpwstr>
  </property>
  <property fmtid="{D5CDD505-2E9C-101B-9397-08002B2CF9AE}" pid="4" name="_AuthorEmailDisplayName">
    <vt:lpwstr>MOUTAFTCHIEFF Simeon (AIDCO)</vt:lpwstr>
  </property>
  <property fmtid="{D5CDD505-2E9C-101B-9397-08002B2CF9AE}" pid="5" name="_EmailSubject">
    <vt:lpwstr>AK PRESENTATION CCL workshop NAIROBI.ppt</vt:lpwstr>
  </property>
  <property fmtid="{D5CDD505-2E9C-101B-9397-08002B2CF9AE}" pid="6" name="_NewReviewCycle">
    <vt:lpwstr/>
  </property>
  <property fmtid="{D5CDD505-2E9C-101B-9397-08002B2CF9AE}" pid="7" name="_ReviewingToolsShownOnce">
    <vt:lpwstr/>
  </property>
</Properties>
</file>