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6199-66BF-4E0A-B9EF-6A1C3266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9CE3-F270-453D-B558-F07990D0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FA2-7E27-4095-B5CE-7F9F1B86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58BF-B648-425E-95C8-4CF9B69F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3DD2-9758-474B-8849-0255C69E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26A-68FE-47FE-B0D2-E93F18FE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55F8-37B4-4A61-9D42-5151D6EC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70D6-7524-42AC-9358-AB87138F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FC6F-CC59-4728-8226-BF285192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A59C-6AA8-41A8-A21C-5F0D4A7C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886-6739-4E98-8A4B-56276D9A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3AF-4AF2-45C0-B417-0A36E688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4E06-DD65-4AD7-838C-89AF99F27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Trans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 seminar on systems of social transfers to fight extreme pov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Diagram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ng 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42960" y="635796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91CC-5B76-45F2-AD01-B878453A1C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 – rising food p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2803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 April 08 – IFP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implement safety-net programmes like food or income transfer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9 April 08 – World Ba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improve access to safety net programs, such as cash transfers and risk management instruments to protect the poo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9 April 08 – Gordon Br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coordinated response … to address soaring food pric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0 April 08 – Robert Zoellick, WB-IMF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expand and improve access to safety net programs such as cash transfer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4 April 08 – Michel Barn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EU to lead a global initiative on food security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5 April 08 – EC seminar on systems of social transfer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39"/>
          <p:cNvSpPr/>
          <p:nvPr/>
        </p:nvSpPr>
        <p:spPr>
          <a:xfrm flipV="1">
            <a:off x="6224040" y="2392200"/>
            <a:ext cx="1414440" cy="1360800"/>
          </a:xfrm>
          <a:prstGeom prst="line">
            <a:avLst/>
          </a:prstGeom>
          <a:ln cap="rnd" w="63360">
            <a:solidFill>
              <a:srgbClr val="c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62"/>
          <p:cNvSpPr/>
          <p:nvPr/>
        </p:nvSpPr>
        <p:spPr>
          <a:xfrm flipV="1">
            <a:off x="3268080" y="2749320"/>
            <a:ext cx="1214280" cy="857160"/>
          </a:xfrm>
          <a:prstGeom prst="line">
            <a:avLst/>
          </a:prstGeom>
          <a:ln cap="rnd" w="63360">
            <a:solidFill>
              <a:srgbClr val="c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50"/>
          <p:cNvSpPr/>
          <p:nvPr/>
        </p:nvSpPr>
        <p:spPr>
          <a:xfrm flipV="1">
            <a:off x="994680" y="2423880"/>
            <a:ext cx="1500120" cy="1214280"/>
          </a:xfrm>
          <a:prstGeom prst="line">
            <a:avLst/>
          </a:prstGeom>
          <a:ln cap="rnd" w="63360">
            <a:solidFill>
              <a:srgbClr val="c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Oval 18"/>
          <p:cNvGrpSpPr/>
          <p:nvPr/>
        </p:nvGrpSpPr>
        <p:grpSpPr>
          <a:xfrm>
            <a:off x="2333520" y="3573360"/>
            <a:ext cx="1901880" cy="1060560"/>
            <a:chOff x="2333520" y="3573360"/>
            <a:chExt cx="1901880" cy="1060560"/>
          </a:xfrm>
        </p:grpSpPr>
        <p:pic>
          <p:nvPicPr>
            <p:cNvPr id="50" name="Oval 18" descr=""/>
            <p:cNvPicPr/>
            <p:nvPr/>
          </p:nvPicPr>
          <p:blipFill>
            <a:blip r:embed="rId1"/>
            <a:stretch/>
          </p:blipFill>
          <p:spPr>
            <a:xfrm>
              <a:off x="2333520" y="3573360"/>
              <a:ext cx="190188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624040" y="3753000"/>
              <a:ext cx="13147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Trebuchet MS"/>
                </a:rPr>
                <a:t>Social Prot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Oval 19"/>
          <p:cNvGrpSpPr/>
          <p:nvPr/>
        </p:nvGrpSpPr>
        <p:grpSpPr>
          <a:xfrm>
            <a:off x="7107120" y="3573360"/>
            <a:ext cx="1913040" cy="1060560"/>
            <a:chOff x="7107120" y="3573360"/>
            <a:chExt cx="1913040" cy="1060560"/>
          </a:xfrm>
        </p:grpSpPr>
        <p:pic>
          <p:nvPicPr>
            <p:cNvPr id="53" name="Oval 19" descr=""/>
            <p:cNvPicPr/>
            <p:nvPr/>
          </p:nvPicPr>
          <p:blipFill>
            <a:blip r:embed="rId2"/>
            <a:stretch/>
          </p:blipFill>
          <p:spPr>
            <a:xfrm>
              <a:off x="7107120" y="3573360"/>
              <a:ext cx="191304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410600" y="3753000"/>
              <a:ext cx="131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Trebuchet MS"/>
                </a:rPr>
                <a:t>Social Transf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Oval 20"/>
          <p:cNvGrpSpPr/>
          <p:nvPr/>
        </p:nvGrpSpPr>
        <p:grpSpPr>
          <a:xfrm>
            <a:off x="4606920" y="3573360"/>
            <a:ext cx="1914480" cy="1060560"/>
            <a:chOff x="4606920" y="3573360"/>
            <a:chExt cx="1914480" cy="1060560"/>
          </a:xfrm>
        </p:grpSpPr>
        <p:pic>
          <p:nvPicPr>
            <p:cNvPr id="56" name="Oval 20" descr=""/>
            <p:cNvPicPr/>
            <p:nvPr/>
          </p:nvPicPr>
          <p:blipFill>
            <a:blip r:embed="rId3"/>
            <a:stretch/>
          </p:blipFill>
          <p:spPr>
            <a:xfrm>
              <a:off x="4606920" y="3573360"/>
              <a:ext cx="191448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910040" y="3753000"/>
              <a:ext cx="13147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Trebuchet MS"/>
                </a:rPr>
                <a:t>Social Assist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21"/>
          <p:cNvSpPr/>
          <p:nvPr/>
        </p:nvSpPr>
        <p:spPr>
          <a:xfrm>
            <a:off x="4567320" y="4964040"/>
            <a:ext cx="1857240" cy="1000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Trebuchet MS"/>
              </a:rPr>
              <a:t>Social In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Oval 22"/>
          <p:cNvGrpSpPr/>
          <p:nvPr/>
        </p:nvGrpSpPr>
        <p:grpSpPr>
          <a:xfrm>
            <a:off x="108000" y="3573360"/>
            <a:ext cx="1768320" cy="1060560"/>
            <a:chOff x="108000" y="3573360"/>
            <a:chExt cx="1768320" cy="1060560"/>
          </a:xfrm>
        </p:grpSpPr>
        <p:pic>
          <p:nvPicPr>
            <p:cNvPr id="60" name="Oval 22" descr=""/>
            <p:cNvPicPr/>
            <p:nvPr/>
          </p:nvPicPr>
          <p:blipFill>
            <a:blip r:embed="rId4"/>
            <a:stretch/>
          </p:blipFill>
          <p:spPr>
            <a:xfrm>
              <a:off x="108000" y="3573360"/>
              <a:ext cx="176832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88800" y="3753000"/>
              <a:ext cx="12132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Trebuchet MS"/>
                </a:rPr>
                <a:t>Social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Oval 23"/>
          <p:cNvSpPr/>
          <p:nvPr/>
        </p:nvSpPr>
        <p:spPr>
          <a:xfrm>
            <a:off x="1566720" y="1392120"/>
            <a:ext cx="1857600" cy="1000080"/>
          </a:xfrm>
          <a:prstGeom prst="ellipse">
            <a:avLst/>
          </a:prstGeom>
          <a:noFill/>
          <a:ln w="63360">
            <a:solidFill>
              <a:srgbClr val="00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Trebuchet MS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7"/>
          <p:cNvSpPr/>
          <p:nvPr/>
        </p:nvSpPr>
        <p:spPr>
          <a:xfrm>
            <a:off x="4495680" y="2249640"/>
            <a:ext cx="2000520" cy="1000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Trebuchet MS"/>
              </a:rPr>
              <a:t>Social Legi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4"/>
          <p:cNvSpPr/>
          <p:nvPr/>
        </p:nvSpPr>
        <p:spPr>
          <a:xfrm>
            <a:off x="1566720" y="5749920"/>
            <a:ext cx="1857600" cy="1000080"/>
          </a:xfrm>
          <a:prstGeom prst="ellipse">
            <a:avLst/>
          </a:prstGeom>
          <a:noFill/>
          <a:ln w="63360">
            <a:solidFill>
              <a:srgbClr val="00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Trebuchet M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Oval 36"/>
          <p:cNvGrpSpPr/>
          <p:nvPr/>
        </p:nvGrpSpPr>
        <p:grpSpPr>
          <a:xfrm>
            <a:off x="6680160" y="1360440"/>
            <a:ext cx="1901880" cy="1054080"/>
            <a:chOff x="6680160" y="1360440"/>
            <a:chExt cx="1901880" cy="1054080"/>
          </a:xfrm>
        </p:grpSpPr>
        <p:pic>
          <p:nvPicPr>
            <p:cNvPr id="66" name="Oval 36" descr=""/>
            <p:cNvPicPr/>
            <p:nvPr/>
          </p:nvPicPr>
          <p:blipFill>
            <a:blip r:embed="rId5"/>
            <a:stretch/>
          </p:blipFill>
          <p:spPr>
            <a:xfrm>
              <a:off x="6680160" y="1360440"/>
              <a:ext cx="1901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981840" y="1538280"/>
              <a:ext cx="13143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Trebuchet MS"/>
                </a:rPr>
                <a:t>Free Basic 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Oval 37"/>
          <p:cNvGrpSpPr/>
          <p:nvPr/>
        </p:nvGrpSpPr>
        <p:grpSpPr>
          <a:xfrm>
            <a:off x="6680160" y="5719680"/>
            <a:ext cx="1914480" cy="1054080"/>
            <a:chOff x="6680160" y="5719680"/>
            <a:chExt cx="1914480" cy="1054080"/>
          </a:xfrm>
        </p:grpSpPr>
        <p:pic>
          <p:nvPicPr>
            <p:cNvPr id="69" name="Oval 37" descr=""/>
            <p:cNvPicPr/>
            <p:nvPr/>
          </p:nvPicPr>
          <p:blipFill>
            <a:blip r:embed="rId6"/>
            <a:stretch/>
          </p:blipFill>
          <p:spPr>
            <a:xfrm>
              <a:off x="6680160" y="5719680"/>
              <a:ext cx="1914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981840" y="5896080"/>
              <a:ext cx="131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Trebuchet MS"/>
                </a:rPr>
                <a:t>Universal Edu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Straight Connector 44"/>
          <p:cNvSpPr/>
          <p:nvPr/>
        </p:nvSpPr>
        <p:spPr>
          <a:xfrm>
            <a:off x="6210360" y="4464000"/>
            <a:ext cx="1428840" cy="1285920"/>
          </a:xfrm>
          <a:prstGeom prst="line">
            <a:avLst/>
          </a:prstGeom>
          <a:ln cap="rnd" w="63360">
            <a:solidFill>
              <a:srgbClr val="c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48"/>
          <p:cNvSpPr/>
          <p:nvPr/>
        </p:nvSpPr>
        <p:spPr>
          <a:xfrm>
            <a:off x="1066680" y="4575240"/>
            <a:ext cx="1428840" cy="1143000"/>
          </a:xfrm>
          <a:prstGeom prst="line">
            <a:avLst/>
          </a:prstGeom>
          <a:ln cap="rnd" w="63360">
            <a:solidFill>
              <a:srgbClr val="c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56"/>
          <p:cNvSpPr/>
          <p:nvPr/>
        </p:nvSpPr>
        <p:spPr>
          <a:xfrm>
            <a:off x="3456000" y="1892160"/>
            <a:ext cx="3286080" cy="1800"/>
          </a:xfrm>
          <a:prstGeom prst="line">
            <a:avLst/>
          </a:prstGeom>
          <a:ln w="63360">
            <a:solidFill>
              <a:srgbClr val="c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58"/>
          <p:cNvSpPr/>
          <p:nvPr/>
        </p:nvSpPr>
        <p:spPr>
          <a:xfrm>
            <a:off x="3456000" y="6249960"/>
            <a:ext cx="3286080" cy="1440"/>
          </a:xfrm>
          <a:prstGeom prst="line">
            <a:avLst/>
          </a:prstGeom>
          <a:ln cap="rnd" w="63360">
            <a:solidFill>
              <a:srgbClr val="c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60"/>
          <p:cNvSpPr/>
          <p:nvPr/>
        </p:nvSpPr>
        <p:spPr>
          <a:xfrm>
            <a:off x="6496200" y="4106880"/>
            <a:ext cx="571320" cy="1440"/>
          </a:xfrm>
          <a:prstGeom prst="line">
            <a:avLst/>
          </a:prstGeom>
          <a:ln cap="rnd" w="63360">
            <a:solidFill>
              <a:srgbClr val="c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65"/>
          <p:cNvSpPr/>
          <p:nvPr/>
        </p:nvSpPr>
        <p:spPr>
          <a:xfrm>
            <a:off x="3268800" y="4606920"/>
            <a:ext cx="1285560" cy="857160"/>
          </a:xfrm>
          <a:prstGeom prst="line">
            <a:avLst/>
          </a:prstGeom>
          <a:ln cap="rnd" w="63360">
            <a:solidFill>
              <a:srgbClr val="c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68"/>
          <p:cNvCxnSpPr/>
          <p:nvPr/>
        </p:nvCxnSpPr>
        <p:spPr>
          <a:xfrm>
            <a:off x="4210200" y="4106880"/>
            <a:ext cx="429120" cy="2160"/>
          </a:xfrm>
          <a:prstGeom prst="straightConnector1">
            <a:avLst/>
          </a:prstGeom>
          <a:ln w="6336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78" name="Straight Arrow Connector 71"/>
          <p:cNvCxnSpPr/>
          <p:nvPr/>
        </p:nvCxnSpPr>
        <p:spPr>
          <a:xfrm>
            <a:off x="1852200" y="4106880"/>
            <a:ext cx="500760" cy="2160"/>
          </a:xfrm>
          <a:prstGeom prst="straightConnector1">
            <a:avLst/>
          </a:prstGeom>
          <a:ln w="63360">
            <a:solidFill>
              <a:srgbClr val="c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by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1003320"/>
            <a:ext cx="820908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and predictable non-contributory grants that aim to directly increase or protect the incomes of those living in poverty or at risk of falling into pov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-coord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budget, 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able, regular, guarant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-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: safety 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: soci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big, start small, scale 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1640" y="549756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19680" y="340668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1640" y="35481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81320" y="1476360"/>
            <a:ext cx="26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r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72040" y="1174680"/>
            <a:ext cx="25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489560" y="2530080"/>
            <a:ext cx="0" cy="64764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2492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Spring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974960" y="1626840"/>
            <a:ext cx="0" cy="865080"/>
          </a:xfrm>
          <a:prstGeom prst="line">
            <a:avLst/>
          </a:prstGeom>
          <a:ln w="5724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4960" y="1654200"/>
            <a:ext cx="720720" cy="0"/>
          </a:xfrm>
          <a:prstGeom prst="line">
            <a:avLst/>
          </a:prstGeom>
          <a:ln w="5724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4960" y="2990880"/>
            <a:ext cx="0" cy="720720"/>
          </a:xfrm>
          <a:prstGeom prst="line">
            <a:avLst/>
          </a:prstGeom>
          <a:ln w="5724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4960" y="3711600"/>
            <a:ext cx="647640" cy="0"/>
          </a:xfrm>
          <a:prstGeom prst="line">
            <a:avLst/>
          </a:prstGeom>
          <a:ln w="5724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84240" y="47023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Safety 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974960" y="4059000"/>
            <a:ext cx="0" cy="718920"/>
          </a:xfrm>
          <a:prstGeom prst="line">
            <a:avLst/>
          </a:prstGeom>
          <a:ln w="572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74960" y="4016520"/>
            <a:ext cx="647640" cy="0"/>
          </a:xfrm>
          <a:prstGeom prst="line">
            <a:avLst/>
          </a:prstGeom>
          <a:ln w="572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4960" y="5202360"/>
            <a:ext cx="0" cy="718920"/>
          </a:xfrm>
          <a:prstGeom prst="line">
            <a:avLst/>
          </a:prstGeom>
          <a:ln w="572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74960" y="5905440"/>
            <a:ext cx="647640" cy="15840"/>
          </a:xfrm>
          <a:prstGeom prst="line">
            <a:avLst/>
          </a:prstGeom>
          <a:ln w="572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95520" y="1120680"/>
            <a:ext cx="2160720" cy="129564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95520" y="5154480"/>
            <a:ext cx="2160720" cy="122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2520" y="3178080"/>
            <a:ext cx="2160720" cy="129564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489560" y="4511520"/>
            <a:ext cx="0" cy="64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6000" y="1052640"/>
            <a:ext cx="3186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1001"/>
              </a:spcBef>
              <a:spcAft>
                <a:spcPts val="1500"/>
              </a:spcAft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8000"/>
                </a:solidFill>
                <a:uFillTx/>
                <a:latin typeface="Arial"/>
              </a:rPr>
              <a:t>Livelihood promotion</a:t>
            </a:r>
            <a:br>
              <a:rPr sz="1600"/>
            </a:b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[“Risk reduction”] </a:t>
            </a:r>
            <a:br>
              <a:rPr sz="1600"/>
            </a:br>
            <a:r>
              <a:rPr b="0" i="1" lang="en-US" sz="1600" spc="-1" strike="noStrike">
                <a:solidFill>
                  <a:srgbClr val="008000"/>
                </a:solidFill>
                <a:latin typeface="Arial"/>
              </a:rPr>
              <a:t>Micro-credit</a:t>
            </a:r>
            <a:br>
              <a:rPr sz="1600"/>
            </a:br>
            <a:r>
              <a:rPr b="0" i="1" lang="en-US" sz="1600" spc="-1" strike="noStrike">
                <a:solidFill>
                  <a:srgbClr val="008000"/>
                </a:solidFill>
                <a:latin typeface="Arial"/>
              </a:rPr>
              <a:t>Public works</a:t>
            </a:r>
            <a:br>
              <a:rPr sz="1600"/>
            </a:br>
            <a:r>
              <a:rPr b="0" i="1" lang="en-US" sz="1600" spc="-1" strike="noStrike">
                <a:solidFill>
                  <a:srgbClr val="008000"/>
                </a:solidFill>
                <a:latin typeface="Arial"/>
              </a:rPr>
              <a:t>School fee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1001"/>
              </a:spcBef>
              <a:spcAft>
                <a:spcPts val="18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9900"/>
                </a:solidFill>
                <a:uFillTx/>
                <a:latin typeface="Arial"/>
              </a:rPr>
              <a:t>Social insurance</a:t>
            </a:r>
            <a:br>
              <a:rPr sz="1600"/>
            </a:b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[“Risk mitigation”] </a:t>
            </a:r>
            <a:br>
              <a:rPr sz="1600"/>
            </a:br>
            <a:r>
              <a:rPr b="0" i="1" lang="en-US" sz="1600" spc="-1" strike="noStrike">
                <a:solidFill>
                  <a:srgbClr val="ff9900"/>
                </a:solidFill>
                <a:latin typeface="Arial"/>
              </a:rPr>
              <a:t>Unemployment benefit</a:t>
            </a:r>
            <a:br>
              <a:rPr sz="1600"/>
            </a:br>
            <a:r>
              <a:rPr b="0" i="1" lang="en-US" sz="1600" spc="-1" strike="noStrike">
                <a:solidFill>
                  <a:srgbClr val="ff9900"/>
                </a:solidFill>
                <a:latin typeface="Arial"/>
              </a:rPr>
              <a:t>Weather insurance</a:t>
            </a:r>
            <a:br>
              <a:rPr sz="1600"/>
            </a:br>
            <a:r>
              <a:rPr b="0" i="1" lang="en-US" sz="1600" spc="-1" strike="noStrike">
                <a:solidFill>
                  <a:srgbClr val="ff9900"/>
                </a:solidFill>
                <a:latin typeface="Arial"/>
              </a:rPr>
              <a:t>Burial socie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1001"/>
              </a:spcBef>
              <a:spcAft>
                <a:spcPts val="18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Social assistance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[“Risk coping”] 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Emergency food aid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Support to PLWHA 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Old age g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ous spi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85748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ctoral link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2010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3:58:16Z</dcterms:created>
  <dc:creator>Nicholas Freeland</dc:creator>
  <dc:description/>
  <dc:language>en-US</dc:language>
  <cp:lastModifiedBy>Nicholas Freeland</cp:lastModifiedBy>
  <dcterms:modified xsi:type="dcterms:W3CDTF">2008-04-18T08:06:05Z</dcterms:modified>
  <cp:revision>18</cp:revision>
  <dc:subject/>
  <dc:title>Social Transfers</dc:title>
</cp:coreProperties>
</file>