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4249-DE2C-42BA-A461-B5A10FA2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9307-EB76-4B7F-A2AD-8017A502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104F-255D-4DE1-A86C-1F7053B3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7AFE-ED55-42DB-BD8D-CC0260C4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C330-7920-4A23-B49B-98CE9495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DAC1-0782-4226-8B87-8A38611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E15D-7AAB-48DA-A2ED-3289D87F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A507-F540-4180-A9C2-6E650C17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B10F-C865-454C-AE30-9AD58774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1F0E-5887-42D4-94F1-9959F028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61E2-D832-49D7-A9F6-F35C3A6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333B-0A7E-4FB4-9E63-D6A8094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8E2F-A701-4B67-B2A2-F20733E4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B8F4-1575-4C81-990A-EA344156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30D4-E185-4D2D-BFC4-51DF05B9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4B95-282E-46B6-B1B1-02DB2091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DEFF-2195-476B-BD9F-16CC17A5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C5A3-5271-4808-ADF2-FD3F316B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AD7C-6F23-4837-8CBF-930197FE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F90D-786D-439F-BC22-7EA58C38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B6BB-0EBB-4D2E-B606-4BC9DBE2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E8F5-F11A-4FEF-9F26-8B2346CB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A87F-AAED-457B-8092-ACE95E0A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8508-2B27-4124-ABA1-1264824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5D3C-2E77-46D5-85A8-01BEDAE2571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3778-8C9E-46AB-A411-1BEA4542C7A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angladesh key d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pulation 153.3 m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nd area 144.000 sqk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DP USD 60 b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DP/capita USD 42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DP PPP/captia USD 2,05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DI rank 140 out of 17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14920" cy="50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fety net program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RS lists 25 safety net program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employment generation for poor in slack seasons (FFW, CFW, RIM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employment generation for poor throughout the year (RM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continuous or temporary food transfers (+ empowerment )(VGF, VG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other cash transfers such as educational stipends, support for the aged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ublic Food Distribution System (PFDS)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average 1 mio MT food given out annually through targeted food distribution programmes such as VGD, VGF, FFW, Test Relief and ot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the lean season or in case of natural disaster, PFDS provides monetized support through form of subsidized food (Open Market Sale (OMS)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th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assistance programmes run by NG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-credit programmes by NGOs and MF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ittances from overseas workers (total estimated for FY 2007/2008  USD 7 bi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jor problems of SSN programmes implemented by GoB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GD lacks an integrated national policy on safety n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coordination due to multiplicity of ministries/agencies invol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overhead and administrative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 efficienc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transparency and inadequate targ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level of leakage and misappropr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sustainability of achiev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essments of SSNs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(WB 2006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1% of beneficiaries prefer cash over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act studies present mixed picture (partly improved income and food intake levels for VG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idence of long-term dev. impact for RMP benefici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rtant effect on empowerment of women at household and society leve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leakage in PFDS (30-65% VGF, 26% in FFW, 13.6% VGD (IFPRI) against almost 0% in RM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kages increase with the number of intermediaries in the transfer proces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C support to safety nets and social assistance programm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ADEP - (VGD) food for training, cash for work, IGAs (150,000; EUR 30 mio, 150,000 M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RRDP - functional education, cash for work, savings and credit, training, IGAs (40,000; EUR 29.1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MP -  (RMP) cash for work, savings, training, IGAs (48,000; EUR  17.5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SVGD - (VGD) cash and food for training, savings, credit, IGAs (256,000; EUR 35.6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FPR - cash for training, savings, asset transfer for IGAs, coaching (100,000; EUR 28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OPA - cash for work, savings, training, IGAs (22,000 + seasonal employment; EUR 20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GDUP - (VGD) cash for training, savings, asset transfer for IGAs (80,000; EUR 20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GSP - cash for work (seasonal employment; EUR 9.6 mi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ercentage Increase in Consumption (food &amp; nonfood)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Relative to matched control group)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IFPRI 2007)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ercentage Increase in Calorie Intake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Relative to matched control group)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Percentage Increase in Amount of Savings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Relative to matched control group) 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racteristics of pover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5% of the population lives in rural BG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0% of the poor live in rural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5% of the extreme poor live in rural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3% of rural households are land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% own less than 1 ac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0% farms &lt; 1h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0% of the labour force work in agricultu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mio households headed by women 95% of whom are extreme p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(main target group for EC social assistance support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Cost of Transferring 1.00 Taka to Beneficiaries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Costs of commodities; internal transportation, storage, and handling; and transit loss/leakage of food; VAT on cash transfer) 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46280" y="1600200"/>
          <a:ext cx="585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00200"/>
                    <a:ext cx="585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FPR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BRAC 2007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P (20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. food int./d 536 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2,082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food int./d 793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Veg. 205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Anim. 37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Protein 45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Cereal 513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SUP (20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. food int./d 470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1,796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food int./d 657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Veg. 157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Anim. 23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Protein 39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ult Cereal 448 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ome lessons learnt from the Commission’s social assistance interventions in BGD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ltra poor need specially designed support to overcome poverty/food in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achieve sustainable impact funding level/duration of support need to be adequate (adequate level of savings and follow-up support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ight targeting criteria and proces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dequate number of partner NGOs with proven capac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ight IGA selection and train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afety ladder rather than safety ne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vision of packaged and processed food can reduce leakag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nk transfer of small amounts of cash to individual beneficiaries might be too costl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stainability likely to improve if beneficiaries are linked up with MFIs for expanding and diversifying IG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 outlook and challen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15 est. population 180 m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35 est. population 250 mi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15 est. food import 5 mio M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35 ???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production in BGD is constrained by many facto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ing world market food pr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vulnerability to natural disasters and the effects of climate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erty in Bangladesh</a:t>
            </a: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(HIES 2005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Year 2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8.9% below upp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4.3% low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4.3% less than 2.122 kc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.0% less than 1.805 kc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Year 20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.0% below upp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5.1% below lower poverty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.4 % less than 2.122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.5% less than 1.805 k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73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GD Rice 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62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287440"/>
            <a:ext cx="82296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890280" y="1811520"/>
            <a:ext cx="7501320" cy="4301280"/>
            <a:chOff x="890280" y="1811520"/>
            <a:chExt cx="7501320" cy="4301280"/>
          </a:xfrm>
        </p:grpSpPr>
        <p:sp>
          <p:nvSpPr>
            <p:cNvPr id="113" name=""/>
            <p:cNvSpPr/>
            <p:nvPr/>
          </p:nvSpPr>
          <p:spPr>
            <a:xfrm>
              <a:off x="890280" y="1811520"/>
              <a:ext cx="7318080" cy="4301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31240" y="2103840"/>
              <a:ext cx="4300200" cy="33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1240" y="2103840"/>
              <a:ext cx="4300200" cy="3376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62880" y="4471920"/>
              <a:ext cx="568080" cy="100836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2080" y="4764600"/>
              <a:ext cx="578880" cy="71604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33520" y="4859640"/>
              <a:ext cx="567000" cy="62064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2880" y="2467080"/>
              <a:ext cx="568080" cy="20048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92080" y="2854440"/>
              <a:ext cx="578880" cy="190980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33520" y="2889000"/>
              <a:ext cx="567000" cy="19702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31240" y="2103840"/>
              <a:ext cx="1080" cy="337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8240" y="548064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68240" y="499932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8240" y="451980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8240" y="403848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8240" y="354600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8240" y="3064680"/>
              <a:ext cx="62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8240" y="2584800"/>
              <a:ext cx="6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8240" y="2103840"/>
              <a:ext cx="6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31240" y="5480640"/>
              <a:ext cx="4300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73124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6188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60260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031800" y="5480280"/>
              <a:ext cx="1080" cy="7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16040" y="5047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6120" y="50814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7800" y="50583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46920" y="36986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8000" y="36986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800" y="36986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.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04440" y="536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04440" y="488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93560" y="44013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93560" y="3921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93560" y="3429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93560" y="2948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3560" y="2467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93560" y="1987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13200" y="5679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4/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53560" y="5679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5/0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83480" y="5679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6/0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386640" y="3462840"/>
              <a:ext cx="159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kh metric t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7360" y="3486960"/>
              <a:ext cx="2019240" cy="622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10720" y="3593520"/>
              <a:ext cx="126000" cy="1396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50040" y="3533040"/>
              <a:ext cx="1320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impor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720" y="3897360"/>
              <a:ext cx="126000" cy="140760"/>
            </a:xfrm>
            <a:prstGeom prst="rect">
              <a:avLst/>
            </a:prstGeom>
            <a:solidFill>
              <a:srgbClr val="cc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12240" y="3839760"/>
              <a:ext cx="207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estic produ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0280" y="1811520"/>
              <a:ext cx="7318080" cy="430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8316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8316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272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12720" y="2854440"/>
              <a:ext cx="799200" cy="807840"/>
            </a:xfrm>
            <a:custGeom>
              <a:avLst/>
              <a:gdLst/>
              <a:ahLst/>
              <a:rect l="l" t="t" r="r" b="b"/>
              <a:pathLst>
                <a:path w="671" h="561">
                  <a:moveTo>
                    <a:pt x="503" y="0"/>
                  </a:moveTo>
                  <a:lnTo>
                    <a:pt x="503" y="138"/>
                  </a:lnTo>
                  <a:lnTo>
                    <a:pt x="0" y="138"/>
                  </a:lnTo>
                  <a:lnTo>
                    <a:pt x="0" y="415"/>
                  </a:lnTo>
                  <a:lnTo>
                    <a:pt x="503" y="415"/>
                  </a:lnTo>
                  <a:lnTo>
                    <a:pt x="503" y="561"/>
                  </a:lnTo>
                  <a:lnTo>
                    <a:pt x="671" y="277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8316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316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1272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12720" y="4671000"/>
              <a:ext cx="799200" cy="820800"/>
            </a:xfrm>
            <a:custGeom>
              <a:avLst/>
              <a:gdLst/>
              <a:ahLst/>
              <a:rect l="l" t="t" r="r" b="b"/>
              <a:pathLst>
                <a:path w="671" h="570">
                  <a:moveTo>
                    <a:pt x="503" y="0"/>
                  </a:moveTo>
                  <a:lnTo>
                    <a:pt x="503" y="139"/>
                  </a:lnTo>
                  <a:lnTo>
                    <a:pt x="0" y="139"/>
                  </a:lnTo>
                  <a:lnTo>
                    <a:pt x="0" y="424"/>
                  </a:lnTo>
                  <a:lnTo>
                    <a:pt x="503" y="424"/>
                  </a:lnTo>
                  <a:lnTo>
                    <a:pt x="503" y="570"/>
                  </a:lnTo>
                  <a:lnTo>
                    <a:pt x="671" y="285"/>
                  </a:lnTo>
                  <a:lnTo>
                    <a:pt x="503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0560" y="3053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0776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2000" y="3053160"/>
              <a:ext cx="58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04320" y="491724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29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55120" y="491724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lnutrition in Banglades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2002 FAO estimated that 44 mio Bangladeshis were undernourished (less than 1.780 kca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4% of adult females were underweigh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5.9 % children under 5Y moderately underweigh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.3% children under 5Y severely underweigh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514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2:35:02Z</dcterms:created>
  <dc:creator>gautskl</dc:creator>
  <dc:description/>
  <dc:language>en-US</dc:language>
  <cp:lastModifiedBy>Administrator</cp:lastModifiedBy>
  <dcterms:modified xsi:type="dcterms:W3CDTF">2008-04-15T11:53:21Z</dcterms:modified>
  <cp:revision>18</cp:revision>
  <dc:subject/>
  <dc:title>Bangladesh key data</dc:title>
</cp:coreProperties>
</file>