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01D7-5B67-4A57-9463-D8EC99D8D4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26AC-008E-430D-8F6F-9FD68032F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3CE-3452-4022-AFD5-3A4A9A38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7B5-7FED-4F5A-9EFC-4E34B11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A85-2C1A-426C-83EA-20C2C064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875-A135-453B-8808-177B4F14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D06-97CD-4376-9F04-EFFC75D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AB5-D65A-4075-AE96-7FFF6736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9C1-88AF-4D95-8386-F8AC4A2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E1E-42F0-4141-ADF7-E58FB1F9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0B5C-BB0C-4CD4-B557-10665F2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D0A-1F4A-44BB-9338-67840DA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1CB6-650A-4119-BC58-DB6C24C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850-20DC-4918-AEA4-68B5A26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1EF-7502-43FA-898C-A71D54A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5DB-D1B7-472E-8CDA-C0C918B6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C516-5A84-4419-8F7E-5723E4E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66CA-BB40-4CBA-911D-DCB2BC9F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C510-1949-48C0-A914-2823A1C5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CAA-FD74-4A19-8A13-87B12F62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C78-B976-4608-9FD6-5148EDAD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D9F-EBDF-4C33-B1FB-9184CF1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8DB-8AD7-4537-B07D-C0E7A10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555-9EAD-4B12-8FE9-4000FD1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114-EDD7-4819-AD7E-E5B47CF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0AA-4E54-4C91-B5B2-9FBDE66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237-882D-40BA-9DB9-2281EE434FC9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1E67-A6AB-4DBE-A875-DFA619A35A5E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8.xml"/><Relationship Id="rId3" Type="http://schemas.openxmlformats.org/officeDocument/2006/relationships/slide" Target="slide15.xml"/><Relationship Id="rId4" Type="http://schemas.openxmlformats.org/officeDocument/2006/relationships/slide" Target="slide29.xml"/><Relationship Id="rId5" Type="http://schemas.openxmlformats.org/officeDocument/2006/relationships/slide" Target="slide16.xml"/><Relationship Id="rId6" Type="http://schemas.openxmlformats.org/officeDocument/2006/relationships/slide" Target="slide30.xml"/><Relationship Id="rId7" Type="http://schemas.openxmlformats.org/officeDocument/2006/relationships/slide" Target="slide17.xml"/><Relationship Id="rId8" Type="http://schemas.openxmlformats.org/officeDocument/2006/relationships/slide" Target="slide32.xml"/><Relationship Id="rId9" Type="http://schemas.openxmlformats.org/officeDocument/2006/relationships/slide" Target="slide19.xml"/><Relationship Id="rId10" Type="http://schemas.openxmlformats.org/officeDocument/2006/relationships/slide" Target="slide31.xml"/><Relationship Id="rId11" Type="http://schemas.openxmlformats.org/officeDocument/2006/relationships/slide" Target="slide18.xml"/><Relationship Id="rId12" Type="http://schemas.openxmlformats.org/officeDocument/2006/relationships/slide" Target="slide33.xml"/><Relationship Id="rId13" Type="http://schemas.openxmlformats.org/officeDocument/2006/relationships/slide" Target="slide20.xml"/><Relationship Id="rId14" Type="http://schemas.openxmlformats.org/officeDocument/2006/relationships/slide" Target="slide34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5960" y="1552680"/>
            <a:ext cx="62640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Century Gothic"/>
              </a:rPr>
              <a:t>NOURISHING PRODUCTIVE BOND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sented by Luis Alberto Tercero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icar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334200" cy="474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334200" cy="47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77964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403280" y="1682640"/>
            <a:ext cx="6337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76360" y="1666800"/>
            <a:ext cx="6551640" cy="491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16000" y="1724040"/>
            <a:ext cx="6985080" cy="46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Text Box 5"/>
          <p:cNvSpPr/>
          <p:nvPr/>
        </p:nvSpPr>
        <p:spPr>
          <a:xfrm>
            <a:off x="1258920" y="5158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Kind of goods we transf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900000" y="2133720"/>
            <a:ext cx="7920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puts for the production of animal prote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animals: w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+  food: concentrate for pork, mineral salts and multi-nutritional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8728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719280" y="1946160"/>
            <a:ext cx="8100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NI" sz="3000" spc="-1" strike="noStrike">
                <a:solidFill>
                  <a:srgbClr val="000000"/>
                </a:solidFill>
                <a:latin typeface="Century Gothic"/>
              </a:rPr>
              <a:t>Vegetative material for animal fe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asture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Taiwán,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sugar cane,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 Toledo,     sorgum, Briz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Leguminous seeds: </a:t>
            </a:r>
            <a:r>
              <a:rPr b="1" i="1" lang="es-NI" sz="2400" spc="-1" strike="noStrike">
                <a:solidFill>
                  <a:srgbClr val="000000"/>
                </a:solidFill>
                <a:latin typeface="Century Gothic"/>
              </a:rPr>
              <a:t>Caupí, madero negro, canavalia, gandul, cratilia, terciopelo, leuca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NI" sz="2400" spc="-1" strike="noStrike">
                <a:solidFill>
                  <a:srgbClr val="000000"/>
                </a:solidFill>
                <a:latin typeface="Century Gothic"/>
              </a:rPr>
              <a:t>+  Protein reserves seeds: marango, nacedero, morera guásimo, tigu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620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64120" y="522360"/>
            <a:ext cx="8631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6416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family production and consumption of micro-nutrients y cal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Fruit plants: lemon, tangerine, mango,        avocado “A”, avocado “B”, nísp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Vegetable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ác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mpkin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pi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Roots and tubers: cassava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lan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qu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Basic grains: Creole bean, Creole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Energetic: beehiv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50920" y="515880"/>
            <a:ext cx="864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is the nourishing productive bond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4360" y="1773360"/>
            <a:ext cx="8326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rategy to fight poverty, based on the capitalization of rural impoverished families,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duction goods of animal protein (milk, meat    and eggs) and micronutrients (fruits and vegetab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support of agro-ecological  productiv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promotion and training for assoc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ender equity approac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23640" y="5158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7080" y="1844640"/>
            <a:ext cx="77756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for the environmental pro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Forestry and energetic plants: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uanacas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Genízaro, Pochote,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ak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, Madro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iodigestor: Taiw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Residual wate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mprove kitchen: ecological  st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33360" y="546120"/>
            <a:ext cx="85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55640" y="1905120"/>
            <a:ext cx="799308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iscellaneous go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inputs for pigsty and henhouse: barbed wire, clamps, henhouse netting,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alla ciclón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 cement, zinc, n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ools: shovel, rake, hoe, mach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Silo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fo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Black pl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Ensilaje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ba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50920" y="1998720"/>
            <a:ext cx="73818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very item is given in predetermined am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combination of goods is given according to the agro-climatic conditions of the area or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otal amount of goods should not exceed US $ 1,033 dolar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89280" y="328680"/>
            <a:ext cx="54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e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transferred g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379440"/>
            <a:ext cx="87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other things the Nourishing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ond bring to the first flo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45640" y="1897200"/>
            <a:ext cx="7991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raining and technical assistance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installation of s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ethods for sow and crops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Vege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Good practices of livestock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Anim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struction and maintenance of biodig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77640" y="1308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0" y="304920"/>
            <a:ext cx="9192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o whom will be transferred the go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and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71640" y="1844640"/>
            <a:ext cx="7921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goods are transferred to women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more than the half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high percentage of the households is headed by single m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are better administrators of the economic resources of the family than men, in terms of the benefit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hey have been historically relegated and their rights has been denied.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213080" y="333360"/>
            <a:ext cx="3814920" cy="286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828720" y="1773360"/>
            <a:ext cx="3814560" cy="286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3"/>
          <a:stretch/>
        </p:blipFill>
        <p:spPr>
          <a:xfrm>
            <a:off x="3635280" y="3662280"/>
            <a:ext cx="3814920" cy="28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The selection criteria for wom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26920" y="17514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Being a woman living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Do not have cattle or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. Acceptance of transferring goods to a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 Take on the following commit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 contribution of capital to an associativ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What organizations participate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55640" y="2416320"/>
            <a:ext cx="3902040" cy="4117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inistry of Agriculture, Livestock and Forestry (MAG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Institute of Agriculture and Livestock Technology      (I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Institute of Rural Development (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National Forestry Institute (INA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418480"/>
            <a:ext cx="3889440" cy="3751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griculture, Livestock and Forestry Technological Foundation (FU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Rural Credit Fund (F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Mayor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Civil Power Counc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Soci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25680" y="157320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griculture and Livestock Public Sector (SP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333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territorial organizatio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6080" y="2348280"/>
            <a:ext cx="793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partmental Coordination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unicip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ural Local Coordination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Conformation of the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6160" y="2061360"/>
            <a:ext cx="7178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Assembly selects me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Civil Power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Mayor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Social Organizations Represen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Technical Secretary: MAGFOR´s Deleg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7636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60360" y="2060640"/>
            <a:ext cx="5832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tribute to family food safety through the production of foo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ssure that rural Nicaraguan impoverished families have in their table: milk, meat, eggs, fruits, vegetables and cer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reate a small surplus to invest in a associative productive enterp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298620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5120" y="188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Department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00000" y="1730880"/>
            <a:ext cx="79930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and manage the execution of the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ose Municipal Coordination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communities and beneficiaries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firm allocation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e with ENACAL, FISE, MINSA, MECD, and National Police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epare Annual Activity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Municipal Coordination instances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71640" y="1767600"/>
            <a:ext cx="7777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and manage the execution of NPB at the municip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rganize work plans and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ose Rural Local Coordination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lects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lve lists controver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ordinate with ENACAL, FISE, MINSA, MECD, MARENA, and National Polic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pare Annual Activit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Functions of the Rural Local Coordination instances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042920" y="1702080"/>
            <a:ext cx="79930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an the selection of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pare list of proposed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firm allocation of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olve controversies along with the municipal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ordinate y supervise the delivery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How is the community selection done?</a:t>
            </a:r>
            <a:r>
              <a:rPr b="0" lang="en-US" sz="34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00000" y="1773000"/>
            <a:ext cx="770436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Annually, the Municipal Coordination Instance decides along with de Rural Local Coordination Instance, the communities to be selected,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Map of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p-dated data from the last National Agriculture and Livestock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unicipal Develop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ther useful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By who is the family selection done?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35520" y="2134080"/>
            <a:ext cx="50601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Rural loc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mmunity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oci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87280" y="1683720"/>
            <a:ext cx="77058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cal leaders prepare list along with the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presented to the Municipal Coordination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discussed and confirm or ren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ubmitted to the Departmental Coordination Instance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list is sent to the Departmental MAGFOR´s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971640" y="1882080"/>
            <a:ext cx="766908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elegate submits list to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s proceed to verify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in situ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if the beneficiaries on the list fulfill the establishe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2720" y="1541520"/>
            <a:ext cx="8280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f the beneficiary fulfills the requirements, the standard form is fi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eral data and physical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ze of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ot possession of cow or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me degree of knowledge of 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amily accept the title of assets transferred to b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woman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contribute to the associative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participate i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ill to receive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card filling and verification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</a:t>
            </a:r>
            <a:r>
              <a:rPr b="0" lang="en-U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1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187280" y="1888920"/>
            <a:ext cx="56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ppraisal of the area/f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e of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lope of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rea and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00000" y="227664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sed on the diagno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chnician proposes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eptance by the benef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GFOR approval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512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How is the diagnosis and the structuring of the bond done? </a:t>
            </a:r>
            <a:r>
              <a:rPr b="1" lang="en-US" sz="1900" spc="-1" strike="noStrike">
                <a:solidFill>
                  <a:srgbClr val="330033"/>
                </a:solidFill>
                <a:latin typeface="Century Gothic"/>
              </a:rPr>
              <a:t>(2)</a:t>
            </a:r>
            <a:r>
              <a:rPr b="0" lang="es-ES" sz="3800" spc="-1" strike="noStrike">
                <a:solidFill>
                  <a:srgbClr val="330033"/>
                </a:solidFill>
                <a:latin typeface="Century Gothic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198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6560" y="2133360"/>
            <a:ext cx="525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duce food for local market and increase the income of benefici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ursuit the associability of beneficiaries in order to access credit and produce food for local commerc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crease the self-esteem of the beneficiaries and obtain surplus that enlarge the family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dium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635280" y="1916280"/>
            <a:ext cx="433440" cy="3817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250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800" spc="-1" strike="noStrike">
                <a:solidFill>
                  <a:srgbClr val="000000"/>
                </a:solidFill>
                <a:latin typeface="Century Gothic"/>
              </a:rPr>
              <a:t>Train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116000" y="1844640"/>
            <a:ext cx="712800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ne (1) technician cover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ining of the benefici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03120" y="19800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entury Gothic"/>
              </a:rPr>
              <a:t>Organiz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55640" y="1908000"/>
            <a:ext cx="77040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cleus is composed by 50 benefici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emporary Board Members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cision of type of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floor begins to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1700280"/>
          <a:ext cx="9144000" cy="4665600"/>
        </p:xfrm>
        <a:graphic>
          <a:graphicData uri="http://schemas.openxmlformats.org/drawingml/2006/table">
            <a:tbl>
              <a:tblPr/>
              <a:tblGrid>
                <a:gridCol w="3564000"/>
                <a:gridCol w="1287360"/>
                <a:gridCol w="1522440"/>
                <a:gridCol w="1424160"/>
                <a:gridCol w="1346040"/>
              </a:tblGrid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do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ó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jecu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,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5,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s,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6,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es de const. (Módul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ru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s forestales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bérculos y hortalizas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odigest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b2b2b2"/>
                        </a:buClr>
                        <a:buSzPct val="9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827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2"/>
          <p:cNvSpPr/>
          <p:nvPr/>
        </p:nvSpPr>
        <p:spPr>
          <a:xfrm>
            <a:off x="43020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fered g</a:t>
            </a:r>
            <a:r>
              <a:rPr b="1" lang="es-ES_tradnl" sz="3200" spc="-1" strike="noStrike">
                <a:solidFill>
                  <a:srgbClr val="000000"/>
                </a:solidFill>
                <a:latin typeface="Lucida Sans Unicode"/>
              </a:rPr>
              <a:t>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0" y="6021360"/>
            <a:ext cx="889308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La ejecución presupuestaria al 31 de diciembre de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fue de C$ 186,703,618 para una ejecución total del 100.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3800" spc="-1" strike="noStrike">
                <a:solidFill>
                  <a:srgbClr val="000000"/>
                </a:solidFill>
                <a:latin typeface="Times New Roman"/>
              </a:rPr>
              <a:t>Resultados organizativ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0920" y="3500280"/>
          <a:ext cx="5303880" cy="1541520"/>
        </p:xfrm>
        <a:graphic>
          <a:graphicData uri="http://schemas.openxmlformats.org/drawingml/2006/table">
            <a:tbl>
              <a:tblPr/>
              <a:tblGrid>
                <a:gridCol w="1290600"/>
                <a:gridCol w="216000"/>
                <a:gridCol w="1367640"/>
                <a:gridCol w="427680"/>
                <a:gridCol w="2001960"/>
              </a:tblGrid>
              <a:tr h="771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SO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NUCL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 DE JUNTAS DIREC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6,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8"/>
          <p:cNvSpPr/>
          <p:nvPr/>
        </p:nvSpPr>
        <p:spPr>
          <a:xfrm>
            <a:off x="501480" y="2349360"/>
            <a:ext cx="8642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JECUCION TALLERES DE INDUCCION A SOCIAS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(OCTUBRE - DICIEMBRE 2007)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47640" y="1773360"/>
          <a:ext cx="5616720" cy="1258920"/>
        </p:xfrm>
        <a:graphic>
          <a:graphicData uri="http://schemas.openxmlformats.org/drawingml/2006/table">
            <a:tbl>
              <a:tblPr/>
              <a:tblGrid>
                <a:gridCol w="1451160"/>
                <a:gridCol w="143028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itros de Leche Produc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0,3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,8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45,50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4" name="Rectangle 21"/>
          <p:cNvSpPr/>
          <p:nvPr/>
        </p:nvSpPr>
        <p:spPr>
          <a:xfrm>
            <a:off x="503280" y="47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Pro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Entrega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Parid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Lechone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6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8.6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,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340000" y="5157720"/>
          <a:ext cx="426096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50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Entre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Huevos Producidos (unidad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9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785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,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692360" y="1916280"/>
          <a:ext cx="5616360" cy="1258560"/>
        </p:xfrm>
        <a:graphic>
          <a:graphicData uri="http://schemas.openxmlformats.org/drawingml/2006/table">
            <a:tbl>
              <a:tblPr/>
              <a:tblGrid>
                <a:gridCol w="1450800"/>
                <a:gridCol w="1430280"/>
                <a:gridCol w="1330560"/>
                <a:gridCol w="140472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Vac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2.1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21"/>
          <p:cNvSpPr/>
          <p:nvPr/>
        </p:nvSpPr>
        <p:spPr>
          <a:xfrm>
            <a:off x="503280" y="620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Resultados Neg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19280" y="3500280"/>
          <a:ext cx="5616720" cy="1258920"/>
        </p:xfrm>
        <a:graphic>
          <a:graphicData uri="http://schemas.openxmlformats.org/drawingml/2006/table">
            <a:tbl>
              <a:tblPr/>
              <a:tblGrid>
                <a:gridCol w="1450800"/>
                <a:gridCol w="1430640"/>
                <a:gridCol w="1330200"/>
                <a:gridCol w="140508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Cerdas muert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  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bor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95640" y="5084640"/>
          <a:ext cx="4260600" cy="1222560"/>
        </p:xfrm>
        <a:graphic>
          <a:graphicData uri="http://schemas.openxmlformats.org/drawingml/2006/table">
            <a:tbl>
              <a:tblPr/>
              <a:tblGrid>
                <a:gridCol w="1450800"/>
                <a:gridCol w="1405080"/>
                <a:gridCol w="140472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ves mu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Porcentaje de mort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s Nacido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3,0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.3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05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Times New Roman"/>
              </a:rPr>
              <a:t>Beneficiarias 2008 </a:t>
            </a: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(Distribución de Bienes por Dept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nicaragua-fisicopolitico"/>
          <p:cNvPicPr/>
          <p:nvPr/>
        </p:nvPicPr>
        <p:blipFill>
          <a:blip r:embed="rId1"/>
          <a:stretch/>
        </p:blipFill>
        <p:spPr>
          <a:xfrm>
            <a:off x="0" y="765000"/>
            <a:ext cx="8604360" cy="6093000"/>
          </a:xfrm>
          <a:prstGeom prst="rect">
            <a:avLst/>
          </a:prstGeom>
          <a:ln w="0">
            <a:noFill/>
          </a:ln>
        </p:spPr>
      </p:pic>
      <p:sp>
        <p:nvSpPr>
          <p:cNvPr id="214" name="Oval 5">
            <a:hlinkClick r:id="rId2" action="ppaction://hlinksldjump"/>
          </p:cNvPr>
          <p:cNvSpPr/>
          <p:nvPr/>
        </p:nvSpPr>
        <p:spPr>
          <a:xfrm>
            <a:off x="2944800" y="242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>
            <a:hlinkClick r:id="rId3" action="ppaction://hlinksldjump"/>
          </p:cNvPr>
          <p:cNvSpPr/>
          <p:nvPr/>
        </p:nvSpPr>
        <p:spPr>
          <a:xfrm>
            <a:off x="1547640" y="2044800"/>
            <a:ext cx="208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Nva. Segovi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7640" y="6093000"/>
            <a:ext cx="2640600" cy="58140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200" spc="-1" strike="noStrike">
                <a:solidFill>
                  <a:srgbClr val="ffff00"/>
                </a:solidFill>
                <a:latin typeface="Arial"/>
              </a:rPr>
              <a:t>Total: 14,5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>
            <a:hlinkClick r:id="rId4" action="ppaction://hlinksldjump"/>
          </p:cNvPr>
          <p:cNvSpPr/>
          <p:nvPr/>
        </p:nvSpPr>
        <p:spPr>
          <a:xfrm>
            <a:off x="2124000" y="277956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>
            <a:hlinkClick r:id="rId5" action="ppaction://hlinksldjump"/>
          </p:cNvPr>
          <p:cNvSpPr/>
          <p:nvPr/>
        </p:nvSpPr>
        <p:spPr>
          <a:xfrm>
            <a:off x="682560" y="2637000"/>
            <a:ext cx="1368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driz: 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>
            <a:hlinkClick r:id="rId6" action="ppaction://hlinksldjump"/>
          </p:cNvPr>
          <p:cNvSpPr/>
          <p:nvPr/>
        </p:nvSpPr>
        <p:spPr>
          <a:xfrm>
            <a:off x="2340000" y="3139920"/>
            <a:ext cx="18720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>
            <a:hlinkClick r:id="rId7" action="ppaction://hlinksldjump"/>
          </p:cNvPr>
          <p:cNvSpPr/>
          <p:nvPr/>
        </p:nvSpPr>
        <p:spPr>
          <a:xfrm>
            <a:off x="971640" y="3052800"/>
            <a:ext cx="1296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Esteli: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>
            <a:hlinkClick r:id="rId8" action="ppaction://hlinksldjump"/>
          </p:cNvPr>
          <p:cNvSpPr/>
          <p:nvPr/>
        </p:nvSpPr>
        <p:spPr>
          <a:xfrm>
            <a:off x="1332000" y="4005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>
            <a:hlinkClick r:id="rId9" action="ppaction://hlinksldjump"/>
          </p:cNvPr>
          <p:cNvSpPr/>
          <p:nvPr/>
        </p:nvSpPr>
        <p:spPr>
          <a:xfrm>
            <a:off x="144360" y="3645000"/>
            <a:ext cx="183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inandega: 1,0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>
            <a:hlinkClick r:id="rId10" action="ppaction://hlinksldjump"/>
          </p:cNvPr>
          <p:cNvSpPr/>
          <p:nvPr/>
        </p:nvSpPr>
        <p:spPr>
          <a:xfrm>
            <a:off x="1647720" y="429264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>
            <a:hlinkClick r:id="rId11" action="ppaction://hlinksldjump"/>
          </p:cNvPr>
          <p:cNvSpPr/>
          <p:nvPr/>
        </p:nvSpPr>
        <p:spPr>
          <a:xfrm>
            <a:off x="250920" y="4221000"/>
            <a:ext cx="1295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León: 1,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>
            <a:hlinkClick r:id="rId12" action="ppaction://hlinksldjump"/>
          </p:cNvPr>
          <p:cNvSpPr/>
          <p:nvPr/>
        </p:nvSpPr>
        <p:spPr>
          <a:xfrm>
            <a:off x="208116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>
            <a:hlinkClick r:id="rId13" action="ppaction://hlinksldjump"/>
          </p:cNvPr>
          <p:cNvSpPr/>
          <p:nvPr/>
        </p:nvSpPr>
        <p:spPr>
          <a:xfrm>
            <a:off x="287280" y="4594320"/>
            <a:ext cx="169236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nagua: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>
            <a:hlinkClick r:id="rId14" action="ppaction://hlinksldjump"/>
          </p:cNvPr>
          <p:cNvSpPr/>
          <p:nvPr/>
        </p:nvSpPr>
        <p:spPr>
          <a:xfrm>
            <a:off x="3059280" y="4869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879640" y="4508640"/>
            <a:ext cx="1548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saya: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0"/>
          <p:cNvSpPr/>
          <p:nvPr/>
        </p:nvSpPr>
        <p:spPr>
          <a:xfrm>
            <a:off x="3274920" y="5084640"/>
            <a:ext cx="187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3529080" y="486900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Granada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2"/>
          <p:cNvSpPr/>
          <p:nvPr/>
        </p:nvSpPr>
        <p:spPr>
          <a:xfrm>
            <a:off x="3419640" y="5661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1835280" y="5602320"/>
            <a:ext cx="1547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ivas: 6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4572000" y="2060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4284720" y="1714680"/>
            <a:ext cx="165564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Jinotega: 2,4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6"/>
          <p:cNvSpPr/>
          <p:nvPr/>
        </p:nvSpPr>
        <p:spPr>
          <a:xfrm>
            <a:off x="3348000" y="364500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3419640" y="3284640"/>
            <a:ext cx="180000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Matagalpa: 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451640" y="242100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N: 1,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7308720" y="220500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6946920" y="5013360"/>
            <a:ext cx="1297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AAS: 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6804000" y="479736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5364000" y="6164280"/>
            <a:ext cx="187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5724360" y="6093000"/>
            <a:ext cx="17272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R. S. Juan: 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4816440" y="450864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5076720" y="4437000"/>
            <a:ext cx="15829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hontales: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6"/>
          <p:cNvSpPr/>
          <p:nvPr/>
        </p:nvSpPr>
        <p:spPr>
          <a:xfrm>
            <a:off x="3780000" y="3946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040280" y="3875040"/>
            <a:ext cx="132372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Boaco: 3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8"/>
          <p:cNvSpPr/>
          <p:nvPr/>
        </p:nvSpPr>
        <p:spPr>
          <a:xfrm>
            <a:off x="2800440" y="5143680"/>
            <a:ext cx="1872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9"/>
          <p:cNvSpPr/>
          <p:nvPr/>
        </p:nvSpPr>
        <p:spPr>
          <a:xfrm>
            <a:off x="1317600" y="5084640"/>
            <a:ext cx="1432080" cy="276480"/>
          </a:xfrm>
          <a:prstGeom prst="rect">
            <a:avLst/>
          </a:prstGeom>
          <a:solidFill>
            <a:srgbClr val="ffcc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200" spc="-1" strike="noStrike">
                <a:solidFill>
                  <a:srgbClr val="000000"/>
                </a:solidFill>
                <a:latin typeface="Verdana"/>
              </a:rPr>
              <a:t>Carazo: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3280" y="19800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Century Gothic"/>
              </a:rPr>
              <a:t>The nourishing productive bond objectives </a:t>
            </a:r>
            <a:r>
              <a:rPr b="1" lang="en-US" sz="2000" spc="-1" strike="noStrike">
                <a:solidFill>
                  <a:srgbClr val="330033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0" y="1699920"/>
            <a:ext cx="57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Pursuit the agro-industrialization to improve the value added of products and consolidate the income of the beneficiaries through ex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titute big production networks of small associative companies, well capitalized and dedicated to the agro-industrialization and export of food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Consolidate the capital of the beneficiaries, contributing to the progress of their commun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059280" y="1700280"/>
            <a:ext cx="433080" cy="4824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0920" y="3860280"/>
            <a:ext cx="2289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73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00000" y="1989000"/>
            <a:ext cx="77774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irst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mplantation of the NPB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nsfer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primar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ased on the families´ work in their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8716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1280" y="1717560"/>
            <a:ext cx="8532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econd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beneficiaries in associative nucle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Promotion of the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Training the benefici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Incentive for savings and endowment of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+  Establishment of productiv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ed to investment, credit and local production and commercialization of food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38040" y="304920"/>
            <a:ext cx="855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Three-floor strategy for the nouris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roductive bond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1628640"/>
            <a:ext cx="82472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r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Organization of some or several associative nucle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onfederation of communitarian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central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+  mutual or othe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Linked to the agro-industrial processing and the commercial development of food product with great valu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3640" y="476280"/>
            <a:ext cx="900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at will be the transferred goods?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26920" y="2004840"/>
            <a:ext cx="79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oods of animal protein for the family production and con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ilk: pregnant cow or go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Meat: pregnant pig, sheeps, or rabbits or garrob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Eggs: hens and rooster, quails or igu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+ 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6:22:03Z</dcterms:created>
  <dc:creator>PERSONAL</dc:creator>
  <dc:description/>
  <dc:language>en-US</dc:language>
  <cp:lastModifiedBy>pautrizel_l</cp:lastModifiedBy>
  <dcterms:modified xsi:type="dcterms:W3CDTF">2013-02-25T11:56:49Z</dcterms:modified>
  <cp:revision>82</cp:revision>
  <dc:subject/>
  <dc:title>NOURISHING PRODUCTIVE BOND </dc:title>
</cp:coreProperties>
</file>