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FFF54-AEC0-492C-B738-68C022F9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9034-6F16-452B-979F-AE2615AA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8DD1-0900-45D7-B0E2-BC40B84F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E90B-4B92-415C-8902-A058D79C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0B46-B530-4C67-9D67-2B55E7DA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C4FB-D51A-4AA4-B6FB-B54DFFB6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8123-E935-4E17-8200-8C25831E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4663-7498-4144-9616-C4A00BBF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46CF-3C87-4065-9333-CFC8CE96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5BEA-164F-4A56-8D41-748739B9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F7FF-E125-4E6C-B75A-200890C0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D93A-A051-4EA0-A543-BE24CFC2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214B-5E0A-4280-A79E-2A1DDFE3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7875-A75C-4570-AB9B-A9769041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79CA-B780-472A-ACE0-B0237C42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46A5-C235-4D24-947A-EB465339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4C7B-2C54-4403-B9F1-9E73DCDB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7070-FB70-40A9-B96F-0B6D5508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7444-B290-4447-91C6-FE133B28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77FC-35DF-4D8B-969F-5982BC2A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F1DD-DACE-425D-874F-AAE67870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6871-0F01-4910-95F4-74960750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0DFE-BF86-497F-8D32-CBA1AA6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4770-145B-4284-9889-7A746D5B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65E6-6FCA-4227-9BD9-F1702C9BD7B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4011-D6E6-42CA-9E25-9E7B4F68D62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angladesh key d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pulation 153.3 m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nd area 144.000 sqk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DP USD 60 b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DP/capita USD 42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DP PPP/captia USD 2,05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DI rank 140 out of 17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14920" cy="50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fety net program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RS lists 25 safety net program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employment generation for poor in slack seasons (FFW, CFW, RIM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employment generation for poor throughout the year (RM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continuous or temporary food transfers (+ empowerment )(VGF, VG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other cash transfers such as educational stipends, support for the aged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ublic Food Distribution System (PFDS)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average 1 mio MT food given out annually through targeted food distribution programmes such as VGD, VGF, FFW, Test Relief and ot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ring the lean season or in case of natural disaster, PFDS provides monetized support through form of subsidized food (Open Market Sale (OMS)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th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assistance programmes run by NG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-credit programmes by NGOs and MF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ittances from overseas workers (total estimated for FY 2007/2008  USD 7 bi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jor problems of SSN programmes implemented by GoB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GD lacks an integrated national policy on safety n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coordination due to multiplicity of ministries/agencies invol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overhead and administrative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 efficienc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transparency and inadequate targ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level of leakage and misappropr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sustainability of achiev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essments of SSNs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(WB 2006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1% of beneficiaries prefer cash over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act studies present mixed picture (partly improved income and food intake levels for VG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idence of long-term dev. impact for RMP benefici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rtant effect on empowerment of women at household and society leve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leakage in PFDS (30-65% VGF, 26% in FFW, 13.6% VGD (IFPRI) against almost 0% in RM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kages increase with the number of intermediaries in the transfer proces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C support to safety nets and social assistance programm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ADEP - (VGD) food for training, cash for work, IGAs (150,000; EUR 30 mio, 150,000 M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RRDP - functional education, cash for work, savings and credit, training, IGAs (40,000; EUR 29.1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MP -  (RMP) cash for work, savings, training, IGAs (48,000; EUR  17.5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SVGD - (VGD) cash and food for training, savings, credit, IGAs (256,000; EUR 35.6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FPR - cash for training, savings, asset transfer for IGAs, coaching (100,000; EUR 28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OPA - cash for work, savings, training, IGAs (22,000 + seasonal employment; EUR 20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GDUP - (VGD) cash for training, savings, asset transfer for IGAs (80,000; EUR 20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GSP - cash for work (seasonal employment; EUR 9.6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ercentage Increase in Consumption (food &amp; nonfood)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Relative to matched control group)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IFPRI 2007)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ercentage Increase in Calorie Intake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Relative to matched control group)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ercentage Increase in Amount of Savings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Relative to matched control group) 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racteristics of pover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5% of the population lives in rural BG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0% of the poor live in rural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5% of the extreme poor live in rural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3% of rural households are land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% own less than 1 ac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0% farms &lt; 1h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0% of the labour force work in agricultu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mio households headed by women 95% of whom are extreme p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(main target group for EC social assistance support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Cost of Transferring 1.00 Taka to Beneficiaries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Costs of commodities; internal transportation, storage, and handling; and transit loss/leakage of food; VAT on cash transfer) 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FPR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BRAC 2007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P (20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. food int./d 536 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2,082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food int./d 793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Veg. 205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Anim. 37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Protein 45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Cereal 513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SUP (20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. food int./d 470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1,796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food int./d 657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Veg. 157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Anim. 23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Protein 39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Cereal 448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ome lessons learnt from the Commission’s social assistance interventions in BGD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ltra poor need specially designed support to overcome poverty/food in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achieve sustainable impact funding level/duration of support need to be adequate (adequate level of savings and follow-up support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ight targeting criteria and proces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dequate number of partner NGOs with proven capacit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ight IGA selection and train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afety ladder rather than safety ne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vision of packaged and processed food can reduce leakag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nk transfer of small amounts of cash to individual beneficiaries might be too costl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stainability likely to improve if beneficiaries are linked up with MFIs for expanding and diversifying IG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 outlook and challen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15 est. population 180 m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35 est. population 250 mi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15 est. food import 5 mio M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35 ???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production in BGD is constrained by many facto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ing world market food pr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vulnerability to natural disasters and the effects of climate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verty in Bangladesh</a:t>
            </a: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(HIES 2005)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Year 2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8.9% below upp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4.3% low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4.3% less than 2.122 kc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.0% less than 1.805 kc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Year 20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.0% below upp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5.1% below low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.4 % less than 2.122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.5% less than 1.805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73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GD Rice 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62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287440"/>
            <a:ext cx="82296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890280" y="1811520"/>
            <a:ext cx="7501320" cy="4301280"/>
            <a:chOff x="890280" y="1811520"/>
            <a:chExt cx="7501320" cy="4301280"/>
          </a:xfrm>
        </p:grpSpPr>
        <p:sp>
          <p:nvSpPr>
            <p:cNvPr id="113" name=""/>
            <p:cNvSpPr/>
            <p:nvPr/>
          </p:nvSpPr>
          <p:spPr>
            <a:xfrm>
              <a:off x="890280" y="1811520"/>
              <a:ext cx="7318080" cy="4301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31240" y="2103840"/>
              <a:ext cx="4300200" cy="33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1240" y="2103840"/>
              <a:ext cx="4300200" cy="3376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62880" y="4471920"/>
              <a:ext cx="568080" cy="100836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92080" y="4764600"/>
              <a:ext cx="578880" cy="71604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33520" y="4859640"/>
              <a:ext cx="567000" cy="62064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2880" y="2467080"/>
              <a:ext cx="568080" cy="20048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92080" y="2854440"/>
              <a:ext cx="578880" cy="190980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33520" y="2889000"/>
              <a:ext cx="567000" cy="19702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31240" y="2103840"/>
              <a:ext cx="1080" cy="337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8240" y="548064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68240" y="499932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68240" y="451980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8240" y="403848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8240" y="354600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8240" y="306468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8240" y="2584800"/>
              <a:ext cx="6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8240" y="2103840"/>
              <a:ext cx="6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31240" y="5480640"/>
              <a:ext cx="4300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73124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16188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60260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03180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16040" y="5047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6120" y="50814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7800" y="50583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46920" y="36986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8000" y="36986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800" y="36986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.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04440" y="536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04440" y="488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93560" y="44013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93560" y="3921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93560" y="3429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93560" y="2948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3560" y="2467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93560" y="1987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13200" y="5679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4/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53560" y="5679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5/0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83480" y="5679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6/0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386640" y="3462840"/>
              <a:ext cx="159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kh metric t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7360" y="3486960"/>
              <a:ext cx="2019240" cy="622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10720" y="3593520"/>
              <a:ext cx="126000" cy="1396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50040" y="3533040"/>
              <a:ext cx="1320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impor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0720" y="3897360"/>
              <a:ext cx="126000" cy="14076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12240" y="3839760"/>
              <a:ext cx="207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estic produ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0280" y="1811520"/>
              <a:ext cx="7318080" cy="430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8316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8316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1272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1272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8316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316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1272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1272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0560" y="3053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0776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2000" y="3053160"/>
              <a:ext cx="58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04320" y="491724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29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55120" y="491724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lnutrition in Banglades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2002 FAO estimated that 44 mio Bangladeshis were undernourished (less than 1.780 kca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4% of adult females were underweigh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5.9 % children under 5Y moderately underweigh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.3% children under 5Y severely underweigh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514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2:35:02Z</dcterms:created>
  <dc:creator>gautskl</dc:creator>
  <dc:description/>
  <dc:language>en-US</dc:language>
  <cp:lastModifiedBy>Administrator</cp:lastModifiedBy>
  <dcterms:modified xsi:type="dcterms:W3CDTF">2008-04-15T11:53:21Z</dcterms:modified>
  <cp:revision>18</cp:revision>
  <dc:subject/>
  <dc:title>Bangladesh key data</dc:title>
</cp:coreProperties>
</file>