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2B0F-A7E4-48BD-AD3A-299BED2F56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79A-062F-40A3-9A0B-A52E54770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624-CE62-46D6-A0D6-8B934379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8AE-2A3D-4572-9851-EF4E92B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F1C-03B1-4CC8-830D-3381D8A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D0E-0FC3-4427-9EA9-39537972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4E45-A148-4917-BFF1-6855368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C3AE-DFB2-420E-A13C-D6A2947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30D-0B58-4BCB-BBFF-4AD838F0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94D-746E-47E1-B04C-F69A467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775-31D6-4D70-9D10-5980D80E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CADC-C5C8-4B40-BFDB-9553C97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ACEC-B510-4572-8BFE-335EFE0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E05-FE8A-4407-A5BC-3B68B96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919-2085-4F49-8852-3574459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464-1AA8-4284-A3E7-1FA0F42D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10E4-13C5-4D5F-BF0B-F43AE94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D77E-6FCD-4116-AC25-386A0B65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146A-653A-41FE-8BAC-239275DD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FA4-4BE3-4C3E-A3D0-137E173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C9E-72E5-4D5B-9FD4-BD4E90AE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3E7-9D7A-48F0-8E0C-CB865EC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9B0-FFC4-41AF-A916-7B26C67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EA6-77B6-4F04-9C63-AA7B9FE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CEE-004B-4170-A2A7-C7A3535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6E5-51D6-4463-B77E-22D17BF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613A-9305-4DF1-A0F6-6A56912042C7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A06-E782-4A72-A126-37508B3676E6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8.xml"/><Relationship Id="rId3" Type="http://schemas.openxmlformats.org/officeDocument/2006/relationships/slide" Target="slide15.xml"/><Relationship Id="rId4" Type="http://schemas.openxmlformats.org/officeDocument/2006/relationships/slide" Target="slide29.xml"/><Relationship Id="rId5" Type="http://schemas.openxmlformats.org/officeDocument/2006/relationships/slide" Target="slide16.xml"/><Relationship Id="rId6" Type="http://schemas.openxmlformats.org/officeDocument/2006/relationships/slide" Target="slide30.xml"/><Relationship Id="rId7" Type="http://schemas.openxmlformats.org/officeDocument/2006/relationships/slide" Target="slide17.xml"/><Relationship Id="rId8" Type="http://schemas.openxmlformats.org/officeDocument/2006/relationships/slide" Target="slide32.xml"/><Relationship Id="rId9" Type="http://schemas.openxmlformats.org/officeDocument/2006/relationships/slide" Target="slide19.xml"/><Relationship Id="rId10" Type="http://schemas.openxmlformats.org/officeDocument/2006/relationships/slide" Target="slide31.xml"/><Relationship Id="rId11" Type="http://schemas.openxmlformats.org/officeDocument/2006/relationships/slide" Target="slide18.xml"/><Relationship Id="rId12" Type="http://schemas.openxmlformats.org/officeDocument/2006/relationships/slide" Target="slide33.xml"/><Relationship Id="rId13" Type="http://schemas.openxmlformats.org/officeDocument/2006/relationships/slide" Target="slide20.xml"/><Relationship Id="rId14" Type="http://schemas.openxmlformats.org/officeDocument/2006/relationships/slide" Target="slide34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5960" y="1552680"/>
            <a:ext cx="62640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Century Gothic"/>
              </a:rPr>
              <a:t>NOURISHING PRODUCTIVE BOND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sented by Luis Alberto Tercero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ar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334200" cy="474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33420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77964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403280" y="1682640"/>
            <a:ext cx="6337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76360" y="1666800"/>
            <a:ext cx="6551640" cy="491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16000" y="1724040"/>
            <a:ext cx="6985080" cy="46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900000" y="2133720"/>
            <a:ext cx="7920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puts for the production of animal prote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animals: w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food: concentrate for pork, mineral salts and multi-nutritional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8728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719280" y="1946160"/>
            <a:ext cx="8100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Vegetative material for animal fe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asture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Taiwán,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sugar cane,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 Toledo,     sorgum, Briz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Leguminous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Caupí, madero negro, canavalia, gandul, cratilia, terciopelo, leuca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rotein reserves seeds: marango, nacedero, morera guásimo, tigu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620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64120" y="522360"/>
            <a:ext cx="8631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6416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family production and consumption of micro-nutrients y cal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Fruit plants: lemon, tangerine, mango,        avocado “A”, avocado “B”, nísp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Vegetable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ác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mpkin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pi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Roots and tubers: cassava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lan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qu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Basic grains: Creole bean, Creole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Energetic: beehiv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50920" y="515880"/>
            <a:ext cx="864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is the nourishing productive bond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4360" y="1773360"/>
            <a:ext cx="8326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rategy to fight poverty, based on the capitalization of rural impoverished families,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duction goods of animal protein (milk, meat    and eggs) and micronutrients (fruits and vegetab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support of agro-ecological  productiv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motion and training for assoc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ender equity approac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2364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7080" y="1844640"/>
            <a:ext cx="77756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environmental pro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Forestry and energetic plants: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uanacas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enízaro, Pochote,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ak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, Madro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iodigestor: Taiw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Residual wate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mprove kitchen: ecological  st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33360" y="546120"/>
            <a:ext cx="85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55640" y="1905120"/>
            <a:ext cx="799308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iscellaneous go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nputs for pigsty and henhouse: barbed wire, clamps, henhouse netting,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alla ciclón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 cement, zinc, n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ools: shovel, rake, hoe, mach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Silo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fo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lack pl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Ensilaje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ba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50920" y="1998720"/>
            <a:ext cx="73818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very item is given in predetermined am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combination of goods is given according to the agro-climatic conditions of the area or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otal amount of goods should not exceed US $ 1,033 dolar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89280" y="328680"/>
            <a:ext cx="54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e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transferred g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379440"/>
            <a:ext cx="87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other things the Nourishing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ond bring to the first flo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45640" y="1897200"/>
            <a:ext cx="7991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raining and technical assistance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installation of s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ethods for sow and crops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Vege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ood practices of livestock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Anim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maintenance of biodig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77640" y="1308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0" y="304920"/>
            <a:ext cx="9192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o whom will be transferred the go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and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71640" y="1844640"/>
            <a:ext cx="7921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goods are transferred to women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more than the half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igh percentage of the households is headed by single m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better administrators of the economic resources of the family than men, in terms of the benefit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have been historically relegated and their rights has been denied.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213080" y="333360"/>
            <a:ext cx="3814920" cy="286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828720" y="1773360"/>
            <a:ext cx="3814560" cy="286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3"/>
          <a:stretch/>
        </p:blipFill>
        <p:spPr>
          <a:xfrm>
            <a:off x="3635280" y="3662280"/>
            <a:ext cx="3814920" cy="28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The selection criteria for wom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26920" y="17514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Being a woman living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Do not have cattle or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. Acceptance of transferring goods to a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 Take on the following commit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contribution of capital to an associativ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What organizations participate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55640" y="2416320"/>
            <a:ext cx="3902040" cy="4117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inistry of Agriculture, Livestock and Forestry (MAG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Institute of Agriculture and Livestock Technology      (I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Institute of Rural Development (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Forestry Institute (INA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418480"/>
            <a:ext cx="3889440" cy="3751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griculture, Livestock and Forestry Technological Foundation (FU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Rural Credit Fund (F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ayor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Civil Power Counc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Soci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25680" y="157320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griculture and Livestock Public Sector (SP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333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territorial organizatio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6080" y="2348280"/>
            <a:ext cx="793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partmental Coordination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unicip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ural Loc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Conformation of the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6160" y="2061360"/>
            <a:ext cx="7178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Assembly selects me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Civil Power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Mayor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Social Organization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Technical Secretary: MAGFOR´s Deleg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7636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60360" y="2060640"/>
            <a:ext cx="5832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tribute to family food safety through the production of foo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ssure that rural Nicaraguan impoverished families have in their table: milk, meat, eggs, fruits, vegetables and cer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reate a small surplus to invest in a associative productive enterp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298620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5120" y="188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Department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00000" y="1730880"/>
            <a:ext cx="79930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and manage the execution of the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ose Municipal Coordination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communities and beneficiaries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firm allocation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with ENACAL, FISE, MINSA, MECD, and National Police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epare Annual Activity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Municip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71640" y="1767600"/>
            <a:ext cx="7777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and manage the execution of NPB at the municip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ose Rural Local Coordination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lects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lve lists controver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with ENACAL, FISE, MINSA, MECD, MARENA, and National Polic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pare Annual Activit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Rural Local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042920" y="1702080"/>
            <a:ext cx="79930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an the selection of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pare list of proposed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olve controversies along with the municipal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ordinate y supervise the delivery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How is the community selection done?</a:t>
            </a:r>
            <a:r>
              <a:rPr b="0" lang="en-US" sz="34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00000" y="1773000"/>
            <a:ext cx="770436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Annually, the Municipal Coordination Instance decides along with de Rural Local Coordination Instance, the communities to be selected,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Map of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p-dated data from the last National Agriculture and Livestock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Develop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ther useful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By who is the family selection done?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35520" y="2134080"/>
            <a:ext cx="50601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Rural loc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mmunity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oci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87280" y="1683720"/>
            <a:ext cx="77058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cal leaders prepare list along with the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presented to the Municipal Coordination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discussed and confirm or ren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ubmitted to the Departmental Coordination Instance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ent to the Departmental MAGFOR´s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971640" y="1882080"/>
            <a:ext cx="766908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elegate submits list to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s proceed to verify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in situ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if the beneficiaries on the list fulfill the establishe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2720" y="1541520"/>
            <a:ext cx="8280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f the beneficiary fulfills the requirements, the standard form is fi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eral data and physical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ze of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ot possession of cow or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me degree of knowledge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amily accept the title of assets transferred to b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woman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contribute to the associative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participate i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receive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187280" y="1888920"/>
            <a:ext cx="56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ppraisal of the area/f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e of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lope of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rea and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00000" y="227664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sed on the diagno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 proposes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eptance by the benef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GFOR approval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512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198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6560" y="2133360"/>
            <a:ext cx="525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duce food for local market and increase the income of benefici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ursuit the associability of beneficiaries in order to access credit and produce food for local commerc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crease the self-esteem of the beneficiaries and obtain surplus that enlarge the family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dium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63528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250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800" spc="-1" strike="noStrike">
                <a:solidFill>
                  <a:srgbClr val="000000"/>
                </a:solidFill>
                <a:latin typeface="Century Gothic"/>
              </a:rPr>
              <a:t>Train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116000" y="1844640"/>
            <a:ext cx="712800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ne (1) technician cover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ining of the benefici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03120" y="19800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Organiz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55640" y="1908000"/>
            <a:ext cx="77040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cleus is composed by 50 benefici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emporary Board Members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cision of type of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floor begins to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1700280"/>
          <a:ext cx="9144000" cy="4665600"/>
        </p:xfrm>
        <a:graphic>
          <a:graphicData uri="http://schemas.openxmlformats.org/drawingml/2006/table">
            <a:tbl>
              <a:tblPr/>
              <a:tblGrid>
                <a:gridCol w="3564000"/>
                <a:gridCol w="1287360"/>
                <a:gridCol w="1522440"/>
                <a:gridCol w="1424160"/>
                <a:gridCol w="1346040"/>
              </a:tblGrid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do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ó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,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5,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s,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6,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es de const.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ru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ores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bérculos y hortalizas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odigest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b2b2b2"/>
                        </a:buClr>
                        <a:buSzPct val="9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827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2"/>
          <p:cNvSpPr/>
          <p:nvPr/>
        </p:nvSpPr>
        <p:spPr>
          <a:xfrm>
            <a:off x="43020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fered g</a:t>
            </a:r>
            <a:r>
              <a:rPr b="1" lang="es-ES_tradnl" sz="3200" spc="-1" strike="noStrike">
                <a:solidFill>
                  <a:srgbClr val="000000"/>
                </a:solidFill>
                <a:latin typeface="Lucida Sans Unicode"/>
              </a:rPr>
              <a:t>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0" y="6021360"/>
            <a:ext cx="889308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La ejecución presupuestaria al 31 de diciembre de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fue de C$ 186,703,618 para una ejecución total del 100.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3800" spc="-1" strike="noStrike">
                <a:solidFill>
                  <a:srgbClr val="000000"/>
                </a:solidFill>
                <a:latin typeface="Times New Roman"/>
              </a:rPr>
              <a:t>Resultados organizativ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0920" y="3500280"/>
          <a:ext cx="5303880" cy="1541520"/>
        </p:xfrm>
        <a:graphic>
          <a:graphicData uri="http://schemas.openxmlformats.org/drawingml/2006/table">
            <a:tbl>
              <a:tblPr/>
              <a:tblGrid>
                <a:gridCol w="1290600"/>
                <a:gridCol w="216000"/>
                <a:gridCol w="1367640"/>
                <a:gridCol w="427680"/>
                <a:gridCol w="2001960"/>
              </a:tblGrid>
              <a:tr h="771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SO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NUCL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JUNTAS DIREC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6,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8"/>
          <p:cNvSpPr/>
          <p:nvPr/>
        </p:nvSpPr>
        <p:spPr>
          <a:xfrm>
            <a:off x="501480" y="2349360"/>
            <a:ext cx="8642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JECUCION TALLERES DE INDUCCION A SOCIAS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(OCTUBRE - DICIEMBRE 2007)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47640" y="1773360"/>
          <a:ext cx="5616720" cy="1258920"/>
        </p:xfrm>
        <a:graphic>
          <a:graphicData uri="http://schemas.openxmlformats.org/drawingml/2006/table">
            <a:tbl>
              <a:tblPr/>
              <a:tblGrid>
                <a:gridCol w="1451160"/>
                <a:gridCol w="143028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itros de Leche Produc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0,3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,8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45,50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4" name="Rectangle 21"/>
          <p:cNvSpPr/>
          <p:nvPr/>
        </p:nvSpPr>
        <p:spPr>
          <a:xfrm>
            <a:off x="503280" y="47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Pro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echone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6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8.6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,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340000" y="5157720"/>
          <a:ext cx="426096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50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Entre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Huevos Producidos (unidad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9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785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,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692360" y="1916280"/>
          <a:ext cx="5616360" cy="1258560"/>
        </p:xfrm>
        <a:graphic>
          <a:graphicData uri="http://schemas.openxmlformats.org/drawingml/2006/table">
            <a:tbl>
              <a:tblPr/>
              <a:tblGrid>
                <a:gridCol w="1450800"/>
                <a:gridCol w="1430280"/>
                <a:gridCol w="1330560"/>
                <a:gridCol w="140472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.1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21"/>
          <p:cNvSpPr/>
          <p:nvPr/>
        </p:nvSpPr>
        <p:spPr>
          <a:xfrm>
            <a:off x="503280" y="620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Neg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95640" y="5084640"/>
          <a:ext cx="426060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472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mu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Porcentaje de mort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0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.3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05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Times New Roman"/>
              </a:rPr>
              <a:t>Beneficiarias 2008 </a:t>
            </a: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(Distribución de Bienes por Dept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nicaragua-fisicopolitico"/>
          <p:cNvPicPr/>
          <p:nvPr/>
        </p:nvPicPr>
        <p:blipFill>
          <a:blip r:embed="rId1"/>
          <a:stretch/>
        </p:blipFill>
        <p:spPr>
          <a:xfrm>
            <a:off x="0" y="765000"/>
            <a:ext cx="8604360" cy="6093000"/>
          </a:xfrm>
          <a:prstGeom prst="rect">
            <a:avLst/>
          </a:prstGeom>
          <a:ln w="0">
            <a:noFill/>
          </a:ln>
        </p:spPr>
      </p:pic>
      <p:sp>
        <p:nvSpPr>
          <p:cNvPr id="214" name="Oval 5">
            <a:hlinkClick r:id="rId2" action="ppaction://hlinksldjump"/>
          </p:cNvPr>
          <p:cNvSpPr/>
          <p:nvPr/>
        </p:nvSpPr>
        <p:spPr>
          <a:xfrm>
            <a:off x="2944800" y="242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>
            <a:hlinkClick r:id="rId3" action="ppaction://hlinksldjump"/>
          </p:cNvPr>
          <p:cNvSpPr/>
          <p:nvPr/>
        </p:nvSpPr>
        <p:spPr>
          <a:xfrm>
            <a:off x="1547640" y="2044800"/>
            <a:ext cx="208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Nva. Segovi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7640" y="6093000"/>
            <a:ext cx="2640600" cy="58140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200" spc="-1" strike="noStrike">
                <a:solidFill>
                  <a:srgbClr val="ffff00"/>
                </a:solidFill>
                <a:latin typeface="Arial"/>
              </a:rPr>
              <a:t>Total: 14,5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>
            <a:hlinkClick r:id="rId4" action="ppaction://hlinksldjump"/>
          </p:cNvPr>
          <p:cNvSpPr/>
          <p:nvPr/>
        </p:nvSpPr>
        <p:spPr>
          <a:xfrm>
            <a:off x="2124000" y="277956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>
            <a:hlinkClick r:id="rId5" action="ppaction://hlinksldjump"/>
          </p:cNvPr>
          <p:cNvSpPr/>
          <p:nvPr/>
        </p:nvSpPr>
        <p:spPr>
          <a:xfrm>
            <a:off x="682560" y="2637000"/>
            <a:ext cx="1368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driz: 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>
            <a:hlinkClick r:id="rId6" action="ppaction://hlinksldjump"/>
          </p:cNvPr>
          <p:cNvSpPr/>
          <p:nvPr/>
        </p:nvSpPr>
        <p:spPr>
          <a:xfrm>
            <a:off x="2340000" y="3139920"/>
            <a:ext cx="18720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>
            <a:hlinkClick r:id="rId7" action="ppaction://hlinksldjump"/>
          </p:cNvPr>
          <p:cNvSpPr/>
          <p:nvPr/>
        </p:nvSpPr>
        <p:spPr>
          <a:xfrm>
            <a:off x="971640" y="3052800"/>
            <a:ext cx="1296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Esteli: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>
            <a:hlinkClick r:id="rId8" action="ppaction://hlinksldjump"/>
          </p:cNvPr>
          <p:cNvSpPr/>
          <p:nvPr/>
        </p:nvSpPr>
        <p:spPr>
          <a:xfrm>
            <a:off x="1332000" y="4005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>
            <a:hlinkClick r:id="rId9" action="ppaction://hlinksldjump"/>
          </p:cNvPr>
          <p:cNvSpPr/>
          <p:nvPr/>
        </p:nvSpPr>
        <p:spPr>
          <a:xfrm>
            <a:off x="144360" y="3645000"/>
            <a:ext cx="183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inandega: 1,0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>
            <a:hlinkClick r:id="rId10" action="ppaction://hlinksldjump"/>
          </p:cNvPr>
          <p:cNvSpPr/>
          <p:nvPr/>
        </p:nvSpPr>
        <p:spPr>
          <a:xfrm>
            <a:off x="1647720" y="429264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>
            <a:hlinkClick r:id="rId11" action="ppaction://hlinksldjump"/>
          </p:cNvPr>
          <p:cNvSpPr/>
          <p:nvPr/>
        </p:nvSpPr>
        <p:spPr>
          <a:xfrm>
            <a:off x="250920" y="4221000"/>
            <a:ext cx="129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León: 1,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>
            <a:hlinkClick r:id="rId12" action="ppaction://hlinksldjump"/>
          </p:cNvPr>
          <p:cNvSpPr/>
          <p:nvPr/>
        </p:nvSpPr>
        <p:spPr>
          <a:xfrm>
            <a:off x="208116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>
            <a:hlinkClick r:id="rId13" action="ppaction://hlinksldjump"/>
          </p:cNvPr>
          <p:cNvSpPr/>
          <p:nvPr/>
        </p:nvSpPr>
        <p:spPr>
          <a:xfrm>
            <a:off x="287280" y="4594320"/>
            <a:ext cx="1692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nagua: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>
            <a:hlinkClick r:id="rId14" action="ppaction://hlinksldjump"/>
          </p:cNvPr>
          <p:cNvSpPr/>
          <p:nvPr/>
        </p:nvSpPr>
        <p:spPr>
          <a:xfrm>
            <a:off x="3059280" y="4869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879640" y="4508640"/>
            <a:ext cx="1548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say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0"/>
          <p:cNvSpPr/>
          <p:nvPr/>
        </p:nvSpPr>
        <p:spPr>
          <a:xfrm>
            <a:off x="3274920" y="508464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3529080" y="486900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Granada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2"/>
          <p:cNvSpPr/>
          <p:nvPr/>
        </p:nvSpPr>
        <p:spPr>
          <a:xfrm>
            <a:off x="3419640" y="566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1835280" y="560232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ivas: 6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4572000" y="2060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4284720" y="1714680"/>
            <a:ext cx="1655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Jinotega: 2,4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6"/>
          <p:cNvSpPr/>
          <p:nvPr/>
        </p:nvSpPr>
        <p:spPr>
          <a:xfrm>
            <a:off x="3348000" y="3645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3419640" y="3284640"/>
            <a:ext cx="1800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tagalpa: 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451640" y="242100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N: 1,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7308720" y="220500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6946920" y="501336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S: 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6804000" y="4797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5364000" y="616428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5724360" y="6093000"/>
            <a:ext cx="1727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. S. Juan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481644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5076720" y="4437000"/>
            <a:ext cx="15829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ontales: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6"/>
          <p:cNvSpPr/>
          <p:nvPr/>
        </p:nvSpPr>
        <p:spPr>
          <a:xfrm>
            <a:off x="3780000" y="3946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040280" y="3875040"/>
            <a:ext cx="1323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Boaco: 3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8"/>
          <p:cNvSpPr/>
          <p:nvPr/>
        </p:nvSpPr>
        <p:spPr>
          <a:xfrm>
            <a:off x="2800440" y="5143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9"/>
          <p:cNvSpPr/>
          <p:nvPr/>
        </p:nvSpPr>
        <p:spPr>
          <a:xfrm>
            <a:off x="1317600" y="5084640"/>
            <a:ext cx="1432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arazo: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3280" y="19800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0" y="1699920"/>
            <a:ext cx="57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Pursuit the agro-industrialization to improve the value added of products and consolidate the income of the beneficiaries through ex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titute big production networks of small associative companies, well capitalized and dedicated to the agro-industrialization and export of food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olidate the capital of the beneficiaries, contributing to the progress of their commun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059280" y="1700280"/>
            <a:ext cx="433080" cy="4824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0920" y="386028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73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00000" y="1989000"/>
            <a:ext cx="77774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irst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mplantation of the NPB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nsfer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primar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ased on the families´ work in their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8716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1280" y="1717560"/>
            <a:ext cx="8532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econd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beneficiaries in associative nucle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Promotion of the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Training the benefici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Incentive for savings and endowment of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Establishment of productiv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investment, credit and local production and commercialization of food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38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1628640"/>
            <a:ext cx="82472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r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Organization of some or several associative nucle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federation of communitarian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entral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utual or othe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Linked to the agro-industrial processing and the commercial development of food product with great valu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3640" y="4762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26920" y="2004840"/>
            <a:ext cx="79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of animal protein for the family production and con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ilk: pregnant cow or go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eat: pregnant pig, sheeps, or rabbits or garrob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Eggs: hens and rooster, quails or igu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6:22:03Z</dcterms:created>
  <dc:creator>PERSONAL</dc:creator>
  <dc:description/>
  <dc:language>en-US</dc:language>
  <cp:lastModifiedBy>pautrizel_l</cp:lastModifiedBy>
  <dcterms:modified xsi:type="dcterms:W3CDTF">2013-02-25T11:56:49Z</dcterms:modified>
  <cp:revision>82</cp:revision>
  <dc:subject/>
  <dc:title>NOURISHING PRODUCTIVE BOND </dc:title>
</cp:coreProperties>
</file>