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6.xml.rels" ContentType="application/vnd.openxmlformats-package.relationships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325D-D33B-4758-8F84-E6D35DE71C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9688-C699-460C-9495-0DE7C2E4AA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D828-9FE1-4DEF-8562-A25781C2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454-3291-4A06-9328-990900F3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B9F-F7B7-43B9-AA74-E6464DD9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6582-C024-433C-A6F9-BDE90151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8939-9B66-402A-B895-68DC9307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719F-CC46-4197-A33D-2BCE0715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3F30-23D5-4442-B36F-6DE3B6EC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460A-730E-4809-94DD-972265FC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934E-65F8-4216-950E-5BEFF0DC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6604-2256-41C6-841C-E3C1EEDE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5FEF-D40F-4EC7-85CA-6CB7959D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32A-6CB9-45DA-97C8-99CAFD2E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C16D-E54E-4F6C-9042-86D8F74B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FD95-D6D5-4EBB-9AE9-40B6EDF3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41F3-9DBC-4398-97E2-C221DD7D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4A58-90D2-442A-BB1C-5531DD20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7762-5499-474E-A62D-1686B2BA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6254-5154-4EDE-961F-4A50BC83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97B1-C71C-4A37-931D-18138B0A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8B4A-C1D4-4FC2-8231-4D35ABFC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534-0FD4-4B10-B0A9-82EB69BE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E48-079B-4260-9971-B6BC0D8F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4028-ABB4-4B2E-8610-F4C1206C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F37-383A-4064-8C8C-3463AB54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8950-4AC1-4DA5-AA78-710116B0A630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A60E-AEF8-4BEB-A41C-E364DDB09EAF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8.xml"/><Relationship Id="rId3" Type="http://schemas.openxmlformats.org/officeDocument/2006/relationships/slide" Target="slide15.xml"/><Relationship Id="rId4" Type="http://schemas.openxmlformats.org/officeDocument/2006/relationships/slide" Target="slide29.xml"/><Relationship Id="rId5" Type="http://schemas.openxmlformats.org/officeDocument/2006/relationships/slide" Target="slide16.xml"/><Relationship Id="rId6" Type="http://schemas.openxmlformats.org/officeDocument/2006/relationships/slide" Target="slide30.xml"/><Relationship Id="rId7" Type="http://schemas.openxmlformats.org/officeDocument/2006/relationships/slide" Target="slide17.xml"/><Relationship Id="rId8" Type="http://schemas.openxmlformats.org/officeDocument/2006/relationships/slide" Target="slide32.xml"/><Relationship Id="rId9" Type="http://schemas.openxmlformats.org/officeDocument/2006/relationships/slide" Target="slide19.xml"/><Relationship Id="rId10" Type="http://schemas.openxmlformats.org/officeDocument/2006/relationships/slide" Target="slide31.xml"/><Relationship Id="rId11" Type="http://schemas.openxmlformats.org/officeDocument/2006/relationships/slide" Target="slide18.xml"/><Relationship Id="rId12" Type="http://schemas.openxmlformats.org/officeDocument/2006/relationships/slide" Target="slide33.xml"/><Relationship Id="rId13" Type="http://schemas.openxmlformats.org/officeDocument/2006/relationships/slide" Target="slide20.xml"/><Relationship Id="rId14" Type="http://schemas.openxmlformats.org/officeDocument/2006/relationships/slide" Target="slide34.xm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5960" y="1552680"/>
            <a:ext cx="6264000" cy="16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Century Gothic"/>
              </a:rPr>
              <a:t>NOURISHING PRODUCTIVE BOND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4149360"/>
            <a:ext cx="6400800" cy="114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esented by Luis Alberto Tercero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icaragu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258920" y="5158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Kind of goods we transfer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335640" cy="475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334200" cy="4749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Text Box 5"/>
          <p:cNvSpPr/>
          <p:nvPr/>
        </p:nvSpPr>
        <p:spPr>
          <a:xfrm>
            <a:off x="1258920" y="5158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Kind of goods we transfer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334200" cy="475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5"/>
          <p:cNvSpPr/>
          <p:nvPr/>
        </p:nvSpPr>
        <p:spPr>
          <a:xfrm>
            <a:off x="1258920" y="5158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Kind of goods we transfer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3779640" cy="504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1258920" y="5158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Kind of goods we transfer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403280" y="1682640"/>
            <a:ext cx="6337440" cy="475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Text Box 5"/>
          <p:cNvSpPr/>
          <p:nvPr/>
        </p:nvSpPr>
        <p:spPr>
          <a:xfrm>
            <a:off x="1258920" y="5158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Kind of goods we transfer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476360" y="1666800"/>
            <a:ext cx="6551640" cy="491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5"/>
          <p:cNvSpPr/>
          <p:nvPr/>
        </p:nvSpPr>
        <p:spPr>
          <a:xfrm>
            <a:off x="1258920" y="5158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Kind of goods we transfer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116000" y="1724040"/>
            <a:ext cx="6985080" cy="465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2" name="Text Box 5"/>
          <p:cNvSpPr/>
          <p:nvPr/>
        </p:nvSpPr>
        <p:spPr>
          <a:xfrm>
            <a:off x="1258920" y="5158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Kind of goods we transfer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900000" y="2133720"/>
            <a:ext cx="7920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Inputs for the production of animal prote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+  animals: w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+  food: concentrate for pork, mineral salts and multi-nutritional bl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87280" y="515880"/>
            <a:ext cx="9007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What will be the transferred goods?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719280" y="1946160"/>
            <a:ext cx="810072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3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s-NI" sz="3000" spc="-1" strike="noStrike">
                <a:solidFill>
                  <a:srgbClr val="000000"/>
                </a:solidFill>
                <a:latin typeface="Century Gothic"/>
              </a:rPr>
              <a:t>Vegetative material for animal fe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s-NI" sz="2400" spc="-1" strike="noStrike">
                <a:solidFill>
                  <a:srgbClr val="000000"/>
                </a:solidFill>
                <a:latin typeface="Century Gothic"/>
              </a:rPr>
              <a:t>+  Pasture seeds: </a:t>
            </a:r>
            <a:r>
              <a:rPr b="1" i="1" lang="es-NI" sz="2400" spc="-1" strike="noStrike">
                <a:solidFill>
                  <a:srgbClr val="000000"/>
                </a:solidFill>
                <a:latin typeface="Century Gothic"/>
              </a:rPr>
              <a:t>Taiwán, </a:t>
            </a:r>
            <a:r>
              <a:rPr b="1" lang="es-NI" sz="2400" spc="-1" strike="noStrike">
                <a:solidFill>
                  <a:srgbClr val="000000"/>
                </a:solidFill>
                <a:latin typeface="Century Gothic"/>
              </a:rPr>
              <a:t>sugar cane,</a:t>
            </a:r>
            <a:r>
              <a:rPr b="1" i="1" lang="es-NI" sz="2400" spc="-1" strike="noStrike">
                <a:solidFill>
                  <a:srgbClr val="000000"/>
                </a:solidFill>
                <a:latin typeface="Century Gothic"/>
              </a:rPr>
              <a:t> Toledo,     sorgum, Briz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s-NI" sz="2400" spc="-1" strike="noStrike">
                <a:solidFill>
                  <a:srgbClr val="000000"/>
                </a:solidFill>
                <a:latin typeface="Century Gothic"/>
              </a:rPr>
              <a:t>+  Leguminous seeds: </a:t>
            </a:r>
            <a:r>
              <a:rPr b="1" i="1" lang="es-NI" sz="2400" spc="-1" strike="noStrike">
                <a:solidFill>
                  <a:srgbClr val="000000"/>
                </a:solidFill>
                <a:latin typeface="Century Gothic"/>
              </a:rPr>
              <a:t>Caupí, madero negro, canavalia, gandul, cratilia, terciopelo, leuca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s-NI" sz="2400" spc="-1" strike="noStrike">
                <a:solidFill>
                  <a:srgbClr val="000000"/>
                </a:solidFill>
                <a:latin typeface="Century Gothic"/>
              </a:rPr>
              <a:t>+  Protein reserves seeds: marango, nacedero, morera guásimo, tigu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06200" y="515880"/>
            <a:ext cx="9007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What will be the transferred goods?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564120" y="522360"/>
            <a:ext cx="8631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hat will be the transferred goods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84360" y="1641600"/>
            <a:ext cx="835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Goods for the family production and consumption of micro-nutrients y calo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Fruit plants: lemon, tangerine, mango,        avocado “A”, avocado “B”, nísp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Vegetables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usáce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umpkin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ipiá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la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Roots and tubers: cassava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lang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uequ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Basic grains: Creole bean, Creole 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Energetic: beehiv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250920" y="515880"/>
            <a:ext cx="8640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What is the nourishing productive bond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84360" y="1773360"/>
            <a:ext cx="832644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trategy to fight poverty, based on the capitalization of rural impoverished families,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production goods of animal protein (milk, meat    and eggs) and micronutrients (fruits and vegetabl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support of agro-ecological  productive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promotion and training for assoc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gender equity approach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323640" y="515880"/>
            <a:ext cx="9007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What will be the transferred goods?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7080" y="1844640"/>
            <a:ext cx="777564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Goods for the environmental prot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Forestry and energetic plants: 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Guanacas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Genízaro, Pochote,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eak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, Madro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Biodigestor: Taiwa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Residual water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Improve kitchen: ecological  st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333360" y="546120"/>
            <a:ext cx="855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hat will be the transferred goods?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55640" y="1905120"/>
            <a:ext cx="799308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iscellaneous goo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inputs for pigsty and henhouse: barbed wire, clamps, henhouse netting, 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malla ciclón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, cement, zinc, n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Tools: shovel, rake, hoe, mach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Silo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for g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Black pla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Ensilaje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bag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150920" y="1998720"/>
            <a:ext cx="738180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very item is given in predetermined amou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combination of goods is given according to the agro-climatic conditions of the area or f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total amount of goods should not exceed US $ 1,033 dolars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889280" y="328680"/>
            <a:ext cx="545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hat is the qua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f transferred good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468360" y="379440"/>
            <a:ext cx="874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hat other things the Nourishing Prod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ond bring to the first flo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45640" y="1897200"/>
            <a:ext cx="79912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raining and technical assistance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Hyg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Construction and installation of s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Methods for sow and crops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Veget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Good practices of livestock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Anim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Construction and maintenance of biodiges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377640" y="13082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4760" y="304920"/>
            <a:ext cx="9192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To whom will be transferred the goo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and wh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71640" y="1844640"/>
            <a:ext cx="792144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goods are transferred to women bec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they are more than the half 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high percentage of the households is headed by single m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they are better administrators of the economic resources of the family than men, in terms of the benefit of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they have been historically relegated and their rights has been denied.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4213080" y="333360"/>
            <a:ext cx="3814920" cy="2860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828720" y="1773360"/>
            <a:ext cx="3814560" cy="286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2" name="Picture 7" descr=""/>
          <p:cNvPicPr/>
          <p:nvPr/>
        </p:nvPicPr>
        <p:blipFill>
          <a:blip r:embed="rId3"/>
          <a:stretch/>
        </p:blipFill>
        <p:spPr>
          <a:xfrm>
            <a:off x="3635280" y="3662280"/>
            <a:ext cx="3814920" cy="286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The selection criteria for wome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826920" y="1751400"/>
            <a:ext cx="79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1. Being a woman living in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2.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3. Do not have cattle or p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4. Acceptance of transferring goods to a w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5. Take on the following commit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*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* contribution of capital to an associativ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What organizations participate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755640" y="2416320"/>
            <a:ext cx="3902040" cy="41173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Ministry of Agriculture, Livestock and Forestry (MAGF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National Institute of Agriculture and Livestock Technology      (IN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Institute of Rural Development (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National Forestry Institute (INAF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5003640" y="2418480"/>
            <a:ext cx="3889440" cy="37515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Agriculture, Livestock and Forestry Technological Foundation (FUN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Rural Credit Fund (F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A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Mayor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Civil Power Counc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Social Organ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25680" y="1573200"/>
            <a:ext cx="84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griculture and Livestock Public Sector (SPAR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0360" y="333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How is the territorial organization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766080" y="2348280"/>
            <a:ext cx="7931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partmental Coordination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unicipal Coordination 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ural Local Coordination 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Conformation of the coordination instances</a:t>
            </a:r>
            <a:r>
              <a:rPr b="0" lang="en-US" sz="3800" spc="-1" strike="noStrike">
                <a:solidFill>
                  <a:srgbClr val="330033"/>
                </a:solidFill>
                <a:latin typeface="Century Gothic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046160" y="2061360"/>
            <a:ext cx="7178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Assembly selects membe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Civil Power Represent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Mayors Represent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Social Organizations Represent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Technical Secretary: MAGFOR´s Deleg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476360" y="364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The nourishing productive bond objectives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1)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3573000"/>
            <a:ext cx="22892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hort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60360" y="2060640"/>
            <a:ext cx="5832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ntribute to family food safety through the production of food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ssure that rural Nicaraguan impoverished families have in their table: milk, meat, eggs, fruits, vegetables and cere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reate a small surplus to invest in a associative productive enterpr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/>
          <p:cNvSpPr/>
          <p:nvPr/>
        </p:nvSpPr>
        <p:spPr>
          <a:xfrm>
            <a:off x="2986200" y="1916280"/>
            <a:ext cx="433440" cy="3817800"/>
          </a:xfrm>
          <a:custGeom>
            <a:avLst/>
            <a:gdLst>
              <a:gd name="textAreaLeft" fmla="*/ 276840 w 433440"/>
              <a:gd name="textAreaRight" fmla="*/ 433800 w 433440"/>
              <a:gd name="textAreaTop" fmla="*/ 99360 h 3817800"/>
              <a:gd name="textAreaBottom" fmla="*/ 3718440 h 381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5120" y="1886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Functions of the Departmental Coordination instances</a:t>
            </a:r>
            <a:r>
              <a:rPr b="0" lang="es-ES" sz="3800" spc="-1" strike="noStrike">
                <a:solidFill>
                  <a:srgbClr val="330033"/>
                </a:solidFill>
                <a:latin typeface="Century Gothic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900000" y="1730880"/>
            <a:ext cx="7993080" cy="45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ordinate and manage the execution of the N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Organize work plans and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mpose Municipal Coordination In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equest communities and beneficiaries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nfirm allocation of N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ordinate with ENACAL, FISE, MINSA, MECD, and National Police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epare Annual Activity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198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Functions of the Municipal Coordination instances</a:t>
            </a:r>
            <a:r>
              <a:rPr b="0" lang="es-ES" sz="3800" spc="-1" strike="noStrike">
                <a:solidFill>
                  <a:srgbClr val="330033"/>
                </a:solidFill>
                <a:latin typeface="Century Gothic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971640" y="1767600"/>
            <a:ext cx="777708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ordinate and manage the execution of NPB at the municip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Organize work plans and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mpose Rural Local Coordination in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elects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nfirm allocation of benefici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lve lists controvers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ordinate with ENACAL, FISE, MINSA, MECD, MARENA, and National Police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epare Annual Activit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Functions of the Rural Local Coordination instances</a:t>
            </a:r>
            <a:r>
              <a:rPr b="0" lang="en-US" sz="3800" spc="-1" strike="noStrike">
                <a:solidFill>
                  <a:srgbClr val="330033"/>
                </a:solidFill>
                <a:latin typeface="Century Gothic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042920" y="1702080"/>
            <a:ext cx="7993080" cy="44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an the selection of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epare list of proposed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nfirm allocation of 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olve controversies along with the municipal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ordinate y supervise the delivery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6560" y="259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33"/>
                </a:solidFill>
                <a:latin typeface="Century Gothic"/>
              </a:rPr>
              <a:t>How is the community selection done?</a:t>
            </a:r>
            <a:r>
              <a:rPr b="0" lang="en-US" sz="3400" spc="-1" strike="noStrike">
                <a:solidFill>
                  <a:srgbClr val="330033"/>
                </a:solidFill>
                <a:latin typeface="Century Gothic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900000" y="1773000"/>
            <a:ext cx="770436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Annually, the Municipal Coordination Instance decides along with de Rural Local Coordination Instance, the communities to be selected, based 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unicipal Map of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Up-dated data from the last National Agriculture and Livestock 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unicipal Development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Other useful in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53560" y="269640"/>
            <a:ext cx="782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By who is the family selection done?</a:t>
            </a:r>
            <a:r>
              <a:rPr b="0" lang="es-ES" sz="3800" spc="-1" strike="noStrike">
                <a:solidFill>
                  <a:srgbClr val="330033"/>
                </a:solidFill>
                <a:latin typeface="Century Gothic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235520" y="2134080"/>
            <a:ext cx="50601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Rural local le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ommunity le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comm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ocial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How is the card filling and verification of the bond done?</a:t>
            </a:r>
            <a:r>
              <a:rPr b="1" lang="en-US" sz="1900" spc="-1" strike="noStrike">
                <a:solidFill>
                  <a:srgbClr val="330033"/>
                </a:solidFill>
                <a:latin typeface="Century Gothic"/>
              </a:rPr>
              <a:t>(1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187280" y="1683720"/>
            <a:ext cx="7705800" cy="47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Local leaders prepare list along with the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list is presented to the Municipal Coordination 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list is discussed and confirm or renew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list is submitted to the Departmental Coordination Instance for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list is sent to the Departmental MAGFOR´s Dele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90400" y="4392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How is the card filling and verification of the bond done? </a:t>
            </a:r>
            <a:r>
              <a:rPr b="1" lang="en-US" sz="1900" spc="-1" strike="noStrike">
                <a:solidFill>
                  <a:srgbClr val="330033"/>
                </a:solidFill>
                <a:latin typeface="Century Gothic"/>
              </a:rPr>
              <a:t>(2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971640" y="1882080"/>
            <a:ext cx="7669080" cy="30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Delegate submits list to techn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echnicians proceed to verify </a:t>
            </a:r>
            <a:r>
              <a:rPr b="1" lang="en-US" sz="3200" spc="-1" strike="noStrike">
                <a:solidFill>
                  <a:srgbClr val="990033"/>
                </a:solidFill>
                <a:latin typeface="Century Gothic"/>
              </a:rPr>
              <a:t>in situ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if the beneficiaries on the list fulfill the established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12720" y="1541520"/>
            <a:ext cx="82803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f the beneficiary fulfills the requirements, the standard form is fill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General data and physical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ze of th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Not possession of cow or p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ome degree of knowledge of N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amily accept the title of assets transferred to b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 woman’s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ill to contribute to the associative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ill to participate in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ill to receive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How is the card filling and verification of the bond done? </a:t>
            </a:r>
            <a:r>
              <a:rPr b="1" lang="en-US" sz="1900" spc="-1" strike="noStrike">
                <a:solidFill>
                  <a:srgbClr val="330033"/>
                </a:solidFill>
                <a:latin typeface="Century Gothic"/>
              </a:rPr>
              <a:t>(3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How is the diagnosis and the structuring of the bond done?</a:t>
            </a:r>
            <a:r>
              <a:rPr b="0" lang="en-US" sz="3800" spc="-1" strike="noStrike">
                <a:solidFill>
                  <a:srgbClr val="330033"/>
                </a:solidFill>
                <a:latin typeface="Century Gothic"/>
              </a:rPr>
              <a:t> </a:t>
            </a:r>
            <a:r>
              <a:rPr b="1" lang="en-US" sz="1900" spc="-1" strike="noStrike">
                <a:solidFill>
                  <a:srgbClr val="330033"/>
                </a:solidFill>
                <a:latin typeface="Century Gothic"/>
              </a:rPr>
              <a:t>(1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187280" y="1888920"/>
            <a:ext cx="561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ppraisal of the area/fa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ain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ype of so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lope of 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rea and sha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900000" y="2276640"/>
            <a:ext cx="770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ased on the diagno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echnician proposes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cceptance by the benefici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GFOR approval is requ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3512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How is the diagnosis and the structuring of the bond done? </a:t>
            </a:r>
            <a:r>
              <a:rPr b="1" lang="en-US" sz="1900" spc="-1" strike="noStrike">
                <a:solidFill>
                  <a:srgbClr val="330033"/>
                </a:solidFill>
                <a:latin typeface="Century Gothic"/>
              </a:rPr>
              <a:t>(2)</a:t>
            </a:r>
            <a:r>
              <a:rPr b="0" lang="es-ES" sz="3800" spc="-1" strike="noStrike">
                <a:solidFill>
                  <a:srgbClr val="330033"/>
                </a:solidFill>
                <a:latin typeface="Century Gothic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6000" y="19800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33"/>
                </a:solidFill>
                <a:latin typeface="Century Gothic"/>
              </a:rPr>
              <a:t>The nourishing productive bond objectives </a:t>
            </a:r>
            <a:r>
              <a:rPr b="1" lang="en-US" sz="2000" spc="-1" strike="noStrike">
                <a:solidFill>
                  <a:srgbClr val="330033"/>
                </a:solidFill>
                <a:latin typeface="Century Gothic"/>
              </a:rPr>
              <a:t>(2)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06560" y="2133360"/>
            <a:ext cx="5257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oduce food for local market and increase the income of benefici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ursuit the associability of beneficiaries in order to access credit and produce food for local commercia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ncrease the self-esteem of the beneficiaries and obtain surplus that enlarge the family inco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11280" y="3573000"/>
            <a:ext cx="2952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dium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3635280" y="1916280"/>
            <a:ext cx="433440" cy="3817800"/>
          </a:xfrm>
          <a:custGeom>
            <a:avLst/>
            <a:gdLst>
              <a:gd name="textAreaLeft" fmla="*/ 276840 w 433440"/>
              <a:gd name="textAreaRight" fmla="*/ 433800 w 433440"/>
              <a:gd name="textAreaTop" fmla="*/ 99360 h 3817800"/>
              <a:gd name="textAreaBottom" fmla="*/ 3718440 h 381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76720" y="188640"/>
            <a:ext cx="250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3800" spc="-1" strike="noStrike">
                <a:solidFill>
                  <a:srgbClr val="000000"/>
                </a:solidFill>
                <a:latin typeface="Century Gothic"/>
              </a:rPr>
              <a:t>Train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116000" y="1844640"/>
            <a:ext cx="7128000" cy="45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ne (1) technician covers 50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raining of the beneficia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rgan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ssoci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Leader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red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03120" y="198000"/>
            <a:ext cx="351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Organiz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755640" y="1908000"/>
            <a:ext cx="770400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ucleus is composed by 50 benefici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emporary Board Members 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rganization of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ecision of type of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eg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cond floor begins to devel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0" y="1700280"/>
          <a:ext cx="9144000" cy="4665600"/>
        </p:xfrm>
        <a:graphic>
          <a:graphicData uri="http://schemas.openxmlformats.org/drawingml/2006/table">
            <a:tbl>
              <a:tblPr/>
              <a:tblGrid>
                <a:gridCol w="3564000"/>
                <a:gridCol w="1287360"/>
                <a:gridCol w="1522440"/>
                <a:gridCol w="1424160"/>
                <a:gridCol w="1346040"/>
              </a:tblGrid>
              <a:tr h="666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en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doMag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jecut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ó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jecu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7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,8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5,2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s, (módul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6,0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es de const. (Módul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4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,4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tas frutales (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3,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tas forestales (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,9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bérculos y hortalizas (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um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,6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odigest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buClr>
                          <a:srgbClr val="b2b2b2"/>
                        </a:buClr>
                        <a:buSzPct val="9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4827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72"/>
          <p:cNvSpPr/>
          <p:nvPr/>
        </p:nvSpPr>
        <p:spPr>
          <a:xfrm>
            <a:off x="430200" y="476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ransfered g</a:t>
            </a:r>
            <a:r>
              <a:rPr b="1" lang="es-ES_tradnl" sz="3200" spc="-1" strike="noStrike">
                <a:solidFill>
                  <a:srgbClr val="000000"/>
                </a:solidFill>
                <a:latin typeface="Lucida Sans Unicode"/>
              </a:rPr>
              <a:t>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0" y="6021360"/>
            <a:ext cx="8893080" cy="6426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Lucida Sans Unicode"/>
              </a:rPr>
              <a:t>La ejecución presupuestaria al 31 de diciembre del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Lucida Sans Unicode"/>
              </a:rPr>
              <a:t>fue de C$ 186,703,618 para una ejecución total del 100.9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3800" spc="-1" strike="noStrike">
                <a:solidFill>
                  <a:srgbClr val="000000"/>
                </a:solidFill>
                <a:latin typeface="Times New Roman"/>
              </a:rPr>
              <a:t>Resultados organizativ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050920" y="3500280"/>
          <a:ext cx="5303880" cy="1541520"/>
        </p:xfrm>
        <a:graphic>
          <a:graphicData uri="http://schemas.openxmlformats.org/drawingml/2006/table">
            <a:tbl>
              <a:tblPr/>
              <a:tblGrid>
                <a:gridCol w="1290600"/>
                <a:gridCol w="216000"/>
                <a:gridCol w="1367640"/>
                <a:gridCol w="427680"/>
                <a:gridCol w="2001960"/>
              </a:tblGrid>
              <a:tr h="7718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º DE SOC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º DE NUCLE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º DE JUNTAS DIREC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6,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2" name="Rectangle 18"/>
          <p:cNvSpPr/>
          <p:nvPr/>
        </p:nvSpPr>
        <p:spPr>
          <a:xfrm>
            <a:off x="501480" y="2349360"/>
            <a:ext cx="8642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EJECUCION TALLERES DE INDUCCION A SOCIAS 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(OCTUBRE - DICIEMBRE 2007)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547640" y="1773360"/>
          <a:ext cx="5616720" cy="1258920"/>
        </p:xfrm>
        <a:graphic>
          <a:graphicData uri="http://schemas.openxmlformats.org/drawingml/2006/table">
            <a:tbl>
              <a:tblPr/>
              <a:tblGrid>
                <a:gridCol w="1451160"/>
                <a:gridCol w="1430280"/>
                <a:gridCol w="1330200"/>
                <a:gridCol w="140508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Vacas Entregad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Vacas Parid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Litros de Leche Producid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10,34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2,8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27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345,50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4" name="Rectangle 21"/>
          <p:cNvSpPr/>
          <p:nvPr/>
        </p:nvSpPr>
        <p:spPr>
          <a:xfrm>
            <a:off x="503280" y="4762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Lucida Sans Unicode"/>
              </a:rPr>
              <a:t>Resultados Pro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619280" y="3500280"/>
          <a:ext cx="5616720" cy="1258920"/>
        </p:xfrm>
        <a:graphic>
          <a:graphicData uri="http://schemas.openxmlformats.org/drawingml/2006/table">
            <a:tbl>
              <a:tblPr/>
              <a:tblGrid>
                <a:gridCol w="1450800"/>
                <a:gridCol w="1430640"/>
                <a:gridCol w="1330200"/>
                <a:gridCol w="140508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Cerdas Entregad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Cerdas Parid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Lechones Nac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3,6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8.66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,3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340000" y="5157720"/>
          <a:ext cx="4260960" cy="1222560"/>
        </p:xfrm>
        <a:graphic>
          <a:graphicData uri="http://schemas.openxmlformats.org/drawingml/2006/table">
            <a:tbl>
              <a:tblPr/>
              <a:tblGrid>
                <a:gridCol w="1450800"/>
                <a:gridCol w="1405080"/>
                <a:gridCol w="1405080"/>
              </a:tblGrid>
              <a:tr h="82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Aves Entreg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Huevos Producidos (unidad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ollos Nac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9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785,6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,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1692360" y="1916280"/>
          <a:ext cx="5616360" cy="1258560"/>
        </p:xfrm>
        <a:graphic>
          <a:graphicData uri="http://schemas.openxmlformats.org/drawingml/2006/table">
            <a:tbl>
              <a:tblPr/>
              <a:tblGrid>
                <a:gridCol w="1450800"/>
                <a:gridCol w="1430280"/>
                <a:gridCol w="1330560"/>
                <a:gridCol w="1404720"/>
              </a:tblGrid>
              <a:tr h="86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Vacas muert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     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Abor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2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       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13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2.17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8" name="Rectangle 21"/>
          <p:cNvSpPr/>
          <p:nvPr/>
        </p:nvSpPr>
        <p:spPr>
          <a:xfrm>
            <a:off x="503280" y="62064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Lucida Sans Unicode"/>
              </a:rPr>
              <a:t>Resultados Neg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19280" y="3500280"/>
          <a:ext cx="5616720" cy="1258920"/>
        </p:xfrm>
        <a:graphic>
          <a:graphicData uri="http://schemas.openxmlformats.org/drawingml/2006/table">
            <a:tbl>
              <a:tblPr/>
              <a:tblGrid>
                <a:gridCol w="1450800"/>
                <a:gridCol w="1430640"/>
                <a:gridCol w="1330200"/>
                <a:gridCol w="140508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Cerdas muert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     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Abort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  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195640" y="5084640"/>
          <a:ext cx="4260600" cy="1222560"/>
        </p:xfrm>
        <a:graphic>
          <a:graphicData uri="http://schemas.openxmlformats.org/drawingml/2006/table">
            <a:tbl>
              <a:tblPr/>
              <a:tblGrid>
                <a:gridCol w="1450800"/>
                <a:gridCol w="1405080"/>
                <a:gridCol w="1404720"/>
              </a:tblGrid>
              <a:tr h="82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Aves muer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Porcentaje de mort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ollos Nacidos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3,07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.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.3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99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205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Times New Roman"/>
              </a:rPr>
              <a:t>Beneficiarias 2008 </a:t>
            </a: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(Distribución de Bienes por Dept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nicaragua-fisicopolitico"/>
          <p:cNvPicPr/>
          <p:nvPr/>
        </p:nvPicPr>
        <p:blipFill>
          <a:blip r:embed="rId1"/>
          <a:stretch/>
        </p:blipFill>
        <p:spPr>
          <a:xfrm>
            <a:off x="0" y="765000"/>
            <a:ext cx="8604360" cy="6093000"/>
          </a:xfrm>
          <a:prstGeom prst="rect">
            <a:avLst/>
          </a:prstGeom>
          <a:ln w="0">
            <a:noFill/>
          </a:ln>
        </p:spPr>
      </p:pic>
      <p:sp>
        <p:nvSpPr>
          <p:cNvPr id="214" name="Oval 5">
            <a:hlinkClick r:id="rId2" action="ppaction://hlinksldjump"/>
          </p:cNvPr>
          <p:cNvSpPr/>
          <p:nvPr/>
        </p:nvSpPr>
        <p:spPr>
          <a:xfrm>
            <a:off x="2944800" y="242100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>
            <a:hlinkClick r:id="rId3" action="ppaction://hlinksldjump"/>
          </p:cNvPr>
          <p:cNvSpPr/>
          <p:nvPr/>
        </p:nvSpPr>
        <p:spPr>
          <a:xfrm>
            <a:off x="1547640" y="2044800"/>
            <a:ext cx="208764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Nva. Segovia: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07640" y="6093000"/>
            <a:ext cx="2640600" cy="58140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3200" spc="-1" strike="noStrike">
                <a:solidFill>
                  <a:srgbClr val="ffff00"/>
                </a:solidFill>
                <a:latin typeface="Arial"/>
              </a:rPr>
              <a:t>Total: 14,5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8">
            <a:hlinkClick r:id="rId4" action="ppaction://hlinksldjump"/>
          </p:cNvPr>
          <p:cNvSpPr/>
          <p:nvPr/>
        </p:nvSpPr>
        <p:spPr>
          <a:xfrm>
            <a:off x="2124000" y="2779560"/>
            <a:ext cx="1875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>
            <a:hlinkClick r:id="rId5" action="ppaction://hlinksldjump"/>
          </p:cNvPr>
          <p:cNvSpPr/>
          <p:nvPr/>
        </p:nvSpPr>
        <p:spPr>
          <a:xfrm>
            <a:off x="682560" y="2637000"/>
            <a:ext cx="136836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Madriz: 7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0">
            <a:hlinkClick r:id="rId6" action="ppaction://hlinksldjump"/>
          </p:cNvPr>
          <p:cNvSpPr/>
          <p:nvPr/>
        </p:nvSpPr>
        <p:spPr>
          <a:xfrm>
            <a:off x="2340000" y="3139920"/>
            <a:ext cx="18720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>
            <a:hlinkClick r:id="rId7" action="ppaction://hlinksldjump"/>
          </p:cNvPr>
          <p:cNvSpPr/>
          <p:nvPr/>
        </p:nvSpPr>
        <p:spPr>
          <a:xfrm>
            <a:off x="971640" y="3052800"/>
            <a:ext cx="129672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Esteli: 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2">
            <a:hlinkClick r:id="rId8" action="ppaction://hlinksldjump"/>
          </p:cNvPr>
          <p:cNvSpPr/>
          <p:nvPr/>
        </p:nvSpPr>
        <p:spPr>
          <a:xfrm>
            <a:off x="1332000" y="400536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>
            <a:hlinkClick r:id="rId9" action="ppaction://hlinksldjump"/>
          </p:cNvPr>
          <p:cNvSpPr/>
          <p:nvPr/>
        </p:nvSpPr>
        <p:spPr>
          <a:xfrm>
            <a:off x="144360" y="3645000"/>
            <a:ext cx="183528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Chinandega: 1,0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4">
            <a:hlinkClick r:id="rId10" action="ppaction://hlinksldjump"/>
          </p:cNvPr>
          <p:cNvSpPr/>
          <p:nvPr/>
        </p:nvSpPr>
        <p:spPr>
          <a:xfrm>
            <a:off x="1647720" y="4292640"/>
            <a:ext cx="187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>
            <a:hlinkClick r:id="rId11" action="ppaction://hlinksldjump"/>
          </p:cNvPr>
          <p:cNvSpPr/>
          <p:nvPr/>
        </p:nvSpPr>
        <p:spPr>
          <a:xfrm>
            <a:off x="250920" y="4221000"/>
            <a:ext cx="129528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León: 1,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6">
            <a:hlinkClick r:id="rId12" action="ppaction://hlinksldjump"/>
          </p:cNvPr>
          <p:cNvSpPr/>
          <p:nvPr/>
        </p:nvSpPr>
        <p:spPr>
          <a:xfrm>
            <a:off x="2081160" y="450864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>
            <a:hlinkClick r:id="rId13" action="ppaction://hlinksldjump"/>
          </p:cNvPr>
          <p:cNvSpPr/>
          <p:nvPr/>
        </p:nvSpPr>
        <p:spPr>
          <a:xfrm>
            <a:off x="287280" y="4594320"/>
            <a:ext cx="169236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Managua: 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8">
            <a:hlinkClick r:id="rId14" action="ppaction://hlinksldjump"/>
          </p:cNvPr>
          <p:cNvSpPr/>
          <p:nvPr/>
        </p:nvSpPr>
        <p:spPr>
          <a:xfrm>
            <a:off x="3059280" y="486900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2879640" y="4508640"/>
            <a:ext cx="154800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Masaya: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20"/>
          <p:cNvSpPr/>
          <p:nvPr/>
        </p:nvSpPr>
        <p:spPr>
          <a:xfrm>
            <a:off x="3274920" y="5084640"/>
            <a:ext cx="1875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3529080" y="4869000"/>
            <a:ext cx="154764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Granada: 4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22"/>
          <p:cNvSpPr/>
          <p:nvPr/>
        </p:nvSpPr>
        <p:spPr>
          <a:xfrm>
            <a:off x="3419640" y="566100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1835280" y="5602320"/>
            <a:ext cx="154764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Rivas: 6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4"/>
          <p:cNvSpPr/>
          <p:nvPr/>
        </p:nvSpPr>
        <p:spPr>
          <a:xfrm>
            <a:off x="4572000" y="206064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5"/>
          <p:cNvSpPr/>
          <p:nvPr/>
        </p:nvSpPr>
        <p:spPr>
          <a:xfrm>
            <a:off x="4284720" y="1714680"/>
            <a:ext cx="165564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Jinotega: 2,4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26"/>
          <p:cNvSpPr/>
          <p:nvPr/>
        </p:nvSpPr>
        <p:spPr>
          <a:xfrm>
            <a:off x="3348000" y="364500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3419640" y="3284640"/>
            <a:ext cx="180000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Matagalpa: 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8"/>
          <p:cNvSpPr/>
          <p:nvPr/>
        </p:nvSpPr>
        <p:spPr>
          <a:xfrm>
            <a:off x="7451640" y="2421000"/>
            <a:ext cx="129708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RAAN: 1,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9"/>
          <p:cNvSpPr/>
          <p:nvPr/>
        </p:nvSpPr>
        <p:spPr>
          <a:xfrm>
            <a:off x="7308720" y="2205000"/>
            <a:ext cx="187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0"/>
          <p:cNvSpPr/>
          <p:nvPr/>
        </p:nvSpPr>
        <p:spPr>
          <a:xfrm>
            <a:off x="6946920" y="5013360"/>
            <a:ext cx="129708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RAAS: 7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1"/>
          <p:cNvSpPr/>
          <p:nvPr/>
        </p:nvSpPr>
        <p:spPr>
          <a:xfrm>
            <a:off x="6804000" y="479736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2"/>
          <p:cNvSpPr/>
          <p:nvPr/>
        </p:nvSpPr>
        <p:spPr>
          <a:xfrm>
            <a:off x="5364000" y="6164280"/>
            <a:ext cx="187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3"/>
          <p:cNvSpPr/>
          <p:nvPr/>
        </p:nvSpPr>
        <p:spPr>
          <a:xfrm>
            <a:off x="5724360" y="6093000"/>
            <a:ext cx="172728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R. S. Juan: 4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4"/>
          <p:cNvSpPr/>
          <p:nvPr/>
        </p:nvSpPr>
        <p:spPr>
          <a:xfrm>
            <a:off x="4816440" y="450864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5076720" y="4437000"/>
            <a:ext cx="158292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Chontales: 1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36"/>
          <p:cNvSpPr/>
          <p:nvPr/>
        </p:nvSpPr>
        <p:spPr>
          <a:xfrm>
            <a:off x="3780000" y="394668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7"/>
          <p:cNvSpPr/>
          <p:nvPr/>
        </p:nvSpPr>
        <p:spPr>
          <a:xfrm>
            <a:off x="4040280" y="3875040"/>
            <a:ext cx="132372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Boaco: 3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38"/>
          <p:cNvSpPr/>
          <p:nvPr/>
        </p:nvSpPr>
        <p:spPr>
          <a:xfrm>
            <a:off x="2800440" y="514368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9"/>
          <p:cNvSpPr/>
          <p:nvPr/>
        </p:nvSpPr>
        <p:spPr>
          <a:xfrm>
            <a:off x="1317600" y="5084640"/>
            <a:ext cx="143208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Carazo: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63280" y="19800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33"/>
                </a:solidFill>
                <a:latin typeface="Century Gothic"/>
              </a:rPr>
              <a:t>The nourishing productive bond objectives </a:t>
            </a:r>
            <a:r>
              <a:rPr b="1" lang="en-US" sz="2000" spc="-1" strike="noStrike">
                <a:solidFill>
                  <a:srgbClr val="330033"/>
                </a:solidFill>
                <a:latin typeface="Century Gothic"/>
              </a:rPr>
              <a:t>(3)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0" y="1699920"/>
            <a:ext cx="579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Pursuit the agro-industrialization to improve the value added of products and consolidate the income of the beneficiaries through expo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Constitute big production networks of small associative companies, well capitalized and dedicated to the agro-industrialization and export of food produ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Consolidate the capital of the beneficiaries, contributing to the progress of their commun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3059280" y="1700280"/>
            <a:ext cx="433080" cy="4824360"/>
          </a:xfrm>
          <a:custGeom>
            <a:avLst/>
            <a:gdLst>
              <a:gd name="textAreaLeft" fmla="*/ 276840 w 433080"/>
              <a:gd name="textAreaRight" fmla="*/ 433440 w 433080"/>
              <a:gd name="textAreaTop" fmla="*/ 125640 h 4824360"/>
              <a:gd name="textAreaBottom" fmla="*/ 4698720 h 48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10920" y="3860280"/>
            <a:ext cx="22892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Long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473040" y="304920"/>
            <a:ext cx="8553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Three-floor strategy for the nourish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productive bond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00000" y="1989000"/>
            <a:ext cx="777744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First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mplantation of the NPB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transfer of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inked to primary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ased on the families´ work in their fa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587160" y="304920"/>
            <a:ext cx="8553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Three-floor strategy for the nourish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productive bond</a:t>
            </a: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611280" y="1717560"/>
            <a:ext cx="8532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econd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rganization of beneficiaries in associative nucle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+  Promotion of the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+  Training the benefici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+  Incentive for savings and endowment of lo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+  Establishment of productive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inked to investment, credit and local production and commercialization of food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338040" y="304920"/>
            <a:ext cx="8553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Three-floor strategy for the nourish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productive bond</a:t>
            </a: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5640" y="1628640"/>
            <a:ext cx="82472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Third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Organization of some or several associative nucleu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confederation of communitarian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central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mutual or other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Linked to the agro-industrial processing and the commercial development of food product with great value a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23640" y="476280"/>
            <a:ext cx="9007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What will be the transferred goods?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826920" y="2004840"/>
            <a:ext cx="799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Goods of animal protein for the family production and consum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+  Milk: pregnant cow or go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+  Meat: pregnant pig, sheeps, or rabbits or garrob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+  Eggs: hens and rooster, quails or igua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+  F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6:22:03Z</dcterms:created>
  <dc:creator>PERSONAL</dc:creator>
  <dc:description/>
  <dc:language>en-US</dc:language>
  <cp:lastModifiedBy>pautrizel_l</cp:lastModifiedBy>
  <dcterms:modified xsi:type="dcterms:W3CDTF">2013-02-25T11:56:49Z</dcterms:modified>
  <cp:revision>82</cp:revision>
  <dc:subject/>
  <dc:title>NOURISHING PRODUCTIVE BOND </dc:title>
</cp:coreProperties>
</file>