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AC-E145-4E20-ACB6-D9C63193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0AC-F723-48CD-A437-D01FAED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A55-A847-49BE-AB87-79A3873E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A57-8771-4343-B256-682492A6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DFE-0AE7-40FD-A016-5B56FEE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9B2-D5A4-465B-A46E-3806C8A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9BD-711F-4316-B12B-19AEAE1E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202-DECC-4E4C-89B7-B8040FBB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8F-9B2A-4275-A77F-FB5A04E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EFC-7E6D-4AF3-8835-7DFDF4C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2DD-9D1F-476D-AF49-9078B14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EE2-A007-4AB0-8402-E40967B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1600-8878-48F2-B04C-6157584B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ffectiveness of social transfers in Kyrgyzstan and EC intervention to improve the social assistance sc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5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Shamsia Ibragim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Gaiane Gukas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Gnel Sedraky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2120" y="5257800"/>
            <a:ext cx="7848360" cy="1257480"/>
            <a:chOff x="762120" y="5257800"/>
            <a:chExt cx="7848360" cy="1257480"/>
          </a:xfrm>
        </p:grpSpPr>
        <p:grpSp>
          <p:nvGrpSpPr>
            <p:cNvPr id="44" name=""/>
            <p:cNvGrpSpPr/>
            <p:nvPr/>
          </p:nvGrpSpPr>
          <p:grpSpPr>
            <a:xfrm>
              <a:off x="762120" y="5257800"/>
              <a:ext cx="7848360" cy="1257480"/>
              <a:chOff x="762120" y="5257800"/>
              <a:chExt cx="7848360" cy="125748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9040" y="5257800"/>
                <a:ext cx="1230840" cy="7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5332320"/>
                <a:ext cx="1261080" cy="214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" name=""/>
              <p:cNvGrpSpPr/>
              <p:nvPr/>
            </p:nvGrpSpPr>
            <p:grpSpPr>
              <a:xfrm>
                <a:off x="1182240" y="5668560"/>
                <a:ext cx="724680" cy="543960"/>
                <a:chOff x="1182240" y="5668560"/>
                <a:chExt cx="724680" cy="543960"/>
              </a:xfrm>
            </p:grpSpPr>
            <p:pic>
              <p:nvPicPr>
                <p:cNvPr id="48" name="glob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2240" y="5731560"/>
                  <a:ext cx="53676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 txBox="1"/>
                <p:nvPr/>
              </p:nvSpPr>
              <p:spPr>
                <a:xfrm rot="488400">
                  <a:off x="1273320" y="5709600"/>
                  <a:ext cx="609120" cy="385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389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339966"/>
                      </a:solidFill>
                      <a:latin typeface="Comic Sans MS"/>
                    </a:rPr>
                    <a:t>AiC</a:t>
                  </a:r>
                  <a:endParaRPr b="0" lang="en-US" sz="1800" spc="1" strike="noStrike">
                    <a:ln w="0">
                      <a:noFill/>
                    </a:ln>
                    <a:solidFill>
                      <a:srgbClr val="339966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7489440" y="6012360"/>
                <a:ext cx="1121040" cy="50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his project is funded by the European Unio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584080" y="5257800"/>
              <a:ext cx="4263480" cy="80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EUROPEAN COMMISSION BUDGET SUP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ROGRAMME IN KYRGYZST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roject Technical Assistance to the Ministry of Fi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Seminar on "Entitlement and Access to Food: Systems of Social Transfers to fight extreme poverty”; 15-18 April 2008, Bruss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ffectiveness of social as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523880"/>
            <a:ext cx="20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hare of state expenditure for payment of benefits in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sources distribution used for payment of state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712880"/>
            <a:ext cx="76201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hare of UMB beneficiaries and extremely poor population, 2000-20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2122560"/>
          <a:ext cx="7772400" cy="435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22560"/>
                    <a:ext cx="77724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Income, CPI, GMCL and UMB </a:t>
            </a:r>
            <a:br>
              <a:rPr sz="36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1998 = 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Inclusion of beneficiaries and per cent of extremely po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738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% of recip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% of extremely poor</a:t>
                      </a:r>
                      <a:r>
                        <a:rPr b="0" lang="en-US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% of extremely poor that received the benef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% of extremely poor eligible to the benef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LSMS household Survey, 1998</a:t>
                      </a:r>
                      <a:r>
                        <a:rPr b="0" lang="en-US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,2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a800"/>
                          </a:solidFill>
                          <a:latin typeface="Arial"/>
                        </a:rPr>
                        <a:t>Kyrgyz Integrated  Household Survey,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xisting problems in social assistanc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Low level of GM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Unclear eligibility rules and targeting criteria and as a result high inclusion of non poor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Complex access procedures and as a result low coverage of the poores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Complex and fragmented benefits system that is difficult and costly to administer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xisting problems in social assistan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Weak capacity in record keeping and managing comprehensiv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Weak monitoring of benefit award and payment systems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Weak capacity to analyze, monitor and evaluate policies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Weak administrative capacity to efficiently manage benefits scheme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90560" y="30481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EC Inter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C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ctor Policy Support Programme 2007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a800"/>
                </a:solidFill>
                <a:uFillTx/>
                <a:latin typeface="Arial"/>
              </a:rPr>
              <a:t>Overall objective of the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800"/>
                </a:solidFill>
                <a:latin typeface="Arial"/>
              </a:rPr>
              <a:t>Support to pro-poor state policies through the creation of more efficient social assistance targeted at poor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a800"/>
                </a:solidFill>
                <a:uFillTx/>
                <a:latin typeface="Arial"/>
              </a:rPr>
              <a:t>Specific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800"/>
                </a:solidFill>
                <a:latin typeface="Arial"/>
              </a:rPr>
              <a:t>Improvement of design, management, delivery and effectiveness of state programmes and services in the soci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a800"/>
                </a:solidFill>
                <a:uFillTx/>
                <a:latin typeface="Arial"/>
              </a:rPr>
              <a:t>Expec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800"/>
                </a:solidFill>
                <a:latin typeface="Arial"/>
              </a:rPr>
              <a:t>Social transfers rationalised and targeted to the poorest sections of the popu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Improvement of targeting of social assistance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7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mprovement of targeting of social assistance (year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4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Establishment of the inter-ministerial social assistance working group with the overall responsibility of redesigning social assistance to better target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4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Establish baseline indicators for the assessment of the effectiveness of soci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4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On the basis of the report’s findings, redesign the schema of eligibility criteria and access procedures to better target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4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The re-designed schema and its social and budgetary implications presented to government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mprovement of targeting of social assistance (year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Pilot the new schema of eligibility criteria in selected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Submit assessment report of the piloting to Government and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Draft new social assistance legislation (new eligibility criteria and access procedures) and submitted to Government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Prepare Action Plan to operationalise (on a progressive basis) the new social assistance legislation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Improvement of targeting of social assistance (year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Approve draft new social assistance legislation and submit to the Parliament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Approve Action Plan to operationalise the new social assistance legislation and submit to the Parliament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SPSP implementation: EC support to implement re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udg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PS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05120" y="3124080"/>
            <a:ext cx="2133360" cy="1143000"/>
            <a:chOff x="1905120" y="3124080"/>
            <a:chExt cx="2133360" cy="1143000"/>
          </a:xfrm>
        </p:grpSpPr>
        <p:sp>
          <p:nvSpPr>
            <p:cNvPr id="100" name=""/>
            <p:cNvSpPr/>
            <p:nvPr/>
          </p:nvSpPr>
          <p:spPr>
            <a:xfrm>
              <a:off x="1905120" y="3733920"/>
              <a:ext cx="213336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905120" y="3124080"/>
              <a:ext cx="2057400" cy="609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udget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€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4 million fo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Indicatively € 8 million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1 fixed and 1 variable instalmen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Fixed instalments attached to PFM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Variable instalments attached to social assistance reform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Long term TA office in the Ministry of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Assistance to PFM reforms and overall monitoring of reforms in Soc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Short term TAs to social assistance and P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Assistance to implement reforms attached to fixed and variable instal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Regular independent review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Arial"/>
              </a:rPr>
              <a:t>2 reviews each year to assess the state of compliance with reform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Part 1 – System of soci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Part 2 – Effectiveness of soci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Part 3 – EC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ystem of social as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ree type of social transfers (state benefits) in Kyrgyzs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a8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United Monthly Benefits (U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a8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Social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a8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Privile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UMB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Covers 10% of the population, in real numbers, a half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Recipient families have to meet certain criteria before they qualify for the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The average per capita monthly income of the family has to drop below a means test benchmark known as the Guaranteed Minimum Consumption Level (GMCL)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UMB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Where this happens, the size of the UMB is calculated to boost the average per capita income of the family to the GMC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200400"/>
            <a:ext cx="7315200" cy="1557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MB = (GMCL – Total household income per capita per month) X 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 MR – the number of household members entitled to the UMB (95%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181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Currently GMCL is Som 200 monthly (3,6 Eu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ocial Allow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a800"/>
                </a:solidFill>
                <a:latin typeface="Arial"/>
              </a:rPr>
              <a:t>Given to categorical groups independently from any income consideration. </a:t>
            </a: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children-invalids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invalids from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bi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I, II, III categories of invalidity that do not have right for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elderly with no right for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mother her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a800"/>
                </a:solidFill>
                <a:latin typeface="Arial"/>
              </a:rPr>
              <a:t>orphan children without</a:t>
            </a: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 guardianshi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ivile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Currently there are 33 categories of people and 264,000 families that are in receipt of thes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9:28:52Z</dcterms:created>
  <dc:creator>User</dc:creator>
  <dc:description/>
  <dc:language>en-US</dc:language>
  <cp:lastModifiedBy>Administrator</cp:lastModifiedBy>
  <dcterms:modified xsi:type="dcterms:W3CDTF">2008-04-16T14:11:57Z</dcterms:modified>
  <cp:revision>32</cp:revision>
  <dc:subject/>
  <dc:title>Effectiveness of Social transfer in Kyrgyzstan and EC intervention to improve the social assistance scheme </dc:title>
</cp:coreProperties>
</file>