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B6026-E5FB-4AC8-B05D-338768948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3A315-28C1-49D9-B833-2C6321F0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13E6A-7717-4F2F-9A0D-08533D737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BAFFB-1DC6-4A0A-8345-821DF6D99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4FE8F-7948-4519-B762-4309263E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E3BA-E1EA-40B9-BE0D-865EC1845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1F63-DBAC-4472-95F2-53DE1930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1B5E-3655-4DEE-B9B6-D438087E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B64D-04C3-4BFA-9A99-1A332AFE0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B31E-4457-4D87-B924-57CA51E6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7673-4059-466A-A874-91CAECD1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FBAD-1A77-4DB1-8608-135A143BD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29F6-2B16-4688-8C58-07EA2F817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837720"/>
            <a:ext cx="7924680" cy="259092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Maternal and Child Undernutrition:  </a:t>
            </a:r>
            <a:br>
              <a:rPr sz="3600"/>
            </a:br>
            <a:r>
              <a:rPr b="0" lang="en-US" sz="3600" spc="-1" strike="noStrike">
                <a:solidFill>
                  <a:srgbClr val="000000"/>
                </a:solidFill>
                <a:latin typeface="Arial"/>
                <a:ea typeface="Times New Roman"/>
              </a:rPr>
              <a:t>Consequences for Adult Health and Human Capital</a:t>
            </a:r>
            <a:br>
              <a:rPr sz="3600"/>
            </a:br>
            <a:r>
              <a:rPr b="0" lang="en-US" sz="3600" spc="-1" strike="noStrike">
                <a:solidFill>
                  <a:srgbClr val="000000"/>
                </a:solidFill>
                <a:latin typeface="Arial"/>
                <a:ea typeface="Times New Roman"/>
              </a:rPr>
              <a:t>Series Paper 2 of 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838080" y="3733560"/>
            <a:ext cx="7467840" cy="1904760"/>
          </a:xfrm>
          <a:prstGeom prst="rect">
            <a:avLst/>
          </a:prstGeom>
          <a:solidFill>
            <a:srgbClr val="ffffff"/>
          </a:solidFill>
          <a:ln w="9360">
            <a:solidFill>
              <a:srgbClr val="000066"/>
            </a:solidFill>
            <a:miter/>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ternal &amp; Child Undernutrition Study Group</a:t>
            </a:r>
            <a:endParaRPr b="0" lang="en-US" sz="24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riting Team, Cesar G. Victora, Linda Adair, Caroline Fall, Pedro C. Hallal, Reynaldo Martorell, Linda Richter, Harshpal Singh Sachdev)</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Evidence gap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419720"/>
          </a:xfrm>
          <a:prstGeom prst="rect">
            <a:avLst/>
          </a:prstGeom>
          <a:solidFill>
            <a:srgbClr val="ffffff"/>
          </a:solidFill>
          <a:ln w="9360">
            <a:solidFill>
              <a:srgbClr val="000066"/>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ew large-scale breastfeeding promotion strategies have evaluated the impact on feeding patterns and growth outcomes beyond infancy. With the new growth standards, there is a need for such studies to evaluate the effectiveness of breastfeeding promotion strategies and appropriate complementary feeding strategies on growth and morbidity across various age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14040"/>
            <a:ext cx="7848720" cy="25146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Maternal and Child Undernutrition:</a:t>
            </a:r>
            <a:br>
              <a:rPr sz="4000"/>
            </a:br>
            <a:r>
              <a:rPr b="0" lang="en-US" sz="4000" spc="-1" strike="noStrike">
                <a:solidFill>
                  <a:srgbClr val="000000"/>
                </a:solidFill>
                <a:latin typeface="Arial"/>
                <a:ea typeface="Times New Roman"/>
              </a:rPr>
              <a:t>Effective Action at National Level</a:t>
            </a:r>
            <a:br>
              <a:rPr sz="4000"/>
            </a:br>
            <a:r>
              <a:rPr b="0" lang="en-US" sz="4000" spc="-1" strike="noStrike">
                <a:solidFill>
                  <a:srgbClr val="000000"/>
                </a:solidFill>
                <a:latin typeface="Arial"/>
                <a:ea typeface="Times New Roman"/>
              </a:rPr>
              <a:t>Series Paper 4 of 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609480" y="3809880"/>
            <a:ext cx="7848720" cy="1828800"/>
          </a:xfrm>
          <a:prstGeom prst="rect">
            <a:avLst/>
          </a:prstGeom>
          <a:solidFill>
            <a:srgbClr val="ffffff"/>
          </a:solidFill>
          <a:ln w="9360">
            <a:solidFill>
              <a:srgbClr val="000066"/>
            </a:solidFill>
            <a:miter/>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ternal and Child Undernutrition Study Group</a:t>
            </a:r>
            <a:endParaRPr b="0" lang="en-US" sz="24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riting Team, Jennifer Bryce, Denise Coitinho, Ian Darnton-Hill, David Pelletier, Per Pinstrup-Andersen)</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Key Messag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Effective interventions to reduce undernutrition are not reaching mothers and children in high-burden countries; if they were, undernutrition prevalence could be reduced by at least 25% among three-year-old child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rporating nutrition goals into macroeconomic, agricultural and food policies is a missed opportunity to address undernutr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Key Messag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ional nutrition leaders and their international counterparts should include nutrition as an explicit component in efforts to strengthen health systems and track financial fl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Key Message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Careful targeting to pregnant women, the very young and the poor can increase program effectiveness in preventing undernutri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ategic and operational capacity must be built at national level to respond effectively to nutritional needs and opportunities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106704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esearch priorities to support national nutrition actions</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599840"/>
            <a:ext cx="7772400" cy="4876920"/>
          </a:xfrm>
          <a:prstGeom prst="rect">
            <a:avLst/>
          </a:prstGeom>
          <a:solidFill>
            <a:srgbClr val="ffffff"/>
          </a:solidFill>
          <a:ln w="9360">
            <a:solidFill>
              <a:srgbClr val="000066"/>
            </a:solidFill>
            <a:miter/>
          </a:ln>
        </p:spPr>
        <p:txBody>
          <a:bodyPr lIns="90000" rIns="90000" tIns="46800" bIns="4680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Research on strengthening leadership and strategic capacity for advancing national nutrition agendas and actions.  </a:t>
            </a:r>
            <a:r>
              <a:rPr b="0" lang="en-US" sz="2400" spc="-1" strike="noStrike">
                <a:solidFill>
                  <a:srgbClr val="000000"/>
                </a:solidFill>
                <a:latin typeface="Arial"/>
                <a:ea typeface="Times New Roman"/>
              </a:rPr>
              <a:t>Positive experiences in Madagascar, Senegal, Thailand, Chile, Costa Rica and other countries have demonstrated that leadership and strategic capacity are key ingredients for advancing the national nutrition agenda and action.  Among other roles, these capacities are crucial for leveraging commitment and resources from government, international partners and the private sector.  Research is needed to document the capacities, strategies and tactics present in successful countries, to guide international investments and to facilitate south-south learning in this important area</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esearch priorities to support national nutrition actions</a:t>
            </a:r>
            <a:endParaRPr b="0" lang="en-US" sz="4000" spc="-1" strike="noStrike">
              <a:solidFill>
                <a:srgbClr val="000000"/>
              </a:solidFill>
              <a:latin typeface="Times New Roman"/>
            </a:endParaRPr>
          </a:p>
        </p:txBody>
      </p:sp>
      <p:sp>
        <p:nvSpPr>
          <p:cNvPr id="72" name="PlaceHolder 2"/>
          <p:cNvSpPr>
            <a:spLocks noGrp="1"/>
          </p:cNvSpPr>
          <p:nvPr>
            <p:ph/>
          </p:nvPr>
        </p:nvSpPr>
        <p:spPr>
          <a:xfrm>
            <a:off x="609480" y="1752120"/>
            <a:ext cx="7848720" cy="487692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Large-scale effectiveness evaluations </a:t>
            </a:r>
            <a:r>
              <a:rPr b="0" lang="en-US" sz="2800" spc="-1" strike="noStrike">
                <a:solidFill>
                  <a:srgbClr val="000000"/>
                </a:solidFill>
                <a:latin typeface="Arial"/>
                <a:ea typeface="Times New Roman"/>
              </a:rPr>
              <a:t>that can expand the evidence base for strategies and tactics to achieve high, sustained and equitable coverage with proven interventions to address undernutrition are also needed, as highlighted in the previous series pap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evelopment and assessment of valid indicators and methodologies</a:t>
            </a:r>
            <a:r>
              <a:rPr b="0" lang="en-US" sz="2800" spc="-1" strike="noStrike">
                <a:solidFill>
                  <a:srgbClr val="000000"/>
                </a:solidFill>
                <a:latin typeface="Arial"/>
                <a:ea typeface="Times New Roman"/>
              </a:rPr>
              <a:t> that can be used at national level and below to provide rapid feedback on progress in coverage and impac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esearch priorities to support national nutrition actions</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Links between nutritional status and broader initiatives</a:t>
            </a:r>
            <a:r>
              <a:rPr b="0" lang="en-US" sz="3200" spc="-1" strike="noStrike">
                <a:solidFill>
                  <a:srgbClr val="000000"/>
                </a:solidFill>
                <a:latin typeface="Arial"/>
                <a:ea typeface="Times New Roman"/>
              </a:rPr>
              <a:t> such as food for work and micro-credit initiatives need to be substantiated and used as the basis for assessing their impact on nutrition outco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 </a:t>
            </a:r>
            <a:r>
              <a:rPr b="0" lang="en-US" sz="4400" spc="-1" strike="noStrike">
                <a:solidFill>
                  <a:srgbClr val="000000"/>
                </a:solidFill>
                <a:latin typeface="Arial"/>
                <a:ea typeface="Times New Roman"/>
              </a:rPr>
              <a:t>Key messag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a-uterine growth retardation and stunting in the first years of life lead to irreversible damage, including shorter adult height, lower attained schooling, reduced adult income and lower offspring birthweigh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low- and middle-income countries, there is no evidence that rapid weight or length gain in first two years of life increases the risk of chronic disease, even in children with intra-uterine growth retard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Key messag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who are undernourished in early life and  then gain weight rapidly later in childhood are at high risk of chronic diseas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prevention of maternal and child undernutrition is a long-term investment that will benefit the current generation and their childre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066680"/>
            <a:ext cx="7848720" cy="236232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What works? Interventions to affect maternal and child undernutrition and survival globally</a:t>
            </a:r>
            <a:br>
              <a:rPr sz="3600"/>
            </a:br>
            <a:r>
              <a:rPr b="0" lang="en-US" sz="3600" spc="-1" strike="noStrike">
                <a:solidFill>
                  <a:srgbClr val="000000"/>
                </a:solidFill>
                <a:latin typeface="Arial"/>
                <a:ea typeface="Times New Roman"/>
              </a:rPr>
              <a:t>Series Paper 3 of 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3733920"/>
            <a:ext cx="7772400" cy="2286000"/>
          </a:xfrm>
          <a:prstGeom prst="rect">
            <a:avLst/>
          </a:prstGeom>
          <a:solidFill>
            <a:srgbClr val="ffffff"/>
          </a:solidFill>
          <a:ln w="9360">
            <a:solidFill>
              <a:srgbClr val="000066"/>
            </a:solidFill>
            <a:miter/>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ternal &amp; Child Undernutrition Study Group</a:t>
            </a:r>
            <a:endParaRPr b="0" lang="en-US" sz="24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riting Team, Zulfiqar A. Bhutta, Tahmeed Ahmed, Robert E. Black, Simon Cousens, Kathryn Dewey, Elsa Giugliani, Batool A Haider, Betty Kirkwood, Saul S. Morris, HPS Sachdev, Meera Sheka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Key Mess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Effective interventions are available to reduce stunting, micronutrient deficiencies and child deaths. If implemented at scale, they would reduce the DALYs (all child deaths) a by about a quarter in the short te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mong the interventions reviewed, breastfeeding counseling and vitamin A and zinc fortification/supplementation have the greatest potential to reduce the burden of child morbidity and mort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06668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Evidence gap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523520"/>
            <a:ext cx="7772400" cy="4876920"/>
          </a:xfrm>
          <a:prstGeom prst="rect">
            <a:avLst/>
          </a:prstGeom>
          <a:solidFill>
            <a:srgbClr val="ffffff"/>
          </a:solidFill>
          <a:ln w="9360">
            <a:solidFill>
              <a:srgbClr val="000066"/>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finding of a lack of significant impact of nutrition interventions beyond 36 months has huge policy implications. We need large-scale studies to verify the resilience of stunting among children between 36-49 months age and beyond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ile the efficacy of preventive zinc supplementation is proven there is urgent need for studies of the effectiveness of a variety of zinc delivery strategies (fortification, supplementation and bio-fortification)</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Evidence gap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are few studies of community-based preventive and treatment strategies for severe acute malnutrition. Given its importance, these must be prioritized and done with robust experimental design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Evidence gap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is an urgent need for effectiveness evaluations of nutrition interventions in national health systems. These include both single and packaged interventions that affect general nutrient and micronutrient intake in women and children. The studies must evaluate the impact of interventions on stunting rates as well as weight g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ffffff"/>
          </a:solidFill>
          <a:ln w="9360">
            <a:solidFill>
              <a:srgbClr val="00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Evidence gap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ffffff"/>
          </a:solidFill>
          <a:ln w="9360">
            <a:solidFill>
              <a:srgbClr val="000066"/>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ew maternal nutrition interventions at scale have evaluated a wide range of outcomes. While promising, interventions targeting maternal macronutrient and micronutrient intake need to be evaluated with long-term tracking of impact on maternal and child health. In particular, there is a need for large scale evaluation of promising interventions with multiple micronutrients and calcium</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20:47:39Z</dcterms:created>
  <dc:creator>IAN DARNTON-HILL</dc:creator>
  <dc:description/>
  <dc:language>en-US</dc:language>
  <cp:lastModifiedBy>bcogill</cp:lastModifiedBy>
  <dcterms:modified xsi:type="dcterms:W3CDTF">2008-05-06T17:31:51Z</dcterms:modified>
  <cp:revision>6</cp:revision>
  <dc:subject/>
  <dc:title>Maternal and Child Undernutrition:   Consequences for Adult Health and Human Capital Series Paper 2 of 5 </dc:title>
</cp:coreProperties>
</file>