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115A-CB2B-45DC-8B80-EE3838133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HARE OUR EXPEREINCE/ USEFUL FOR COLLEA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ORK DONE UNDER EC FAO, FIVIMS, FANTA COL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4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OT GO INTO TECH DETAIL…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GO BACK TO CONCEPTUAL FRAME WHER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OLS FIT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WHY STARTED THI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CRIBE OUR APPROACH WHY WE CHOSE THES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HOW THE TOOLS : I WIIL SHOW DD THEN PASS TO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B FOR HF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ERRI ALSO SHOW SOME EXAMPLES OF ANALY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i WILL TALK ABOUT POTENTIAL USES AND PROSPECTS FOR USE AND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ANT TO DISCUSS THIS WITH AUDIENCE WHERE TOOLS USE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E52-AE81-43C1-B65B-22330B65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D98-18F5-4C2E-9B69-B9E8272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D69-81EE-42C1-8B2E-F2FE7D45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B3B-1C41-4E04-B2D6-753AF419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89F-9F37-4941-B31C-15DE5A5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CFF-D763-47E2-9D9B-02CA92D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060-20B2-4A38-B6D0-2432BCA3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B6F-CDAD-47EB-8BAB-77BFABC9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EE2-28CD-4D14-B98D-1C7B407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A47F-0E99-41B8-A9C7-CF2E8BF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D0F-D501-4383-8390-8A4F62FE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EFE-1193-40A8-8B54-B8BF9A6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7D20-30A9-41EE-8DFD-11E79BDF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44640"/>
            <a:ext cx="81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otential of food-based approaches integrating agriculture and nutrition for reducing child and maternal under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592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 Seminar Addressing child and maternal undernutr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y 7-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3716280"/>
            <a:ext cx="7561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e Claude D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 and Consumer protection Di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od and Agriculture Organization of the United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40360" y="5229360"/>
            <a:ext cx="1223640" cy="112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907920"/>
            <a:ext cx="8604000" cy="0"/>
          </a:xfrm>
          <a:prstGeom prst="line">
            <a:avLst/>
          </a:prstGeom>
          <a:ln cap="rnd" w="2844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 of the OFSP project on child vit. A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erum retinol decreased in intervention group from 60 to 3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of low SR remained the same in control sample (53%) although there was routine vit. A sup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2160" y="5151600"/>
            <a:ext cx="80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food-based approach complements</a:t>
            </a: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based sup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success of OFSP pro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gricultur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et potatoes already know in area (not orange varie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atile planting &amp; harves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ater, input or labour int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involved farmer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trition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 targeted to women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ergy with routine healt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and education component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dimension i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development strategy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mens’ key role in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are food producers, income earners and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’s income has more impact on child nutrition than m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competing demands on women’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4869000"/>
            <a:ext cx="6913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ventions can divert women from child ca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&gt; intervention package should include time saving technologies/components for wo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and M&amp;E of integrated agriculture-nutrition interven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ext causal analysis is needed for choosing intervention entr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involvement, gender dimension and nutrition education component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ols needed for monitoring nutrition impact , eg dietary divers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dicators needed to measure effectiv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line, intermediate, end-poin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en scope of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p/livelihood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genous foods/local bio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cale from experimental interventions to government owned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funding beyond experimental phase to improve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341360"/>
            <a:ext cx="7777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interventions, OFSP as a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’s key role in agri-nutrition interven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, monitoring and evaluati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 of food-based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 interventions with potential impact on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s for specific age groups*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ary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fortification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0560" y="560880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not in the scope of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are integrated agriculture and nutrition approaches relev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the world’s poor live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ral poor have low access to health and nutri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low access to centrally processed fortifi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diversification is key for ensuring intake of essential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agriculture-nutrition strategies have potential to become sus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agriculture interventions with potential nutrition outcomes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920" y="1268280"/>
            <a:ext cx="656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-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 an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and school gard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, f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livestock/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60" y="5373720"/>
            <a:ext cx="854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entions increase income or improve local availability of f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-based interventions for reducing vit. A de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669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and yellow/orange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green leafy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palm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-flesh sweet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 fr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nge-fleshed sweet potato project (Mozambique*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goal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vitamin A deficiency in young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food security of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armers’ access to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utriti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demand for O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stainability through 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9640" y="6165720"/>
            <a:ext cx="56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Low et al, 2006 ; OFSP symposium, Pretori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ies of the OFSP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6994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extension*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n produ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education, communication and demonstration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s of improved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educ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e demon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560" y="6087960"/>
            <a:ext cx="730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agriculture and nutrition extensionists working in tan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n education package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breastfeeding and complementary feeding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of vitamin A deficiency and vit. A rich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giene and foo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1400" y="5079960"/>
            <a:ext cx="62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rough radio messages (control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utrition education sessions (intervention grou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6:21:23Z</dcterms:created>
  <dc:creator>Ballard, Terri (AGNA)</dc:creator>
  <dc:description/>
  <dc:language>en-US</dc:language>
  <cp:lastModifiedBy>Dop, MarieClaude (AGNA)</cp:lastModifiedBy>
  <dcterms:modified xsi:type="dcterms:W3CDTF">2008-05-07T05:36:41Z</dcterms:modified>
  <cp:revision>150</cp:revision>
  <dc:subject/>
  <dc:title>BMI category by wealth</dc:title>
</cp:coreProperties>
</file>