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194-A52C-42B3-A147-F55E31456F2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3CE-6F80-4D83-B188-3A47801D96FF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EDA0-1DC9-4C10-9566-2038FF0C060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86C-ECF8-408B-BF0B-FD1FA2E63786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65A0-C09A-428C-B056-4D6E0E3927C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6579-10D1-44D0-8580-DE6066FFDC6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A046-7274-48AE-A363-AF979D13640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DD7F-45B2-45FD-8D78-DEF18C57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B353-E42C-4CF8-A39E-6923DFB1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8AFE-DF21-4F95-B456-775B04C5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7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5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07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5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BE85-0465-47EC-9D50-7FAFA484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3F3E-348B-4ED4-8118-49CC9E2B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A0C5-C300-472E-8482-C5644D5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B33E-459A-43B3-A791-89E3B294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6E76-1488-4B4C-BEBF-38968A4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4560" y="274680"/>
            <a:ext cx="78850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437D-6E98-454E-80F3-00F4B870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E382-ED8B-402F-B873-4E0BD8E0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9D92-5EF7-4BDB-A748-DE0F231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D38A-AB75-4C45-BBFF-24F1EC10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7280" y="188640"/>
            <a:ext cx="1297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706-A32D-4766-BF37-A0E1B3E059AE}" type="slidenum">
              <a:rPr b="0" lang="fr-BE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48880" y="6381720"/>
            <a:ext cx="1584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85A0-FB45-4A29-ABCB-31432BECFC06}" type="datetime">
              <a:rPr b="0" lang="fr-BE" sz="1200" spc="-1" strike="noStrike">
                <a:solidFill>
                  <a:srgbClr val="808080"/>
                </a:solidFill>
                <a:latin typeface="Tahoma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203640" y="6410160"/>
            <a:ext cx="3456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DG ECHO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6699"/>
                </a:solidFill>
                <a:latin typeface="Tahoma"/>
              </a:rPr>
              <a:t>Support to Nutrition Activities</a:t>
            </a:r>
            <a:endParaRPr b="0" lang="en-US" sz="4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Presentation for AIDCO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SEMINAR ON 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Brussels, 07&amp;08 May 2008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hallenges @ operational level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99640" y="105264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eed for improved and reliable knowledge for management of (mal)nutrition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expertise/training needs to be updated and enhanced notably for national and international experts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More technical assistance in Nutrition fields is required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utrition too often seen only as a sub-component of health, and not as a cross sector issue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od security is sometimes distracting attention from “Nutrition” issue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Way forward for the EC?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99640" y="1267920"/>
            <a:ext cx="7885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Fully integrating Nutrition also into EC development agenda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Reopening the debate on access to basic services (i.e. nutrition care) vs Human Rights (Right to food, nutrition care…)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Promoting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Tahoma"/>
              </a:rPr>
              <a:t>“Nutritional security</a:t>
            </a:r>
            <a:r>
              <a:rPr b="0" lang="en-US" sz="3200" spc="-1" strike="noStrike">
                <a:solidFill>
                  <a:srgbClr val="006699"/>
                </a:solidFill>
                <a:latin typeface="Tahoma"/>
              </a:rPr>
              <a:t>” as a way to complement health and food security.</a:t>
            </a: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850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9640" y="3068280"/>
            <a:ext cx="331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6699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900000" y="907920"/>
            <a:ext cx="78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had nut center"/>
          <p:cNvPicPr/>
          <p:nvPr/>
        </p:nvPicPr>
        <p:blipFill>
          <a:blip r:embed="rId1"/>
          <a:stretch/>
        </p:blipFill>
        <p:spPr>
          <a:xfrm>
            <a:off x="3708360" y="119700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635280" y="494172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In front of a nutrition centre - Ch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61760" y="5877720"/>
            <a:ext cx="420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Prepared by DG ECHO A4, food assistance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Lise-marie Le Quere /Stéphane Delpierre  (69.9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Arial"/>
              </a:rPr>
              <a:t>and DG ECHO Dakar team;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Humanitarian Aid 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34560" y="2349000"/>
            <a:ext cx="7885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assistance to victims of crises in countries outside the EU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Save and preserve life during emergencies and their immediate aftermath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Provide relief to people affected by longer-lasting crise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Protect the victims of fighting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Verdana"/>
              </a:rPr>
              <a:t>Carry out short-term rehabilitation and reconstruction work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Verdana"/>
              </a:rPr>
              <a:t>Ensure preparedness for natural disaster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92000" y="1125360"/>
            <a:ext cx="7956720" cy="119124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The Commission’s humanitarian mandate is found </a:t>
            </a:r>
            <a:r>
              <a:rPr b="0" lang="en-GB" sz="2400" spc="-1" strike="noStrike">
                <a:solidFill>
                  <a:srgbClr val="3399ff"/>
                </a:solidFill>
                <a:latin typeface="Verdana"/>
              </a:rPr>
              <a:t>in the Humanitarian Aid Regulation (Council Regulation 1257/96 of 20 June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66"/>
                </a:solidFill>
                <a:latin typeface="Tahoma"/>
              </a:rPr>
              <a:t>DG ECHO’s support to (mal)nutrition activities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34560" y="1413000"/>
            <a:ext cx="370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irect and indirect nutrition support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in 2007, DG ECHO activities in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"water &amp; sanitation", "disaster preparedness", "health", livelihood support, reintegration processes, economic reintegration, ..., "food", "nutrition“: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Total 576.998.771€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80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DG ECHO support to “nutrition” and “food only” in 2007: </a:t>
            </a:r>
            <a:r>
              <a:rPr b="1" lang="en-GB" sz="2000" spc="-1" strike="noStrike">
                <a:solidFill>
                  <a:srgbClr val="006699"/>
                </a:solidFill>
                <a:latin typeface="Tahoma"/>
              </a:rPr>
              <a:t>309.734.463€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Tahoma"/>
              </a:rPr>
              <a:t>(42% of total DG  ECHO’s operations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788000" y="429264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ourished child fed with Ready-To-Use-Therapeutic-Food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lumpy bis niger"/>
          <p:cNvPicPr/>
          <p:nvPr/>
        </p:nvPicPr>
        <p:blipFill>
          <a:blip r:embed="rId3"/>
          <a:stretch/>
        </p:blipFill>
        <p:spPr>
          <a:xfrm>
            <a:off x="4859280" y="126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859280" y="5229360"/>
            <a:ext cx="2808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</a:rPr>
              <a:t>Commission humanitaria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3 : €600.3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4 : €570.34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5 : €652.00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ding in 2006 : €671.00 mill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99ff"/>
                </a:solidFill>
                <a:latin typeface="Arial"/>
              </a:rPr>
              <a:t>budge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for 2007 : €722.26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SzPct val="1107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ahoma"/>
              </a:rPr>
              <a:t>DG ECHO has increased its support to nutrition-related projects over the past few years </a:t>
            </a: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5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60 contracts - € 46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6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57 contracts - € 47,5 Million 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,3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ahoma"/>
              </a:rPr>
              <a:t>2007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: 84 contracts - € 79,5 Million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7% of total DG ECHO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042920" y="1989000"/>
            <a:ext cx="77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food aid DRC again"/>
          <p:cNvPicPr/>
          <p:nvPr/>
        </p:nvPicPr>
        <p:blipFill>
          <a:blip r:embed="rId8"/>
          <a:stretch/>
        </p:blipFill>
        <p:spPr>
          <a:xfrm>
            <a:off x="6588000" y="1916280"/>
            <a:ext cx="23450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8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DG ECHO supported 35 partners for the implementation of 84 nutrition-related project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Main </a:t>
            </a:r>
            <a:r>
              <a:rPr b="1" lang="en-GB" sz="2800" spc="-1" strike="noStrike">
                <a:solidFill>
                  <a:srgbClr val="006699"/>
                </a:solidFill>
                <a:latin typeface="Tahoma"/>
              </a:rPr>
              <a:t>partners</a:t>
            </a: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: WFP, Action Contre la Faim (Fr, Spain), UNICEF, Red Cross (Fr, Spain, Bel), Coopi, Save the Children, 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19280" y="98100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99"/>
                </a:solidFill>
                <a:latin typeface="Tahoma"/>
                <a:ea typeface="Tahoma"/>
              </a:rPr>
              <a:t>Partners - 200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UAC - Myanmar"/>
          <p:cNvPicPr/>
          <p:nvPr/>
        </p:nvPicPr>
        <p:blipFill>
          <a:blip r:embed="rId3"/>
          <a:stretch/>
        </p:blipFill>
        <p:spPr>
          <a:xfrm>
            <a:off x="2771640" y="4005360"/>
            <a:ext cx="3097440" cy="232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2124000" y="6237360"/>
            <a:ext cx="40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6699"/>
                </a:solidFill>
                <a:latin typeface="Arial"/>
              </a:rPr>
              <a:t>Undernutrition assessment - Thai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572000" cy="39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4681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</a:rPr>
              <a:t>DG ECHO &amp; Nutri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4560" y="1196640"/>
            <a:ext cx="3924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0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8000" y="980640"/>
            <a:ext cx="38671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Types of nutrition activities funded by DG ECHO (mostly along the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Prevention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Treatment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of </a:t>
            </a:r>
            <a:r>
              <a:rPr b="0" lang="en-GB" sz="2000" spc="-1" strike="noStrike" u="sng">
                <a:solidFill>
                  <a:srgbClr val="006699"/>
                </a:solidFill>
                <a:uFillTx/>
                <a:latin typeface="Tahoma"/>
              </a:rPr>
              <a:t>acute</a:t>
            </a:r>
            <a:r>
              <a:rPr b="0" lang="en-GB" sz="2000" spc="-1" strike="noStrike">
                <a:solidFill>
                  <a:srgbClr val="006699"/>
                </a:solidFill>
                <a:latin typeface="Tahoma"/>
              </a:rPr>
              <a:t> malnutrition)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upplementary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herapeutic f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Tahoma"/>
              </a:rPr>
              <a:t>Community based feeding cen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al 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Nutrition Surveys, surveillance and monito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aining and local capacity buil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71" name="Picture 40" descr="preparing therapeutic milk niger"/>
          <p:cNvPicPr/>
          <p:nvPr/>
        </p:nvPicPr>
        <p:blipFill>
          <a:blip r:embed="rId8"/>
          <a:stretch/>
        </p:blipFill>
        <p:spPr>
          <a:xfrm>
            <a:off x="1332000" y="105264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4"/>
          <p:cNvSpPr/>
          <p:nvPr/>
        </p:nvSpPr>
        <p:spPr>
          <a:xfrm>
            <a:off x="971640" y="3500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6699"/>
                </a:solidFill>
                <a:latin typeface="Arial"/>
              </a:rPr>
              <a:t>Preparation of therapeutic milk - Ni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900000" y="64911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Malnutrition figures</a:t>
            </a:r>
            <a:br>
              <a:rPr sz="2800"/>
            </a:br>
            <a:r>
              <a:rPr b="1" lang="en-GB" sz="1600" spc="-1" strike="noStrike">
                <a:solidFill>
                  <a:srgbClr val="003366"/>
                </a:solidFill>
                <a:latin typeface="Tahoma"/>
              </a:rPr>
              <a:t>UNICEF (State of the World’s children 2008)</a:t>
            </a:r>
            <a:endParaRPr b="1" lang="en-US" sz="1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7669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Countries with highest % of U5 moderate and severe wasting*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99"/>
                </a:solidFill>
                <a:latin typeface="Tahoma"/>
              </a:rPr>
              <a:t>(2000-2006)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7416720" cy="4316400"/>
        </p:xfrm>
        <a:graphic>
          <a:graphicData uri="http://schemas.openxmlformats.org/drawingml/2006/table">
            <a:tbl>
              <a:tblPr/>
              <a:tblGrid>
                <a:gridCol w="3710160"/>
                <a:gridCol w="3706560"/>
              </a:tblGrid>
              <a:tr h="43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urkina Faso: 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jibouti: 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India: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udan: 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Lao People's Dem.Rep: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Central African Republic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ius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Sri Lanka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ogo: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Bangladesh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DRC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ritre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dagascar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ldives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Mauritania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epal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Pakistan: 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Timor Leste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Yemen: 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Ethiop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Guyan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6699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omalia: 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- Niger: 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467"/>
          <p:cNvSpPr/>
          <p:nvPr/>
        </p:nvSpPr>
        <p:spPr>
          <a:xfrm>
            <a:off x="1259640" y="6237360"/>
            <a:ext cx="53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99"/>
                </a:solidFill>
                <a:latin typeface="Arial"/>
              </a:rPr>
              <a:t>* below minus 2 standard deviations from median weight for height of reference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Nutrition challenges ahead?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00000" y="1888920"/>
            <a:ext cx="7315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High and sustained acute malnutrition rates for under-five children causes half of their mortality (e.g. estimated in Sahel at 300,000 a year)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 MDG1 and MDG4 completion and no perspective of medium term improvemen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Prevention and treatment of (acute and chronic) under/mal-nutrition for children under 5 and mothers too low on the EC agenda.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755640" y="1125360"/>
            <a:ext cx="7885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3366"/>
                </a:solidFill>
                <a:latin typeface="Tahoma"/>
                <a:ea typeface="Tahoma"/>
              </a:rPr>
              <a:t>At poli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00:28Z</dcterms:created>
  <dc:creator>Kax</dc:creator>
  <dc:description/>
  <dc:language>en-US</dc:language>
  <cp:lastModifiedBy>SDILN</cp:lastModifiedBy>
  <dcterms:modified xsi:type="dcterms:W3CDTF">2008-05-07T06:49:56Z</dcterms:modified>
  <cp:revision>43</cp:revision>
  <dc:subject/>
  <dc:title>Diapositive 1</dc:title>
</cp:coreProperties>
</file>