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20EC-28D3-41AF-A2BC-6E2907EF8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HARE OUR EXPEREINCE/ USEFUL FOR 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ORK DONE UNDER EC FAO, FIVIMS, FANTA COL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T GO INTO TECH DETAIL…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GO BACK TO CONCEPTUAL FRAME WHER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OLS FI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WHY STARTED THI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CRIBE OUR APPROACH WHY WE CHOSE THES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W THE TOOLS : I WIIL SHOW DD THEN PASS TO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B FOR HF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RRI ALSO SHOW SOME EXAMPLES OF ANALY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i WILL TALK ABOUT POTENTIAL USES AND PROSPECTS FOR USE AND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ANT TO DISCUSS THIS WITH AUDIENCE WHERE TOOLS USE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613-06D6-4295-A90A-D5F60B47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E8D-8585-4111-9012-4929D7B2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7DE-A080-48EA-AD10-8FE6DBF9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E18-F41E-4858-8EDB-F6DD6DEC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E6C-10E3-4C2F-852E-F8171809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5A2-657D-4D7A-AED1-EF75C550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7B2-C8BC-4538-A81F-91A6489A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321-D816-43C6-9C38-61A6977E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F04-E05F-476E-8FC3-1F56AF1F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1F9-FAE5-4420-A6DA-E5C5946E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160-D8BC-469B-A20A-5696D356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68A-7927-4697-8922-82AC00C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D5CE-414C-4196-9CC1-635329784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4464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otential of food-based approaches integrating agriculture and nutrition for reducing child and maternal under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592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 Seminar Addressing child and maternal undernutr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y 7-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6280"/>
            <a:ext cx="7561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e Claude D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 and Consumer protection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and Agriculture Organization of the 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5229360"/>
            <a:ext cx="1223640" cy="112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907920"/>
            <a:ext cx="8604000" cy="0"/>
          </a:xfrm>
          <a:prstGeom prst="line">
            <a:avLst/>
          </a:prstGeom>
          <a:ln cap="rnd" w="2844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 of the OFSP project on child vit. A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of low serum retinol decreased in intervention group from 60 to 3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of low SR remained the same in control sample (53%) although there was routine vit. A sup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2160" y="5151600"/>
            <a:ext cx="80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food-based approach complements</a:t>
            </a: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based sup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success of OFSP pro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gricultur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t potatoes already know in area (not orange vari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atile planting &amp; harves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ater, input or labour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 involved farm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utrition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 targeted to women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ergy with routine healt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and education component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dimension is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development strategy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mens’ key role in integrated agriculture-nutrition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are food producers, income earners and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’s income has more impact on child nutrition than m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competing demands on women’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4869000"/>
            <a:ext cx="6913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ventions can divert women from child ca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=&gt; intervention package should include time saving technologies/components for wo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and M&amp;E of integrated agriculture-nutrition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ext causal analysis is needed for choosing intervention entr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involvement, gender dimension and nutrition education componen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ols needed for monitoring nutrition impact , eg dietary diversit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ndicators needed to measure effectiv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, intermediate, end-poin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spects an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n scope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ary di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p/livelihood di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foods/local biod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cale from experimental interventions to government owned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funding beyond experimental phase to improve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1360"/>
            <a:ext cx="7777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griculture-nutrition interventions, OFSP as a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’s key role in agri-nutrition interven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, monitoring and evaluation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 of food-based appro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interventions with potential impact on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s for specific age groups*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ortification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0560" y="5608800"/>
            <a:ext cx="51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ot in the scope of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are integrated agriculture and nutrition approaches relev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the world’s poor live in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ral poor have low access to health and nutri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low access to centrally processed fortifi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diversification is key for ensuring intake of essential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griculture-nutrition strategies have potential to become sus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agriculture interventions with potential nutrition outcomes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920" y="1268280"/>
            <a:ext cx="656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-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 an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and school 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,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livestock/g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60" y="5373720"/>
            <a:ext cx="854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entions increase income or improve local availability of f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-based interventions for reducing vit. A de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669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and yellow/orange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green leafy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alm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-flesh sweet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ange-fleshed sweet potato project (Mozambique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goal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vitamin A deficiency in young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food security of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armers’ access to O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utritio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emand for O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stainability through mark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9640" y="6165720"/>
            <a:ext cx="56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Low et al, 2006 ; OFSP symposium, Pretori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ities of the OFSP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6994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extension*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n produ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education, communication and demonstration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of improve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educ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e demon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560" y="6087960"/>
            <a:ext cx="73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agriculture and nutrition extensionists working in tan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education package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breastfeeding and complementary feed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vitamin A deficiency and vit. A rich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giene and food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1400" y="5079960"/>
            <a:ext cx="62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rough radio messages (control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utrition education sessions (intervention 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6:21:23Z</dcterms:created>
  <dc:creator>Ballard, Terri (AGNA)</dc:creator>
  <dc:description/>
  <dc:language>en-US</dc:language>
  <cp:lastModifiedBy>Dop, MarieClaude (AGNA)</cp:lastModifiedBy>
  <dcterms:modified xsi:type="dcterms:W3CDTF">2008-05-07T05:36:41Z</dcterms:modified>
  <cp:revision>150</cp:revision>
  <dc:subject/>
  <dc:title>BMI category by wealth</dc:title>
</cp:coreProperties>
</file>