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F09-9CC7-43D0-A1F1-0B3C179A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8A2-3E60-47BA-8D36-B469C67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AFE-2D3F-4D77-BDF5-72B462AD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37C-EACD-4FAD-B5B4-7E1637C1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ACD-4891-439F-BBAA-7D7325CD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FF0-C443-4C1B-9032-8B68B382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139-3AD4-4F6E-8B69-DA3908D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330-4769-4411-BD87-10036BE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24A-1476-4DD3-80E4-216EF932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768-E9BC-4F3A-AE60-FFBFDCE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921-A557-429B-A7EF-981DA90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E9C-3493-4942-8129-41FBE57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9434-CEF6-4DB1-9120-3A59CAFD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eater DFID and EC Leadership 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ducing `Undernutrition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and Constra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Sum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anna Lindst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Had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762120" y="1676520"/>
          <a:ext cx="754380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76520"/>
                    <a:ext cx="7543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9"/>
          <p:cNvSpPr/>
          <p:nvPr/>
        </p:nvSpPr>
        <p:spPr>
          <a:xfrm>
            <a:off x="611280" y="476280"/>
            <a:ext cx="8137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H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380880" y="1600200"/>
          <a:ext cx="8305920" cy="41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0592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Country Off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5"/>
          <p:cNvGraphicFramePr/>
          <p:nvPr/>
        </p:nvGraphicFramePr>
        <p:xfrm>
          <a:off x="549360" y="1868400"/>
          <a:ext cx="8205840" cy="31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9360" y="1868400"/>
                    <a:ext cx="820584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15840" y="2050920"/>
          <a:ext cx="7675560" cy="20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2050920"/>
                    <a:ext cx="7675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shapes the possibility for higher prioritis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-- weak institutional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nutrition indicators in reporting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e of chronic malnutrition-silent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--lack of a simpl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ilver bullets (or easily fired silver bull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bility to claim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resonance with current policy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edicated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w invisible nutrition cham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Do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790560"/>
            <a:ext cx="83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underweight as indicator for MD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pportunities in new health, gender and education strategies to embed 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nutrition indicators to highlight poor 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trition audit of indirect nutrition s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nutrition surveys to name and sh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on political, governance and institutional dimensions of nutr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oint a nutrition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 nutri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the S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Northern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by on nutrition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with parliamentary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sure DFID for “Stern Report” on malnutr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hasise MDGs that are lagging are most reliant on good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governance and nutritio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 up domestic child support agenda and international child malnutrition ag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to co-fund a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portunities for 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world food 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iculture back in from the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cet 2008 special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protection agenda and C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mate and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artImage" descr="04_11_2007_015_006"/>
          <p:cNvPicPr/>
          <p:nvPr/>
        </p:nvPicPr>
        <p:blipFill>
          <a:blip r:embed="rId1"/>
          <a:stretch/>
        </p:blipFill>
        <p:spPr>
          <a:xfrm>
            <a:off x="2000160" y="1500120"/>
            <a:ext cx="5429520" cy="7385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071720" y="35712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riti Vadera mentions nutrition 4 times in a short interview with the Hindustan Times, Nov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71424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nutrition thinking desperately needs a development perspective—neither health nor agriculture sectors have made it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re political, institutional, policy process analyses needed to driv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make explicit links to the governanc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new graduate programmes stressing connections and the politics of undernutr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me optimism that the context is becoming more receptive to changed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is it not higher on development age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al for the MDGs, esp those that are lagging--mortality, morbidity, learning,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cator of poor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goods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alytica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6"/>
          <p:cNvGraphicFramePr/>
          <p:nvPr/>
        </p:nvGraphicFramePr>
        <p:xfrm>
          <a:off x="219240" y="1066680"/>
          <a:ext cx="8619840" cy="456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066680"/>
                    <a:ext cx="861984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Collec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commit to: analysi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documents (40) (substan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eches  (80) (word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s releases (400) (word cou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do: CRS expenditur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think: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 DFID (12 HQ, PRD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 EC (10 HQ, DG Dev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: Mentions of 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188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peeches (from Jan 200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5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ress releases (from Jan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olicy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G8 2005 and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 in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DFID Social transfers and chronic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European Consensus 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 to Nutri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SPs and C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ghanistan: PRSP (medium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ngladesh: PRSP (high), DFID (medium to hig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iopia: PRSP (medium), DFID (hi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geria: PRSP (low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dan: no PRSP, DFID (uncl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imbabwe: no PRSP, DFID 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wo types of nutritio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ronutrient sup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al productivity 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men’s empowe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water and sanitai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468360" y="1214280"/>
          <a:ext cx="8229600" cy="487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14280"/>
                    <a:ext cx="822960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684360" y="404640"/>
            <a:ext cx="7991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2:11:50Z</dcterms:created>
  <dc:creator>lawrence</dc:creator>
  <dc:description/>
  <dc:language>en-US</dc:language>
  <cp:lastModifiedBy>user</cp:lastModifiedBy>
  <dcterms:modified xsi:type="dcterms:W3CDTF">2008-05-08T06:29:21Z</dcterms:modified>
  <cp:revision>18</cp:revision>
  <dc:subject/>
  <dc:title>Greater DFID and EC Leadership on Chronic Malnutrition: Opportunities and Constraints</dc:title>
</cp:coreProperties>
</file>