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13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4.png" ContentType="image/png"/>
  <Override PartName="/ppt/media/image12.wmf" ContentType="image/x-wmf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4E66-9ADD-47DB-AB47-A128BCCD3121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DF89-DDC8-442C-8A5D-13D0F94D28B3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0034-EF0A-4272-901A-F8A462232558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FF40-E4D1-4760-B83F-9BF47CA6A1B8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E2BD-550C-4722-A7B3-91BC80713CD5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2944-E5FE-4178-820F-6E64BCA67C9D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E1BF-73D0-4D89-83ED-C86DF208E3FA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3091C-3B31-454D-912C-A027D21DD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34560" y="1197000"/>
            <a:ext cx="78850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34560" y="3792240"/>
            <a:ext cx="78850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F2975-EB91-4C8B-BBB4-9540266F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34560" y="1197000"/>
            <a:ext cx="3847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4840" y="1197000"/>
            <a:ext cx="3847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34560" y="3792240"/>
            <a:ext cx="3847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4840" y="3792240"/>
            <a:ext cx="3847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8E388-7692-4FA2-A948-CFCF4E060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34560" y="1197000"/>
            <a:ext cx="2538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00720" y="1197000"/>
            <a:ext cx="2538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6520" y="1197000"/>
            <a:ext cx="2538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34560" y="3792240"/>
            <a:ext cx="2538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00720" y="3792240"/>
            <a:ext cx="2538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6520" y="3792240"/>
            <a:ext cx="2538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85996-D6CA-49C3-B5CB-39238526F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34560" y="1197000"/>
            <a:ext cx="78850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C4A0F-3C21-4CE0-BF4C-61A02CA1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34560" y="1197000"/>
            <a:ext cx="7885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649EE-6A2E-457F-8BC8-D8478B6E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34560" y="1197000"/>
            <a:ext cx="3847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4840" y="1197000"/>
            <a:ext cx="3847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CF141-CC94-4341-92E4-E02C60A2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1FDAF-31C0-44B3-9A46-A243F380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4560" y="274680"/>
            <a:ext cx="788508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B4268-DE9D-4632-BDE7-617E9B70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34560" y="1197000"/>
            <a:ext cx="3847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4840" y="1197000"/>
            <a:ext cx="3847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34560" y="3792240"/>
            <a:ext cx="3847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49372-30ED-4575-B9C0-4D37D73B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34560" y="1197000"/>
            <a:ext cx="3847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4840" y="1197000"/>
            <a:ext cx="3847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4840" y="3792240"/>
            <a:ext cx="3847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23C52-B3BE-486F-A8F4-F7DF062F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34560" y="1197000"/>
            <a:ext cx="3847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4840" y="1197000"/>
            <a:ext cx="3847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34560" y="3792240"/>
            <a:ext cx="78850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B9F04-B87B-4E21-ABA5-05C2BC3A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67280" y="188640"/>
            <a:ext cx="129708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66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9ED4-C0B7-4559-8019-AFFF48C3E096}" type="slidenum">
              <a:rPr b="0" lang="fr-BE" sz="1400" spc="-1" strike="noStrike">
                <a:solidFill>
                  <a:srgbClr val="0066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34560" y="1197000"/>
            <a:ext cx="7885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848880" y="6381720"/>
            <a:ext cx="158436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8067-92FE-44D2-BBEC-0CDF1C995429}" type="datetime">
              <a:rPr b="0" lang="fr-BE" sz="1200" spc="-1" strike="noStrike">
                <a:solidFill>
                  <a:srgbClr val="808080"/>
                </a:solidFill>
                <a:latin typeface="Tahoma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203640" y="6410160"/>
            <a:ext cx="3456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34560" y="1197000"/>
            <a:ext cx="7885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800" spc="-1" strike="noStrike">
                <a:solidFill>
                  <a:srgbClr val="006699"/>
                </a:solidFill>
                <a:latin typeface="Tahoma"/>
              </a:rPr>
              <a:t>DG ECHO</a:t>
            </a:r>
            <a:endParaRPr b="0" lang="en-US" sz="4800" spc="-1" strike="noStrike">
              <a:solidFill>
                <a:srgbClr val="006699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800" spc="-1" strike="noStrike">
                <a:solidFill>
                  <a:srgbClr val="006699"/>
                </a:solidFill>
                <a:latin typeface="Tahoma"/>
              </a:rPr>
              <a:t>Support to Nutrition Activities</a:t>
            </a:r>
            <a:endParaRPr b="0" lang="en-US" sz="4800" spc="-1" strike="noStrike">
              <a:solidFill>
                <a:srgbClr val="0066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6699"/>
                </a:solidFill>
                <a:latin typeface="Tahoma"/>
              </a:rPr>
              <a:t>Presentation for AIDCO 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6699"/>
                </a:solidFill>
                <a:latin typeface="Tahoma"/>
              </a:rPr>
              <a:t>SEMINAR ON NUTRITION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6699"/>
                </a:solidFill>
                <a:latin typeface="Tahoma"/>
              </a:rPr>
              <a:t>Brussels, 07&amp;08 May 2008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Challenges @ operational level</a:t>
            </a: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899640" y="1052640"/>
            <a:ext cx="7885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Need for improved and reliable knowledge for management of (mal)nutrition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Nutrition expertise/training needs to be updated and enhanced notably for national and international experts.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More technical assistance in Nutrition fields is required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Nutrition too often seen only as a sub-component of health, and not as a cross sector issue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Food security is sometimes distracting attention from “Nutrition” issues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Way forward for the EC? </a:t>
            </a: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99640" y="1267920"/>
            <a:ext cx="78850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ahoma"/>
              </a:rPr>
              <a:t>Fully integrating Nutrition also into EC development agenda</a:t>
            </a:r>
            <a:endParaRPr b="0" lang="en-US" sz="3200" spc="-1" strike="noStrike">
              <a:solidFill>
                <a:srgbClr val="006699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ahoma"/>
              </a:rPr>
              <a:t>Reopening the debate on access to basic services (i.e. nutrition care) vs Human Rights (Right to food, nutrition care…)</a:t>
            </a:r>
            <a:endParaRPr b="0" lang="en-US" sz="3200" spc="-1" strike="noStrike">
              <a:solidFill>
                <a:srgbClr val="006699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ahoma"/>
              </a:rPr>
              <a:t>Promoting </a:t>
            </a:r>
            <a:r>
              <a:rPr b="0" lang="en-US" sz="3200" spc="-1" strike="noStrike" u="sng">
                <a:solidFill>
                  <a:srgbClr val="006699"/>
                </a:solidFill>
                <a:uFillTx/>
                <a:latin typeface="Tahoma"/>
              </a:rPr>
              <a:t>“Nutritional security</a:t>
            </a:r>
            <a:r>
              <a:rPr b="0" lang="en-US" sz="3200" spc="-1" strike="noStrike">
                <a:solidFill>
                  <a:srgbClr val="006699"/>
                </a:solidFill>
                <a:latin typeface="Tahoma"/>
              </a:rPr>
              <a:t>” as a way to complement health and food security.</a:t>
            </a:r>
            <a:endParaRPr b="0" lang="en-US" sz="3200" spc="-1" strike="noStrike">
              <a:solidFill>
                <a:srgbClr val="006699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88508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3366"/>
                </a:solidFill>
                <a:latin typeface="Tahoma"/>
              </a:rPr>
              <a:t>ECHO &amp; Nutrition</a:t>
            </a: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99640" y="3068280"/>
            <a:ext cx="33116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6699"/>
                </a:solidFill>
                <a:latin typeface="Tahoma"/>
              </a:rPr>
              <a:t>THANK YOU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900000" y="907920"/>
            <a:ext cx="788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Chad nut center"/>
          <p:cNvPicPr/>
          <p:nvPr/>
        </p:nvPicPr>
        <p:blipFill>
          <a:blip r:embed="rId1"/>
          <a:stretch/>
        </p:blipFill>
        <p:spPr>
          <a:xfrm>
            <a:off x="3708360" y="1197000"/>
            <a:ext cx="4753080" cy="35654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3635280" y="4941720"/>
            <a:ext cx="39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006699"/>
                </a:solidFill>
                <a:latin typeface="Arial"/>
              </a:rPr>
              <a:t>In front of a nutrition centre - Ch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61760" y="5877720"/>
            <a:ext cx="4208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400" spc="-1" strike="noStrike">
                <a:solidFill>
                  <a:srgbClr val="000000"/>
                </a:solidFill>
                <a:latin typeface="Arial"/>
              </a:rPr>
              <a:t>Prepared by DG ECHO A4, food assistance 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400" spc="-1" strike="noStrike">
                <a:solidFill>
                  <a:srgbClr val="000000"/>
                </a:solidFill>
                <a:latin typeface="Arial"/>
              </a:rPr>
              <a:t>Lise-marie Le Quere /Stéphane Delpierre  (69.90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400" spc="-1" strike="noStrike">
                <a:solidFill>
                  <a:srgbClr val="000000"/>
                </a:solidFill>
                <a:latin typeface="Arial"/>
              </a:rPr>
              <a:t>and DG ECHO Dakar team; 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3366"/>
                </a:solidFill>
                <a:latin typeface="Tahoma"/>
              </a:rPr>
              <a:t>Humanitarian Aid </a:t>
            </a: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34560" y="2349000"/>
            <a:ext cx="7885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99ff"/>
                </a:solidFill>
                <a:latin typeface="Verdana"/>
              </a:rPr>
              <a:t>Provide assistance to victims of crises in countries outside the EU</a:t>
            </a: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Verdana"/>
              </a:rPr>
              <a:t>Save and preserve life during emergencies and their immediate aftermath</a:t>
            </a: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99ff"/>
                </a:solidFill>
                <a:latin typeface="Verdana"/>
              </a:rPr>
              <a:t>Provide relief to people affected by longer-lasting crises</a:t>
            </a: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Verdana"/>
              </a:rPr>
              <a:t>Protect the victims of fighting</a:t>
            </a: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99ff"/>
                </a:solidFill>
                <a:latin typeface="Verdana"/>
              </a:rPr>
              <a:t>Carry out short-term rehabilitation and reconstruction work</a:t>
            </a: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Verdana"/>
              </a:rPr>
              <a:t>Ensure preparedness for natural disasters</a:t>
            </a: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792000" y="1125360"/>
            <a:ext cx="7956720" cy="119124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ff"/>
                </a:solidFill>
                <a:latin typeface="Verdana"/>
              </a:rPr>
              <a:t>The Commission’s humanitarian mandate is found </a:t>
            </a:r>
            <a:r>
              <a:rPr b="0" lang="en-GB" sz="2400" spc="-1" strike="noStrike">
                <a:solidFill>
                  <a:srgbClr val="3399ff"/>
                </a:solidFill>
                <a:latin typeface="Verdana"/>
              </a:rPr>
              <a:t>in the Humanitarian Aid Regulation (Council Regulation 1257/96 of 20 June 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3366"/>
                </a:solidFill>
                <a:latin typeface="Tahoma"/>
              </a:rPr>
              <a:t>DG ECHO’s support to (mal)nutrition activities</a:t>
            </a:r>
            <a:endParaRPr b="1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34560" y="1413000"/>
            <a:ext cx="3708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Tahoma"/>
              </a:rPr>
              <a:t>Direct and indirect nutrition support </a:t>
            </a: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Tahoma"/>
              </a:rPr>
              <a:t>in 2007, DG ECHO activities in </a:t>
            </a: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"water &amp; sanitation", "disaster preparedness", "health", livelihood support, reintegration processes, economic reintegration, ..., "food", "nutrition“: </a:t>
            </a: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Total 576.998.771€ </a:t>
            </a: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Tahoma"/>
              </a:rPr>
              <a:t>(80% of total DG  ECHO’s operations)</a:t>
            </a:r>
            <a:endParaRPr b="0" lang="en-US" sz="1600" spc="-1" strike="noStrike">
              <a:solidFill>
                <a:srgbClr val="0066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Tahoma"/>
              </a:rPr>
              <a:t>DG ECHO support to “nutrition” and “food only” in 2007: </a:t>
            </a: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309.734.463€</a:t>
            </a: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Tahoma"/>
              </a:rPr>
              <a:t>(42% of total DG  ECHO’s operations)</a:t>
            </a:r>
            <a:endParaRPr b="0" lang="en-US" sz="1600" spc="-1" strike="noStrike">
              <a:solidFill>
                <a:srgbClr val="0066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4788000" y="4292640"/>
            <a:ext cx="40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006699"/>
                </a:solidFill>
                <a:latin typeface="Arial"/>
              </a:rPr>
              <a:t>Undernourished child fed with Ready-To-Use-Therapeutic-Food - Ni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plumpy bis niger"/>
          <p:cNvPicPr/>
          <p:nvPr/>
        </p:nvPicPr>
        <p:blipFill>
          <a:blip r:embed="rId3"/>
          <a:stretch/>
        </p:blipFill>
        <p:spPr>
          <a:xfrm>
            <a:off x="4859280" y="1268280"/>
            <a:ext cx="4032360" cy="30243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7"/>
          <p:cNvSpPr/>
          <p:nvPr/>
        </p:nvSpPr>
        <p:spPr>
          <a:xfrm>
            <a:off x="4859280" y="5229360"/>
            <a:ext cx="2808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cc00"/>
                </a:solidFill>
                <a:latin typeface="Arial"/>
              </a:rPr>
              <a:t>Commission humanitarian a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unding in 2003 : €600.30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unding in 2004 : €570.34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unding in 2005 : €652.00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unding in 2006 : €671.00 mill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99ff"/>
                </a:solidFill>
                <a:latin typeface="Arial"/>
              </a:rPr>
              <a:t>budget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for 2007 : €722.26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DG ECHO &amp; Nutrition</a:t>
            </a: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7885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SzPct val="1107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Tahoma"/>
              </a:rPr>
              <a:t>DG ECHO has increased its support to nutrition-related projects over the past few years </a:t>
            </a:r>
            <a:endParaRPr b="0" lang="en-US" sz="2600" spc="-1" strike="noStrike">
              <a:solidFill>
                <a:srgbClr val="006699"/>
              </a:solidFill>
              <a:latin typeface="Tahoma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ahoma"/>
              </a:rPr>
              <a:t>2005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: 60 contracts - € 46 Million </a:t>
            </a:r>
            <a:endParaRPr b="0" lang="en-US" sz="2400" spc="-1" strike="noStrike">
              <a:solidFill>
                <a:srgbClr val="006699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,7% of total DG ECHO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ahoma"/>
              </a:rPr>
              <a:t>2006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: 57 contracts - € 47,5 Million </a:t>
            </a:r>
            <a:endParaRPr b="0" lang="en-US" sz="2400" spc="-1" strike="noStrike">
              <a:solidFill>
                <a:srgbClr val="006699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,3% of total DG ECHO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ahoma"/>
              </a:rPr>
              <a:t>2007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: 84 contracts - € 79,5 Million</a:t>
            </a:r>
            <a:endParaRPr b="0" lang="en-US" sz="2400" spc="-1" strike="noStrike">
              <a:solidFill>
                <a:srgbClr val="006699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,7% of total DG ECHO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1042920" y="1989000"/>
            <a:ext cx="77058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0" descr="food aid DRC again"/>
          <p:cNvPicPr/>
          <p:nvPr/>
        </p:nvPicPr>
        <p:blipFill>
          <a:blip r:embed="rId8"/>
          <a:stretch/>
        </p:blipFill>
        <p:spPr>
          <a:xfrm>
            <a:off x="6588000" y="1916280"/>
            <a:ext cx="234504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3366"/>
                </a:solidFill>
                <a:latin typeface="Tahoma"/>
              </a:rPr>
              <a:t>DG ECHO &amp; Nutrition</a:t>
            </a: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7885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Tahoma"/>
              </a:rPr>
              <a:t>DG ECHO supported 35 partners for the implementation of 84 nutrition-related projects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66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Tahoma"/>
              </a:rPr>
              <a:t>Main </a:t>
            </a:r>
            <a:r>
              <a:rPr b="1" lang="en-GB" sz="2800" spc="-1" strike="noStrike">
                <a:solidFill>
                  <a:srgbClr val="006699"/>
                </a:solidFill>
                <a:latin typeface="Tahoma"/>
              </a:rPr>
              <a:t>partners</a:t>
            </a:r>
            <a:r>
              <a:rPr b="0" lang="en-GB" sz="2800" spc="-1" strike="noStrike">
                <a:solidFill>
                  <a:srgbClr val="006699"/>
                </a:solidFill>
                <a:latin typeface="Tahoma"/>
              </a:rPr>
              <a:t>: WFP, Action Contre la Faim (Fr, Spain), UNICEF, Red Cross (Fr, Spain, Bel), Coopi, Save the Children, 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619280" y="981000"/>
            <a:ext cx="6337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6699"/>
                </a:solidFill>
                <a:latin typeface="Tahoma"/>
                <a:ea typeface="Tahoma"/>
              </a:rPr>
              <a:t>Partners - 2007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MUAC - Myanmar"/>
          <p:cNvPicPr/>
          <p:nvPr/>
        </p:nvPicPr>
        <p:blipFill>
          <a:blip r:embed="rId3"/>
          <a:stretch/>
        </p:blipFill>
        <p:spPr>
          <a:xfrm>
            <a:off x="2771640" y="4005360"/>
            <a:ext cx="3097440" cy="2322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2124000" y="6237360"/>
            <a:ext cx="40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006699"/>
                </a:solidFill>
                <a:latin typeface="Arial"/>
              </a:rPr>
              <a:t>Undernutrition assessment - Thai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2" descr=""/>
          <p:cNvPicPr/>
          <p:nvPr/>
        </p:nvPicPr>
        <p:blipFill>
          <a:blip r:embed="rId1"/>
          <a:stretch/>
        </p:blipFill>
        <p:spPr>
          <a:xfrm>
            <a:off x="4572000" y="981000"/>
            <a:ext cx="4572000" cy="3960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"/>
          <p:cNvPicPr/>
          <p:nvPr/>
        </p:nvPicPr>
        <p:blipFill>
          <a:blip r:embed="rId2"/>
          <a:stretch/>
        </p:blipFill>
        <p:spPr>
          <a:xfrm>
            <a:off x="755640" y="1341360"/>
            <a:ext cx="468144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3366"/>
                </a:solidFill>
                <a:latin typeface="Tahoma"/>
              </a:rPr>
              <a:t>DG ECHO &amp; Nutrition</a:t>
            </a: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34560" y="1196640"/>
            <a:ext cx="392436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20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8000" y="980640"/>
            <a:ext cx="38671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Tahoma"/>
              </a:rPr>
              <a:t>Types of nutrition activities funded by DG ECHO (mostly along the </a:t>
            </a:r>
            <a:r>
              <a:rPr b="0" lang="en-GB" sz="2000" spc="-1" strike="noStrike" u="sng">
                <a:solidFill>
                  <a:srgbClr val="006699"/>
                </a:solidFill>
                <a:uFillTx/>
                <a:latin typeface="Tahoma"/>
              </a:rPr>
              <a:t>Prevention</a:t>
            </a:r>
            <a:r>
              <a:rPr b="0" lang="en-GB" sz="2000" spc="-1" strike="noStrike">
                <a:solidFill>
                  <a:srgbClr val="006699"/>
                </a:solidFill>
                <a:latin typeface="Tahoma"/>
              </a:rPr>
              <a:t> and </a:t>
            </a:r>
            <a:r>
              <a:rPr b="0" lang="en-GB" sz="2000" spc="-1" strike="noStrike" u="sng">
                <a:solidFill>
                  <a:srgbClr val="006699"/>
                </a:solidFill>
                <a:uFillTx/>
                <a:latin typeface="Tahoma"/>
              </a:rPr>
              <a:t>Treatment</a:t>
            </a:r>
            <a:r>
              <a:rPr b="0" lang="en-GB" sz="2000" spc="-1" strike="noStrike">
                <a:solidFill>
                  <a:srgbClr val="006699"/>
                </a:solidFill>
                <a:latin typeface="Tahoma"/>
              </a:rPr>
              <a:t> of </a:t>
            </a:r>
            <a:r>
              <a:rPr b="0" lang="en-GB" sz="2000" spc="-1" strike="noStrike" u="sng">
                <a:solidFill>
                  <a:srgbClr val="006699"/>
                </a:solidFill>
                <a:uFillTx/>
                <a:latin typeface="Tahoma"/>
              </a:rPr>
              <a:t>acute</a:t>
            </a:r>
            <a:r>
              <a:rPr b="0" lang="en-GB" sz="2000" spc="-1" strike="noStrike">
                <a:solidFill>
                  <a:srgbClr val="006699"/>
                </a:solidFill>
                <a:latin typeface="Tahoma"/>
              </a:rPr>
              <a:t> malnutrition)</a:t>
            </a: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372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Supplementary fee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Therapeutic fee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3723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000000"/>
                </a:solidFill>
                <a:latin typeface="Tahoma"/>
              </a:rPr>
              <a:t>Community based feeding cent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Nutritional 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Nutrition Surveys, surveillance and monito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Training and local capacity buil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ahoma"/>
            </a:endParaRPr>
          </a:p>
        </p:txBody>
      </p:sp>
      <p:pic>
        <p:nvPicPr>
          <p:cNvPr id="71" name="Picture 40" descr="preparing therapeutic milk niger"/>
          <p:cNvPicPr/>
          <p:nvPr/>
        </p:nvPicPr>
        <p:blipFill>
          <a:blip r:embed="rId8"/>
          <a:stretch/>
        </p:blipFill>
        <p:spPr>
          <a:xfrm>
            <a:off x="1332000" y="1052640"/>
            <a:ext cx="3168720" cy="23763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4"/>
          <p:cNvSpPr/>
          <p:nvPr/>
        </p:nvSpPr>
        <p:spPr>
          <a:xfrm>
            <a:off x="971640" y="3500280"/>
            <a:ext cx="39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6699"/>
                </a:solidFill>
                <a:latin typeface="Arial"/>
              </a:rPr>
              <a:t>Preparation of therapeutic milk - Ni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5"/>
          <p:cNvSpPr/>
          <p:nvPr/>
        </p:nvSpPr>
        <p:spPr>
          <a:xfrm>
            <a:off x="900000" y="6491160"/>
            <a:ext cx="37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ahoma"/>
              </a:rPr>
              <a:t>Malnutrition figures</a:t>
            </a:r>
            <a:br>
              <a:rPr sz="2800"/>
            </a:br>
            <a:r>
              <a:rPr b="1" lang="en-GB" sz="1600" spc="-1" strike="noStrike">
                <a:solidFill>
                  <a:srgbClr val="003366"/>
                </a:solidFill>
                <a:latin typeface="Tahoma"/>
              </a:rPr>
              <a:t>UNICEF (State of the World’s children 2008)</a:t>
            </a:r>
            <a:endParaRPr b="1" lang="en-US" sz="1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907560"/>
            <a:ext cx="76694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99"/>
                </a:solidFill>
                <a:latin typeface="Tahoma"/>
              </a:rPr>
              <a:t>Countries with highest % of U5 moderate and severe wasting*</a:t>
            </a:r>
            <a:endParaRPr b="0" lang="en-US" sz="1600" spc="-1" strike="noStrike">
              <a:solidFill>
                <a:srgbClr val="006699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99"/>
                </a:solidFill>
                <a:latin typeface="Tahoma"/>
              </a:rPr>
              <a:t> </a:t>
            </a:r>
            <a:r>
              <a:rPr b="1" lang="en-GB" sz="1600" spc="-1" strike="noStrike">
                <a:solidFill>
                  <a:srgbClr val="006699"/>
                </a:solidFill>
                <a:latin typeface="Tahoma"/>
              </a:rPr>
              <a:t>(2000-2006)</a:t>
            </a:r>
            <a:endParaRPr b="0" lang="en-US" sz="1600" spc="-1" strike="noStrike">
              <a:solidFill>
                <a:srgbClr val="006699"/>
              </a:solidFill>
              <a:latin typeface="Tahoma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16000" y="1628640"/>
          <a:ext cx="7416720" cy="4316400"/>
        </p:xfrm>
        <a:graphic>
          <a:graphicData uri="http://schemas.openxmlformats.org/drawingml/2006/table">
            <a:tbl>
              <a:tblPr/>
              <a:tblGrid>
                <a:gridCol w="3710160"/>
                <a:gridCol w="3706560"/>
              </a:tblGrid>
              <a:tr h="434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Burkina Faso: 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Djibouti: 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India: 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Sudan: 1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6699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Lao People's Dem.Rep: 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6699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Central African Republic: 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Mauritius: 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Sri Lanka: 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Togo: 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Bangladesh: 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DRC: 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Eritrea: 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Madagascar: 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Maldives: 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Mauritania: 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Nepal: 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Pakistan: 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Timor Leste: 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Yemen: 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Ethiopia: 1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6699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Guyana: 1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6699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Somalia: 1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Niger: 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Rectangle 467"/>
          <p:cNvSpPr/>
          <p:nvPr/>
        </p:nvSpPr>
        <p:spPr>
          <a:xfrm>
            <a:off x="1259640" y="6237360"/>
            <a:ext cx="531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99"/>
                </a:solidFill>
                <a:latin typeface="Arial"/>
              </a:rPr>
              <a:t>* below minus 2 standard deviations from median weight for height of reference popu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Nutrition challenges ahead?</a:t>
            </a: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00000" y="1888920"/>
            <a:ext cx="73152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High and sustained acute malnutrition rates for under-five children causes half of their mortality (e.g. estimated in Sahel at 300,000 a year)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Prevent MDG1 and MDG4 completion and no perspective of medium term improvement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Prevention and treatment of (acute and chronic) under/mal-nutrition for children under 5 and mothers too low on the EC agenda.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80" name="Titre 1"/>
          <p:cNvSpPr/>
          <p:nvPr/>
        </p:nvSpPr>
        <p:spPr>
          <a:xfrm>
            <a:off x="755640" y="1125360"/>
            <a:ext cx="788508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3366"/>
                </a:solidFill>
                <a:latin typeface="Tahoma"/>
                <a:ea typeface="Tahoma"/>
              </a:rPr>
              <a:t>At policy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2:00:28Z</dcterms:created>
  <dc:creator>Kax</dc:creator>
  <dc:description/>
  <dc:language>en-US</dc:language>
  <cp:lastModifiedBy>SDILN</cp:lastModifiedBy>
  <dcterms:modified xsi:type="dcterms:W3CDTF">2008-05-07T06:49:56Z</dcterms:modified>
  <cp:revision>43</cp:revision>
  <dc:subject/>
  <dc:title>Diapositive 1</dc:title>
</cp:coreProperties>
</file>