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13A2-792C-4378-9AB1-1F7E3DA18E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HARE OUR EXPEREINCE/ USEFUL FOR COLLEA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WORK DONE UNDER EC FAO, FIVIMS, FANTA COL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4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OT GO INTO TECH DETAIL…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GO BACK TO CONCEPTUAL FRAME WHERE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OOLS FIT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WHY STARTED THI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ESCRIBE OUR APPROACH WHY WE CHOSE THESE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HOW THE TOOLS : I WIIL SHOW DD THEN PASS TO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B FOR HF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ERRI ALSO SHOW SOME EXAMPLES OF ANALY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N i WILL TALK ABOUT POTENTIAL USES AND PROSPECTS FOR USE AND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WANT TO DISCUSS THIS WITH AUDIENCE WHERE TOOLS USE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6B1F-6CBF-4D36-B6EA-AA9C02EC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A03A-2606-4B79-BF1A-47B7BC57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5263-939B-48C4-A1E2-95386DF8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140C-0CC2-4288-8C92-4E84C42D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87C-F60F-4BB6-9E73-71D17018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DDD4-1206-4793-BA9D-ADA31613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FDA5-FBBE-4A4A-B3D1-B88D1786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65E8-C63C-432C-9CDD-D774DEA1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2EB9-18D6-4184-8FBF-2AC1C940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DB27-F21B-420F-9BD5-189072E7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A118-8A5A-4814-BFB6-351B8967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1971-028D-42F4-93FA-3A52F774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C00E-D546-40A3-8AB4-43389CB0F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1844640"/>
            <a:ext cx="81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potential of food-based approaches integrating agriculture and nutrition for reducing child and maternal under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5920"/>
            <a:ext cx="813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 Seminar Addressing child and maternal undernutr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y 7-8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3716280"/>
            <a:ext cx="756144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ie Claude D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trition and Consumer protection Di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od and Agriculture Organization of the United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140360" y="5229360"/>
            <a:ext cx="1223640" cy="1123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907920"/>
            <a:ext cx="8604000" cy="0"/>
          </a:xfrm>
          <a:prstGeom prst="line">
            <a:avLst/>
          </a:prstGeom>
          <a:ln cap="rnd" w="28440">
            <a:solidFill>
              <a:srgbClr val="9966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act of the OFSP project on child vit. A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 of low serum retinol decreased in intervention group from 60 to 3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 of low SR remained the same in control sample (53%) although there was routine vit. A sup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2160" y="5151600"/>
            <a:ext cx="801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food-based approach complements</a:t>
            </a:r>
            <a:r>
              <a:rPr b="0" lang="en-US" sz="2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based sup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success of OFSP projec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griculture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eet potatoes already know in area (not orange varie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atile planting &amp; harvesting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water, input or labour int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ntion involved farmer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nutrition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ntion targeted to women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ergy with routine health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and education components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 dimension is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development strategy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mens’ key role in integrated agriculture-nutrition interven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are food producers, income earners and careg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’s income has more impact on child nutrition than men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competing demands on women’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4869000"/>
            <a:ext cx="691344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terventions can divert women from child car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=&gt; intervention package should include time saving technologies/components for wom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 and M&amp;E of integrated agriculture-nutrition interven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3516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ntext causal analysis is needed for choosing intervention entry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involvement, gender dimension and nutrition education components are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tools needed for monitoring nutrition impact , eg dietary diversity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indicators needed to measure effectiv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line, intermediate, end-poin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spects and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en scope of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tary diver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p/livelihood diver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foods/local biodivers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scale from experimental interventions to government owned program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funding beyond experimental phase to improve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341360"/>
            <a:ext cx="7777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agriculture-nutrition interventions, OFSP as a mo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’s key role in agri-nutrition interven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, monitoring and evaluation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pects and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inition of food-based approa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ulture interventions with potential impact on nu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ary diver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s for specific age groups*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ary f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fortification*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80560" y="5608800"/>
            <a:ext cx="51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not in the scope of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are integrated agriculture and nutrition approaches relev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of the world’s poor live in rural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ural poor have low access to health and nutri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low access to centrally processed fortified f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ary diversification is key for ensuring intake of essential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agriculture-nutrition strategies have potential to become sustai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agriculture interventions with potential nutrition outcomes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8920" y="1268280"/>
            <a:ext cx="6562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-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r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getable and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and school gard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imals, f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d livestock/gard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360" y="5373720"/>
            <a:ext cx="854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ventions increase income or improve local availability of f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od-based interventions for reducing vit. A de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1413000"/>
            <a:ext cx="6696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get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n and yellow/orange vege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k green leafy vege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palm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nge-flesh sweet po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nge fr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ange-fleshed sweet potato project (Mozambique*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goal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vitamin A deficiency in young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food security of house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farmers’ access to OF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nutrition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demand for OF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sustainability through marke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9640" y="6165720"/>
            <a:ext cx="56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Low et al, 2006 ; OFSP symposium, Pretoria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ities of the OFSP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02920" y="1341360"/>
            <a:ext cx="6994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al extension*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on produc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tion education, communication and demonstration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ls of improved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education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ipe demons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pla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5560" y="6087960"/>
            <a:ext cx="730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agriculture and nutrition extensionists working in tand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trition education package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breastfeeding and complementary feeding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of vitamin A deficiency and vit. A rich f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giene and food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41400" y="5079960"/>
            <a:ext cx="62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through radio messages (control grou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nutrition education sessions (intervention grou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16:21:23Z</dcterms:created>
  <dc:creator>Ballard, Terri (AGNA)</dc:creator>
  <dc:description/>
  <dc:language>en-US</dc:language>
  <cp:lastModifiedBy>Dop, MarieClaude (AGNA)</cp:lastModifiedBy>
  <dcterms:modified xsi:type="dcterms:W3CDTF">2008-05-07T05:36:41Z</dcterms:modified>
  <cp:revision>150</cp:revision>
  <dc:subject/>
  <dc:title>BMI category by wealth</dc:title>
</cp:coreProperties>
</file>