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192-BCE0-480C-9A0A-3CF06BFB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28F-7D02-4752-AE66-BED76AB5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7B8-704A-4FC5-BBF3-500864CC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563-301C-429C-9D39-F49BEC13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7F3-D8A2-4DA9-A56C-D3D97CC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2AD-EC9F-4149-AAAE-9561CBD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1E0-9EEE-48D4-9E56-AB11255D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BEA-1BDC-426C-A6B7-B0734465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2CC-0187-469F-8961-0D8AFABB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811-51A0-4D77-8A58-C5FBDBF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E0E-CEA0-4847-8077-A1915D5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81F-6C5A-404F-BD21-233E6D5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DD5A-3800-4CDA-8267-AC2B4312D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eater DFID and EC Leadership o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ducing `Undernutrition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and Constra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Sumn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anna Lindst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rence Had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762120" y="1676520"/>
          <a:ext cx="7543800" cy="39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76520"/>
                    <a:ext cx="7543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9"/>
          <p:cNvSpPr/>
          <p:nvPr/>
        </p:nvSpPr>
        <p:spPr>
          <a:xfrm>
            <a:off x="611280" y="476280"/>
            <a:ext cx="8137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hey spend: Percentage of total ODA spen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rect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erceptions: DFID H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380880" y="1600200"/>
          <a:ext cx="8305920" cy="410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830592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ceptions: DFID Country Off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5"/>
          <p:cNvGraphicFramePr/>
          <p:nvPr/>
        </p:nvGraphicFramePr>
        <p:xfrm>
          <a:off x="549360" y="1868400"/>
          <a:ext cx="8205840" cy="318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9360" y="1868400"/>
                    <a:ext cx="820584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915840" y="2050920"/>
          <a:ext cx="7675560" cy="20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2050920"/>
                    <a:ext cx="76755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shapes the possibility for higher prioritis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text-- weak institutional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nutrition indicators in reporting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e of chronic malnutrition-silent tsu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ssage--lack of a simpl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ilver bullets (or easily fired silver bull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ability to claim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resonance with current policy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edicated nutrition cham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w invisible nutrition champ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 for Don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00" y="790560"/>
            <a:ext cx="8329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underweight as indicator for MD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pportunities in new health, gender and education strategies to embed 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nutrition indicators to highlight poor 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trition audit of indirect nutrition s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nutrition surveys to name and sh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on political, governance and institutional dimensions of nutr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oint a nutrition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 nutriti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the S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 for Northern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bby on nutrition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with parliamentary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sure DFID for “Stern Report” on malnutr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hasise MDGs that are lagging are most reliant on good 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k governance and nutritio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 up domestic child support agenda and international child malnutrition ag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 to co-fund a nutrition cham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portunities for 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world food p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riculture back in from the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cet 2008 special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 protection agenda and C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mate and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artImage" descr="04_11_2007_015_006"/>
          <p:cNvPicPr/>
          <p:nvPr/>
        </p:nvPicPr>
        <p:blipFill>
          <a:blip r:embed="rId1"/>
          <a:stretch/>
        </p:blipFill>
        <p:spPr>
          <a:xfrm>
            <a:off x="2000160" y="1500120"/>
            <a:ext cx="5429520" cy="7385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071720" y="35712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riti Vadera mentions nutrition 4 times in a short interview with the Hindustan Times, Nov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71424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ndernutrition thinking desperately needs a development perspective—neither health nor agriculture sectors have made it a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re political, institutional, policy process analyses needed to driv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to make explicit links to the governanc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new graduate programmes stressing connections and the politics of undernutr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ome optimism that the context is becoming more receptive to changed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does nutrition ma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is it not higher on development agen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does nutrition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ndational for the MDGs, esp those that are lagging--mortality, morbidity, learning,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cator of poor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goods pro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alytica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6"/>
          <p:cNvGraphicFramePr/>
          <p:nvPr/>
        </p:nvGraphicFramePr>
        <p:xfrm>
          <a:off x="219240" y="1066680"/>
          <a:ext cx="8619840" cy="456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1066680"/>
                    <a:ext cx="861984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ta Collec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commit to: analysi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documents (40) (substan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eches  (80) (word c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s releases (400) (word cou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do: CRS expenditur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think: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 DFID (12 HQ, PRD+6 coun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 EC (10 HQ, DG Dev+6 coun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blic Commitments: Mentions of 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188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Speeches (from Jan 200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ID: 0/5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: 0/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Press releases (from Jan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ID: 0/1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: 0/2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policy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G8 2005 and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 in C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DFID Social transfers and chronic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European Consensus o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blic Commitments to Nutri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SPs and C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ghanistan: PRSP (medium), DFID (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ngladesh: PRSP (high), DFID (medium to hig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hiopia: PRSP (medium), DFID (hi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geria: PRSP (low), DFID (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dan: no PRSP, DFID (uncl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imbabwe: no PRSP, DFID 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wo types of nutritio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 interventions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cronutrient sup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rect interventions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ricultural productivity enh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men’s empower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d water and sanitai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5"/>
          <p:cNvGraphicFramePr/>
          <p:nvPr/>
        </p:nvGraphicFramePr>
        <p:xfrm>
          <a:off x="468360" y="1214280"/>
          <a:ext cx="8229600" cy="487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14280"/>
                    <a:ext cx="822960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684360" y="404640"/>
            <a:ext cx="7991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hey spend: Percentage of total ODA spen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22:11:50Z</dcterms:created>
  <dc:creator>lawrence</dc:creator>
  <dc:description/>
  <dc:language>en-US</dc:language>
  <cp:lastModifiedBy>user</cp:lastModifiedBy>
  <dcterms:modified xsi:type="dcterms:W3CDTF">2008-05-08T06:29:21Z</dcterms:modified>
  <cp:revision>18</cp:revision>
  <dc:subject/>
  <dc:title>Greater DFID and EC Leadership on Chronic Malnutrition: Opportunities and Constraints</dc:title>
</cp:coreProperties>
</file>