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0E4-3300-48FB-AC57-14BDF822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A04-9A50-4296-AF03-9B69171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027-0496-40C5-A0A8-24BDF5E5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0E2-0CA3-4EBD-BC74-3DF8AA47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611B-C244-4EF3-8B94-D64D47C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D6F-9C7C-4579-BD4D-23AE374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EE81-2896-4105-9EAC-446746B4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5A9-8FB2-4FA8-B9E5-AA197B6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C99A-882F-4BD3-8D11-2BD8FD9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971-ECE6-4A87-B3E6-DA81BB2E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A1C-7E21-42FF-8DD9-BF99583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1DF-1051-420E-A823-AEC2879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C295-103B-4FBB-A2E4-30DF9C6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E383-60BE-4B7A-B685-14C4479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D122-732B-4762-AAA8-32C73A4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568D-4F6C-459E-BA36-A222EBE8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0D3-5961-4D82-8A8F-A0A488A4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613-9581-4986-BD69-7C9B4953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DE3-AE18-4076-8E46-E9DFF41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909-6B18-4CBA-A4DF-92B1F040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804-4858-4244-B575-7929EF42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059-EB64-49DA-A753-E5F3E656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644-AD8D-49CE-9A4D-E8964F4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37F-3C90-4BD6-A09A-E0FC1EC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86F-9B10-4DB7-8BC9-F9C32B622D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00EA-FDD7-409E-81AF-4D688B1BE8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formation System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Lenormand, P Palma, M Bloem, B Cogill, E Piwoz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7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jor barrier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urce tracking abs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s &amp; donors don’t know how much is being invested in nutr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on data limi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know impact &amp; cost-effectiveness of investments – especially indirect inter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urces required to scale up unkn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o allocate &amp; priorit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know what is required to develop/sustain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jor barri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ck of country &amp; regional capacity for information systems &amp; use of data for decision-mak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, civil society – ownership, sustain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@ 3 levels – surveys, surveillance, routine 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quality is cri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allel data collection are uncoordin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harmonization &amp; coh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for all organizations to support unified framework – too much fra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also for global &amp; regional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mmendat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resource flows for nutr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 information systems in budget line i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 nutrition indicators in process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support for M&amp;E (foster cult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minimum % allocation for M&amp;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ocate for use of independent evalu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impact of indirect nutrition interven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research &amp; analysis on costing, operational inputs for non-emergency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ct data on resource requirements for setting up &amp; maintaining information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mmendat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initiatives to develop country &amp; regional capacity for information systems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stems’ complexity should be context speci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 nutrition indicators in existing health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ngthen existing institutions with IS man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standardized methodologies, data quality, analysis &amp; use for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political commitment for nutrition within EC member states &amp; Paris Declaration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strengthening information systems within government sectoral policies addressing undernutr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e new platform technologies for knowledge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ote harmonization/coordination &amp; institutional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0:55:28Z</dcterms:created>
  <dc:creator>Ellen Piwoz</dc:creator>
  <dc:description/>
  <dc:language>en-US</dc:language>
  <cp:lastModifiedBy>user</cp:lastModifiedBy>
  <dcterms:modified xsi:type="dcterms:W3CDTF">2008-05-09T07:09:56Z</dcterms:modified>
  <cp:revision>10</cp:revision>
  <dc:subject/>
  <dc:title>Information Systems Working Group</dc:title>
</cp:coreProperties>
</file>