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C0480-6249-4443-B410-053ABE9B157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E917A-C07E-4CA3-8A00-80233A5BF43E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A495A-0C27-425C-9AB7-B4B404E6FCCF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9401D-ECCD-425B-A792-A48B684B6834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63564-FC66-40CA-8015-19F49622C7DF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2B5B7-07E4-4E97-A221-95C642FB5EBE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A94C8-01E1-4F66-8C18-9AC40BF189F4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69971-6F05-4120-8534-79D5E71847F0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DC467-9F70-49C8-90B2-A8056DCF24F7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2B406-92DC-4F2D-8B39-BF0475471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30C2B-F402-4E3D-BBDD-37C67B343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012EC-F369-477E-8FB4-1CE2B6448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12AC3-9FAF-4CAC-B1EB-3449C6049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FA53B-9790-496F-B802-A372D240B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D7728-0B31-467F-904E-0C475B16A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1A8FE-A4AF-473F-A318-EA8876BC0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1D3EF-4000-49A7-A703-DBAAF079C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36AE8-B1A0-4885-ADA3-13440C010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3F7C8-175C-4143-A3FD-654954D38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15054-E552-4CAC-A652-4752141F4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698CA-EE79-4A42-A298-33FC9E993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DD7FD-363E-4FA1-AEF5-2D0392EAF8C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886880" cy="201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Group 2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Health sector and Management of 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Acute Malnutri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29680" cy="272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Question 1: What are the major constrains, problems and weaknesses including micronutrients supplementation and water/sanitation interven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2928960"/>
            <a:ext cx="8229600" cy="35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Water and sanitation : important can save lives, but impact on nutritional status uncertain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Link with malnutritio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Diarrhoea management within the health se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85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Severe acute malnutrition : 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Severe wasting and Kwashiorkor (oedematous malnutrition)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2214360"/>
            <a:ext cx="8229600" cy="391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mergency / Structural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Well define protocol – UN Joint statement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Should be included in the health basic package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Free access to treatment (including management of complications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Severe acute malnutrition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Needs involvement of the social sectors and community networks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Needs active screening at community  level and follow up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oderate Wasting and Stunt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No appropriate protocol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More attention should be given to immediate causes : children need high quality diet providing all the essential nutrients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Local food + Supplements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WHO meeting in September 2008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dditional poi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Milk is essential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Better availability and access to milk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Urgent needs for Ready to Use Foods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Promote local produc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rapeutic food products in the national essential drugs lis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dditional poi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Health system strengthen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evision of IMCI algorith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ntegration with TB – HIV Ai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elevant training on nutriti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esear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228600"/>
            <a:ext cx="373392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Typ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r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odi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pp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lciu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leniu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ami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iboflavi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yridoxi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iaci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l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balami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itamin A, D, E, 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419720" y="228600"/>
            <a:ext cx="403848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Typ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itrog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ssential amino aci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otassiu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gnesiu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hosphoru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lphu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zin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diu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lori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8T06:30:14Z</dcterms:created>
  <dc:creator>mbb</dc:creator>
  <dc:description/>
  <dc:language>en-US</dc:language>
  <cp:lastModifiedBy>Windows User</cp:lastModifiedBy>
  <dcterms:modified xsi:type="dcterms:W3CDTF">2008-05-08T12:02:43Z</dcterms:modified>
  <cp:revision>12</cp:revision>
  <dc:subject/>
  <dc:title>Group 2 Health sector and Management of  Acute Malnutrition</dc:title>
</cp:coreProperties>
</file>