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EBF9B-7B97-43EF-BC0A-1ED475668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85A01-FC73-4AE9-9EB5-9A0E801D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BBA7D-C041-42AF-B32B-B68EDECD6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1A288-8563-4904-9138-20C32BD26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D69B3-ADD4-4C35-9FCC-9CDDF32B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B1C4E-FE60-4BDB-8E45-BEB1EAE2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A4CF-7DB9-4606-B869-C2463A89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F5731-772B-4F0D-8E4C-890A35083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53B6D-8842-4925-BEA4-0A5DBAED3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0729-7CD5-4A77-94FC-FF9F0F47F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F32A-5936-4349-A517-C0C499AA4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45ABC-ADBA-4B94-9654-E45B3F127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B937-B025-4942-8553-D0CC8E7B4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LRRD issues and barriers that prevent better cooperation between different actors ?</a:t>
            </a:r>
            <a:endParaRPr b="0" lang="en-US" sz="2400" spc="-1" strike="noStrike">
              <a:solidFill>
                <a:srgbClr val="000000"/>
              </a:solidFill>
              <a:latin typeface="Arial"/>
            </a:endParaRPr>
          </a:p>
        </p:txBody>
      </p:sp>
      <p:sp>
        <p:nvSpPr>
          <p:cNvPr id="42" name="PlaceHolder 2"/>
          <p:cNvSpPr>
            <a:spLocks noGrp="1"/>
          </p:cNvSpPr>
          <p:nvPr>
            <p:ph type="subTitle"/>
          </p:nvPr>
        </p:nvSpPr>
        <p:spPr>
          <a:xfrm>
            <a:off x="838080" y="1676520"/>
            <a:ext cx="7467840" cy="4419360"/>
          </a:xfrm>
          <a:prstGeom prst="rect">
            <a:avLst/>
          </a:prstGeom>
          <a:noFill/>
          <a:ln w="0">
            <a:noFill/>
          </a:ln>
        </p:spPr>
        <p:txBody>
          <a:bodyPr lIns="90000" rIns="90000" tIns="46800" bIns="46800" anchor="t">
            <a:no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xiste des murs institutionnels et culturels entre les acteurs qui suivent des approches differentes avec des mandats differents, des outils differents voir concurrentiels (recherche de partenaires sur le meme sujet au meme mo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Le lien entre l aide humanitaire d urgence et l aide a la cooperation ne devraient plus se voir comme un enchainement mais bien en contigu et en complementarite (exemple programme UNICEF inclut un volet urgence dans un programme de cooperation). Une solution est soit d inclure un volet urgence disponible dans un projet de developpement soit de gerer en complementarite des projets d urgence et de developp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Le nombre des secteurs de concertation des bailleurs limite les possibilites de LR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ssible roles for the EC to better manage the link between action aimed at addressing structural and conjectural undernutrition?</a:t>
            </a:r>
            <a:endParaRPr b="0" lang="en-US" sz="2400" spc="-1" strike="noStrike">
              <a:solidFill>
                <a:srgbClr val="000000"/>
              </a:solidFill>
              <a:latin typeface="Arial"/>
            </a:endParaRPr>
          </a:p>
        </p:txBody>
      </p:sp>
      <p:sp>
        <p:nvSpPr>
          <p:cNvPr id="44" name="PlaceHolder 2"/>
          <p:cNvSpPr>
            <a:spLocks noGrp="1"/>
          </p:cNvSpPr>
          <p:nvPr>
            <p:ph type="subTitle"/>
          </p:nvPr>
        </p:nvSpPr>
        <p:spPr>
          <a:xfrm>
            <a:off x="457200" y="1981080"/>
            <a:ext cx="8153280" cy="4572000"/>
          </a:xfrm>
          <a:prstGeom prst="rect">
            <a:avLst/>
          </a:prstGeom>
          <a:noFill/>
          <a:ln w="0">
            <a:noFill/>
          </a:ln>
        </p:spPr>
        <p:txBody>
          <a:bodyPr lIns="90000" rIns="90000" tIns="46800" bIns="46800" anchor="t">
            <a:no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es acteurs humanitaires multi-secteurs possédant des compétences spécifiques et des expériences de terrain devraient aider les bailleurs au développement en assistance technique (par exemple, appui de ECHO au DC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2. La CE peut améliorer la communication entre les humanitaires et les acteurs de développement. Sur base des expériences des humanitaires, les services de développement de la CE devraient redynamiser le dialogue politique pour inclure la nutrition et la continuité des soins de qualité dans l agenda entre le CE et les gouvernements centraux et décentralisés. A financer par ABG, ABS ou autres program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ssible roles for the EC to better manage the link between action aimed at addressing structural and conjectural undernutrition?</a:t>
            </a:r>
            <a:endParaRPr b="0" lang="en-US" sz="2400" spc="-1" strike="noStrike">
              <a:solidFill>
                <a:srgbClr val="000000"/>
              </a:solidFill>
              <a:latin typeface="Arial"/>
            </a:endParaRPr>
          </a:p>
        </p:txBody>
      </p:sp>
      <p:sp>
        <p:nvSpPr>
          <p:cNvPr id="46" name="PlaceHolder 2"/>
          <p:cNvSpPr>
            <a:spLocks noGrp="1"/>
          </p:cNvSpPr>
          <p:nvPr>
            <p:ph type="subTitle"/>
          </p:nvPr>
        </p:nvSpPr>
        <p:spPr>
          <a:xfrm>
            <a:off x="914400" y="1981080"/>
            <a:ext cx="7696080" cy="4191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3. Pour la CE, le dialogue entre ECHO et les DCE doit être mené des le début sur la programmation de l aide au développement et de l aide humanitaire avec un droit de regard de part et d autre. Les DCE sur les programmes de ECHO et de ECHO sur les PIN. Ensuite, un suivi des projets communs avec des monitorings partages (exemple de la DCE Mali et ECHO Dakar y inclus un représentant de l Ordonnateur National du FE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4. Enfin, il existe un manque de personnel qualifie en nutrition du plus qualifie au moins qualifie qui seront capable de travailler sur la nutrition structurel et conjoncturel. La CE pourrait aider à la formation de masters en nutrition. Une fois une masse critique atteinte de personnes formées, le message politique pourra être alors soutenu avec les gouvernements et les bailleurs.</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6:57:21Z</dcterms:created>
  <dc:creator>ftchibindat</dc:creator>
  <dc:description/>
  <dc:language>en-US</dc:language>
  <cp:lastModifiedBy>ftchibindat</cp:lastModifiedBy>
  <dcterms:modified xsi:type="dcterms:W3CDTF">2008-05-08T07:28:50Z</dcterms:modified>
  <cp:revision>2</cp:revision>
  <dc:subject/>
  <dc:title>What are the LRRD issues and barriers that prevent better cooperation between different actors ?</dc:title>
</cp:coreProperties>
</file>