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D802-C948-4EEF-8308-8C70E4EB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7066-6905-4729-BE5A-A1DEFD38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955-3998-460E-BCFC-B71884C9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114E-0832-4656-A84C-204EDAC7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9492-005E-4C13-89E2-B1EDF2BB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E6BE-E992-4712-BD71-AEF9AC11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2A4A-3C6C-4310-AD50-08A15550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6131-A3F3-4F86-978E-4EB03B89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A1D9-BC68-42D2-8F9E-86B3BE7F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5EB-60EB-43B9-86CB-25096D88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16B-11E5-4DB0-90F7-3FA6EF3A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E580-CDC4-442C-9CB5-DD554A33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CFE4-C674-44FF-A6E8-02F9CE109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conomic &amp; Food Security Programmes for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straints, Problems, Weakn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ck of evidence on nutrition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works well, what are negative impacts, what are missed opportun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rgeting – geographical/ popn. groups/ ag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e offs on objectives: e.g. yields vs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used by lack of nutrition objectives, monitoring, caus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s lack of strategy and emphasis (awareness?) from EC and natl. gov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ck of incentives to improve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ck of technical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xity of attribution of nutrition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to Maximise Impact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utrition audit of policies and programmes: what are the objectives, funding levels, who reached (“window of opportunity”), where, likely impacts and opportu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ed an EC nutrition strategy/ strategic view to provide coherence, structure and incentiv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orporate nutrition into key relevant areas where opportunities – food security, health, governance (not token mainstream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quires demand/ pressure on Commissioner &amp; Member States from civil society via EP; and developing country gov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igh level political commitment will (with further work!) cascade down to countries and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U should provide leadership, but national govts and civil society must also demonstrate interes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To Maximise Impac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point nutrition champions; sensitise staff; guidance pap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me budget for direct interven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ausal analysis – contextually appropriate program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usting existing programmes through applying a nutrition len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cus on the most effective interventions by contex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 nutrition indicato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targ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risk of negative impact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integration (agric, social transfers, water, fortification, health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nutrition programmes into new Calls for Propos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 with other donors to include nutrition indicators into PRSPs/ national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art with a few pilot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verage funds from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07:00:01Z</dcterms:created>
  <dc:creator> Michael O'Donnell</dc:creator>
  <dc:description/>
  <dc:language>en-US</dc:language>
  <cp:lastModifiedBy> Michael O'Donnell</cp:lastModifiedBy>
  <dcterms:modified xsi:type="dcterms:W3CDTF">2008-05-08T07:29:58Z</dcterms:modified>
  <cp:revision>5</cp:revision>
  <dc:subject/>
  <dc:title>Economic &amp; Food Security Programmes for Nutrition</dc:title>
</cp:coreProperties>
</file>