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00000" cy="18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WordArt 8"/>
          <p:cNvSpPr txBox="1"/>
          <p:nvPr/>
        </p:nvSpPr>
        <p:spPr>
          <a:xfrm rot="16200000">
            <a:off x="-355320" y="5495760"/>
            <a:ext cx="1628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latin typeface="Arial Black"/>
              </a:rPr>
              <a:t>NUSAPPS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" name="Text Box 9"/>
          <p:cNvSpPr/>
          <p:nvPr/>
        </p:nvSpPr>
        <p:spPr>
          <a:xfrm rot="16200000">
            <a:off x="-632160" y="3549960"/>
            <a:ext cx="21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99"/>
                </a:solidFill>
                <a:latin typeface="Arial Narrow"/>
              </a:rPr>
              <a:t>Nutrition, Sécurité Alimentaire et Politiques Publiques au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cilss_logo"/>
          <p:cNvPicPr/>
          <p:nvPr/>
        </p:nvPicPr>
        <p:blipFill>
          <a:blip r:embed="rId2"/>
          <a:stretch/>
        </p:blipFill>
        <p:spPr>
          <a:xfrm>
            <a:off x="34920" y="103320"/>
            <a:ext cx="826920" cy="733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enfant"/>
          <p:cNvPicPr/>
          <p:nvPr/>
        </p:nvPicPr>
        <p:blipFill>
          <a:blip r:embed="rId3"/>
          <a:stretch/>
        </p:blipFill>
        <p:spPr>
          <a:xfrm>
            <a:off x="34920" y="863640"/>
            <a:ext cx="826920" cy="620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6" name="Picture 16" descr="bracial"/>
          <p:cNvPicPr/>
          <p:nvPr/>
        </p:nvPicPr>
        <p:blipFill>
          <a:blip r:embed="rId4"/>
          <a:stretch/>
        </p:blipFill>
        <p:spPr>
          <a:xfrm>
            <a:off x="34920" y="2060640"/>
            <a:ext cx="826920" cy="614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7" name="Picture 17" descr="Sorgho0005"/>
          <p:cNvPicPr/>
          <p:nvPr/>
        </p:nvPicPr>
        <p:blipFill>
          <a:blip r:embed="rId5"/>
          <a:stretch/>
        </p:blipFill>
        <p:spPr>
          <a:xfrm>
            <a:off x="34920" y="1484280"/>
            <a:ext cx="825480" cy="6192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/>
          <p:cNvSpPr/>
          <p:nvPr/>
        </p:nvSpPr>
        <p:spPr>
          <a:xfrm>
            <a:off x="1714680" y="1152360"/>
            <a:ext cx="6357600" cy="253548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raintes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e mise en œuvr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e programmes nutrition en Afrique de l’O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357200" y="4643280"/>
            <a:ext cx="6858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Yves Martin-Pr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6600"/>
                </a:solidFill>
                <a:latin typeface="Arial"/>
              </a:rPr>
              <a:t>IRD – UR106 « Nutrition, Alimentation, Société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Logo-ue"/>
          <p:cNvPicPr/>
          <p:nvPr/>
        </p:nvPicPr>
        <p:blipFill>
          <a:blip r:embed="rId1"/>
          <a:stretch/>
        </p:blipFill>
        <p:spPr>
          <a:xfrm>
            <a:off x="4861080" y="6165720"/>
            <a:ext cx="502920" cy="33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logo maee"/>
          <p:cNvPicPr/>
          <p:nvPr/>
        </p:nvPicPr>
        <p:blipFill>
          <a:blip r:embed="rId2"/>
          <a:stretch/>
        </p:blipFill>
        <p:spPr>
          <a:xfrm>
            <a:off x="5508720" y="6165720"/>
            <a:ext cx="647640" cy="37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ogIRD-100_2_4"/>
          <p:cNvPicPr/>
          <p:nvPr/>
        </p:nvPicPr>
        <p:blipFill>
          <a:blip r:embed="rId3"/>
          <a:stretch/>
        </p:blipFill>
        <p:spPr>
          <a:xfrm>
            <a:off x="3421080" y="6165720"/>
            <a:ext cx="64944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logo"/>
          <p:cNvPicPr/>
          <p:nvPr/>
        </p:nvPicPr>
        <p:blipFill>
          <a:blip r:embed="rId4"/>
          <a:stretch/>
        </p:blipFill>
        <p:spPr>
          <a:xfrm>
            <a:off x="4213080" y="6094440"/>
            <a:ext cx="505080" cy="430200"/>
          </a:xfrm>
          <a:prstGeom prst="rect">
            <a:avLst/>
          </a:prstGeom>
          <a:ln w="0">
            <a:noFill/>
          </a:ln>
        </p:spPr>
      </p:pic>
      <p:sp>
        <p:nvSpPr>
          <p:cNvPr id="50" name="Line 15"/>
          <p:cNvSpPr/>
          <p:nvPr/>
        </p:nvSpPr>
        <p:spPr>
          <a:xfrm>
            <a:off x="3348000" y="5950080"/>
            <a:ext cx="2881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071720" y="260280"/>
            <a:ext cx="785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OMITE  PERMANENT  INTER-ETATS  DE  LUTTE CONTRE  LA  SECHERESSE  DANS  LE  SAH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Pistes pour l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360" y="121428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grammes sélection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ès analyse d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mi ceux qui marchent (coût/efficac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és par le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à l’éch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blement fina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mation / Diffusion de la “culture nutri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seulement nutritionni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ecto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62673"/>
                </a:solidFill>
                <a:latin typeface="Arial"/>
              </a:rPr>
              <a:t>Architecture théorique (« idéale 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4" descr=""/>
          <p:cNvPicPr/>
          <p:nvPr/>
        </p:nvPicPr>
        <p:blipFill>
          <a:blip r:embed="rId1"/>
          <a:stretch/>
        </p:blipFill>
        <p:spPr>
          <a:xfrm>
            <a:off x="2428920" y="1071720"/>
            <a:ext cx="456408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1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Schéma simplifié d’un système de surveillance nutri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357280" y="3643200"/>
            <a:ext cx="2808360" cy="792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uation nutri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357280" y="4722840"/>
            <a:ext cx="2808360" cy="792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eurs sous-ja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V="1">
            <a:off x="3726000" y="4435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3071880" y="1428840"/>
            <a:ext cx="2448000" cy="1584360"/>
          </a:xfrm>
          <a:prstGeom prst="ellipse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6873840" y="2568600"/>
            <a:ext cx="1800360" cy="2232000"/>
          </a:xfrm>
          <a:prstGeom prst="ellipse">
            <a:avLst/>
          </a:prstGeom>
          <a:solidFill>
            <a:srgbClr val="ffff99">
              <a:alpha val="25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5572080" y="2357280"/>
            <a:ext cx="1357200" cy="642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 flipH="1">
            <a:off x="5214960" y="4214880"/>
            <a:ext cx="1714320" cy="785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1709280" y="50832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 flipH="1">
            <a:off x="1709280" y="40752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 flipV="1">
            <a:off x="1709640" y="313848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 flipV="1">
            <a:off x="1714680" y="2357280"/>
            <a:ext cx="1285560" cy="78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1143000" y="3071880"/>
            <a:ext cx="1785960" cy="36828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5214960" y="4000680"/>
            <a:ext cx="1643040" cy="71280"/>
          </a:xfrm>
          <a:prstGeom prst="line">
            <a:avLst/>
          </a:prstGeom>
          <a:ln w="25560">
            <a:solidFill>
              <a:srgbClr val="00800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57880" y="35719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Urg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57920" y="4786200"/>
            <a:ext cx="1295280" cy="368280"/>
          </a:xfrm>
          <a:prstGeom prst="rect">
            <a:avLst/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62673"/>
                </a:solidFill>
                <a:latin typeface="Arial"/>
              </a:rPr>
              <a:t>Sources d’information sur l’état nutritionnel des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08000" y="1407960"/>
            <a:ext cx="80582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7000" y="125280"/>
            <a:ext cx="81597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Schéma surveillance Nut. plus comp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77817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Systèmes d’information nutritionnelle dans le Sahel: points fa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71360" y="1714680"/>
            <a:ext cx="7615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equest for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itical level): lack of specification (monitoring / al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ord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+++ nutrition serv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technical/analyt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stain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ing): +++ linked to above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642600"/>
            <a:ext cx="78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Pistes pour l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6840" y="1571400"/>
            <a:ext cx="69296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o back to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for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teragency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duplicating systems /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e with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onflicting strategies (HFVA –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ational capacities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ion by natio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858000" y="114300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èche gauche 11"/>
          <p:cNvSpPr/>
          <p:nvPr/>
        </p:nvSpPr>
        <p:spPr>
          <a:xfrm>
            <a:off x="6183360" y="3301920"/>
            <a:ext cx="679320" cy="5684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851040" y="1000080"/>
            <a:ext cx="82929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28800" y="1356840"/>
            <a:ext cx="77580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Systèmes nationaux en nutri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tiques et straté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Systèmes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Partenari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801720" y="1343160"/>
            <a:ext cx="8263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6858000" y="107172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èche gauche 5"/>
          <p:cNvSpPr/>
          <p:nvPr/>
        </p:nvSpPr>
        <p:spPr>
          <a:xfrm rot="1208400">
            <a:off x="5779800" y="1625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èche gauche 6"/>
          <p:cNvSpPr/>
          <p:nvPr/>
        </p:nvSpPr>
        <p:spPr>
          <a:xfrm rot="20701800">
            <a:off x="4914720" y="2189160"/>
            <a:ext cx="2036520" cy="155520"/>
          </a:xfrm>
          <a:prstGeom prst="leftArrow">
            <a:avLst>
              <a:gd name="adj1" fmla="val 50000"/>
              <a:gd name="adj2" fmla="val 49773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èche gauche 7"/>
          <p:cNvSpPr/>
          <p:nvPr/>
        </p:nvSpPr>
        <p:spPr>
          <a:xfrm rot="324000">
            <a:off x="5933880" y="312408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èche gauche 8"/>
          <p:cNvSpPr/>
          <p:nvPr/>
        </p:nvSpPr>
        <p:spPr>
          <a:xfrm rot="19960800">
            <a:off x="5862600" y="3695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èche gauche 9"/>
          <p:cNvSpPr/>
          <p:nvPr/>
        </p:nvSpPr>
        <p:spPr>
          <a:xfrm rot="742800">
            <a:off x="5791320" y="362376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gauche 10"/>
          <p:cNvSpPr/>
          <p:nvPr/>
        </p:nvSpPr>
        <p:spPr>
          <a:xfrm rot="21185400">
            <a:off x="5649840" y="435600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èche gauche 11"/>
          <p:cNvSpPr/>
          <p:nvPr/>
        </p:nvSpPr>
        <p:spPr>
          <a:xfrm rot="21073800">
            <a:off x="5862240" y="5909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èche gauche 12"/>
          <p:cNvSpPr/>
          <p:nvPr/>
        </p:nvSpPr>
        <p:spPr>
          <a:xfrm rot="19696200">
            <a:off x="5673240" y="508140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èche gauche 13"/>
          <p:cNvSpPr/>
          <p:nvPr/>
        </p:nvSpPr>
        <p:spPr>
          <a:xfrm rot="21186000">
            <a:off x="5721480" y="549864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6858000" y="107172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courbée vers le bas 14"/>
          <p:cNvSpPr/>
          <p:nvPr/>
        </p:nvSpPr>
        <p:spPr>
          <a:xfrm flipH="1">
            <a:off x="3214080" y="1500120"/>
            <a:ext cx="4500360" cy="3929040"/>
          </a:xfrm>
          <a:custGeom>
            <a:avLst/>
            <a:gdLst>
              <a:gd name="textAreaLeft" fmla="*/ 756720 w 4500360"/>
              <a:gd name="textAreaRight" fmla="*/ 3252600 w 4500360"/>
              <a:gd name="textAreaTop" fmla="*/ 526320 h 3929040"/>
              <a:gd name="textAreaBottom" fmla="*/ 340272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64" hR="21600" stAng="10800000" swAng="5400000"/>
                <a:lnTo>
                  <a:pt x="11979" y="0"/>
                </a:lnTo>
                <a:arcTo wR="7264" hR="21600" stAng="-5400000" swAng="3149037"/>
                <a:lnTo>
                  <a:pt x="21369" y="16200"/>
                </a:lnTo>
                <a:lnTo>
                  <a:pt x="16886" y="21600"/>
                </a:lnTo>
                <a:lnTo>
                  <a:pt x="11940" y="16200"/>
                </a:lnTo>
                <a:lnTo>
                  <a:pt x="14297" y="16200"/>
                </a:lnTo>
                <a:arcTo wR="7264" hR="21600" stAng="-2250963" swAng="-2754104"/>
                <a:lnTo>
                  <a:pt x="9622" y="1169"/>
                </a:lnTo>
                <a:arcTo wR="7264" hR="21600" stAng="-5794933" swAng="-5005067"/>
                <a:close/>
              </a:path>
              <a:path fill="darkenLess" w="21600" h="21600">
                <a:moveTo>
                  <a:pt x="0" y="21600"/>
                </a:moveTo>
                <a:arcTo wR="7264" hR="21600" stAng="10800000" swAng="5400000"/>
                <a:lnTo>
                  <a:pt x="7264" y="0"/>
                </a:lnTo>
                <a:arcTo wR="7264" hR="21600" stAng="-5400000" swAng="394933"/>
                <a:lnTo>
                  <a:pt x="9622" y="1169"/>
                </a:lnTo>
                <a:arcTo wR="7264" hR="21600" stAng="-5794933" swAng="-5005067"/>
                <a:close/>
              </a:path>
            </a:pathLst>
          </a:custGeom>
          <a:solidFill>
            <a:srgbClr val="ff993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7786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Priorités pour l’action en parten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2640" y="14284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-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inforc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evelopment and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tional capacitie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uilding/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t national level (institu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ion fort advanced training (exter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short-term training (reg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elp people working in their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62673"/>
                </a:solidFill>
                <a:latin typeface="Arial"/>
              </a:rPr>
              <a:t>Architecture théorique (« idéale 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"/>
          <p:cNvPicPr/>
          <p:nvPr/>
        </p:nvPicPr>
        <p:blipFill>
          <a:blip r:embed="rId1"/>
          <a:stretch/>
        </p:blipFill>
        <p:spPr>
          <a:xfrm>
            <a:off x="2428920" y="1071720"/>
            <a:ext cx="456408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nat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071720"/>
          <a:ext cx="7715160" cy="5300640"/>
        </p:xfrm>
        <a:graphic>
          <a:graphicData uri="http://schemas.openxmlformats.org/drawingml/2006/table">
            <a:tbl>
              <a:tblPr/>
              <a:tblGrid>
                <a:gridCol w="1214280"/>
                <a:gridCol w="1974960"/>
                <a:gridCol w="2097000"/>
                <a:gridCol w="2428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 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nstitutional lev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(s) structur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‘Authority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POG (MoAg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A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evel of aut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level of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A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 MIN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com (SEC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A (MDRE)  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orga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 / Pr.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 (Pr.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NTA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with 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71360" y="1285560"/>
            <a:ext cx="7615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ountries with 1 nutrition division (M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ountries with 2 (or more) national services involved in nutrition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in weaknes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xcept The Gambia and Senega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derstaffed services, under-skilled people) at the centr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no services at the sub-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(to very low) level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(to very low) leve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Politiques /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1357200"/>
          <a:ext cx="8020080" cy="4551480"/>
        </p:xfrm>
        <a:graphic>
          <a:graphicData uri="http://schemas.openxmlformats.org/drawingml/2006/table">
            <a:tbl>
              <a:tblPr/>
              <a:tblGrid>
                <a:gridCol w="1093680"/>
                <a:gridCol w="1020600"/>
                <a:gridCol w="1138320"/>
                <a:gridCol w="1094040"/>
                <a:gridCol w="1120680"/>
                <a:gridCol w="2552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trition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oper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I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s from PHP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N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ed to P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Contenu des Politiques Nationales de 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2640" y="1642680"/>
            <a:ext cx="7615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se = les PNAN post-CIN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tuation natio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thropométrie / ané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absence d’analyse des causes spécifiques /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scription dispositif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Analyse des contrai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éfinition des stratég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hopping li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hoix d’axes prioritai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mbre variable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Articulation avec autres politiques nationales sectoriel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ise en oeuv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compris budg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71360" y="999720"/>
            <a:ext cx="76150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sound (funded)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ountries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Nation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no clear nutrition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weakness: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ck of analysis /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ation (&amp; funding) need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itical commitment (long lasting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Programmes Nationaux de 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71360" y="121428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grammes opérationnels réduits (P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é mère/enfant (Maternité sans risque, allaitement, alimentation de complément, vaccinations, déparasitage, SPC, C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émentations/fortifications micronut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mentation en milieu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e en charge malnutrition aigu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tion communau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te dépendance vis à vis des PTF / 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as (ou peu) de mise à l’éch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blèmes de dur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59:27Z</dcterms:created>
  <dc:creator>Yves MARTIN-PREVEL</dc:creator>
  <dc:description/>
  <dc:language>en-US</dc:language>
  <cp:lastModifiedBy>Yves MARTIN-PREVEL</cp:lastModifiedBy>
  <dcterms:modified xsi:type="dcterms:W3CDTF">2008-09-23T00:41:04Z</dcterms:modified>
  <cp:revision>163</cp:revision>
  <dc:subject/>
  <dc:title>Diapositive 1</dc:title>
</cp:coreProperties>
</file>