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792-73B3-4911-9383-3152BAAF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nutrition encompasses several conditions (e.g. stunting, wasting, anaemia, etc...) and each of these is usually the result of a combination of factors as illustrated by the UNICEF causal model. Given the complex interplay of factors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eventing/addressing undernutrition in the long term requires acting concomitantly on several determinants and different levels of cause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immediate, underlying and basic caus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D6D-B518-4D2C-B154-0905D87F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C05-3AA4-4DFC-9E4C-7F35CC0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158-2CFC-4845-906E-E8A8A494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E40-EEDD-4800-894F-14332D42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EC0-E01C-4E30-AA50-9D2F7709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42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07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42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07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EF9-8BBF-4224-B206-EC64E9D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F19-01ED-4F5F-8078-B5E0D8AC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EFC-7F09-4D02-A103-2B18831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07E-3D34-4209-8B21-A8B55F75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86A-7DC5-46F3-AAC8-1062309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397476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F66-5C83-47E2-A2FD-F5C405F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05120"/>
            <a:ext cx="37184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9747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6A6-273D-46F9-902D-1BB9D9B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09588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FCA-DE25-4C8F-889D-C9D1377C6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41148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5962680"/>
            <a:ext cx="2590560" cy="62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4400" y="5867280"/>
            <a:ext cx="3048120" cy="773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transfers in the struggle against extreme poverty in West and Central Af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41907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hony Hod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CEF Regional Office, Dak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ef"/>
                </a:solidFill>
                <a:latin typeface="Arial"/>
              </a:rPr>
              <a:t>3. 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aeef"/>
                </a:solidFill>
                <a:latin typeface="Arial"/>
              </a:rPr>
              <a:t>Social protection in West and Central Africa</a:t>
            </a:r>
            <a:endParaRPr b="1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A0D-1620-4BF3-B57A-52ABBEB7D2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ef"/>
                </a:solidFill>
                <a:latin typeface="Arial"/>
              </a:rPr>
              <a:t>Traditional and community based social protection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solidarity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transfers, e.g. 17% of revenue of poor households in Mali (ELIM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s and credit associations (traditional microfi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al health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% of population in Senegal, 2% in M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iers of access for the poor (premiu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577-7E51-42A8-9E32-6CEF7F527E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Humanitarian’ social protection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cy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food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fo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feeding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with no link to long ter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EEE-B7A1-4BA2-87BB-91229771CC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Modern social security regimes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ibutory social security regimes based on formal sector employ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irement pensions, sickness and disability benefi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ach only 2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20% of the population due to small size of the formal sector of the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orest and most vulnerable are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rger scale social insu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ly really in Ghana: National Health Insurance Scheme set up in 2003 – now covers 42% of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milar plans in Senegal (goal of 50% coverage by 2015) and Mali (Assurance Médicale Obligat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t concerns about access by the poor (premiu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80A-0F3A-4474-808A-CEE11FDF3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ocial transfers in West and Central Africa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small-scale pilo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narrow groups (OVCs, disabled, elderly) in extreme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ana: Livelihood Empowerment Against Poverty (L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ed in April 2008: aims to reach 50,000 households by end 2008 and 180,000 in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rra Leone: Social Safety Net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17,000 destitute elderly (set up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7A9-2653-49B2-B8CB-41D4FD285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The implication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where social transfer programmes already exist is it possible quickly to scale these up as an effective response to the food price crisis (example of Gh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food price shock can spur the development of social transfers as a longer term response i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BE1-9FAC-4FEB-AC84-2F6307BCF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The opportunitie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untries have developed national social protection strategies, policies or pl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kina Faso, Cape Verde, Ghana, Mali, 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ave included social protection in their PR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 is to start operationalizing these paper commi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E7F-553E-4119-B770-A41C1FF2A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3.</a:t>
            </a:r>
            <a:br>
              <a:rPr sz="4400"/>
            </a:b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Some challenges for the design of cash transfer programmes in WCA 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933-D1BD-42A9-90F5-954BD0FB4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5 key considerations for social protection in WCA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nature of poverty – ‘we’re all po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inequit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side vs. demand side challenges in the social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space for soci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and administrativ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5A0-8FAB-40A9-A633-023F7A5EC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1. The extensive nature of poverty in WCA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oor are not a small marginalized or ‘left-behind’ minority, but often 40-70% of the popul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2514600"/>
          <a:ext cx="716256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16256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01F-4C45-4348-A7F2-03CB75B25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8670" r="0" b="0"/>
          <a:stretch/>
        </p:blipFill>
        <p:spPr>
          <a:xfrm>
            <a:off x="990720" y="304920"/>
            <a:ext cx="6546600" cy="5646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583320"/>
            <a:ext cx="262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Source: Lancet series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What are the implications?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 universal 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worth targeting 40 to 70%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re universal programmes afford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rgeting the ultra-poor/destit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 adopted in Ghana and Sierra Leone (OVCs, elderly and disabled in extreme poor H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x of categorical and community based tar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only reach small minority of extrem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ility criteria may be too restri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good is community based targeting? Especially in urba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inclusion and exclusion err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BE2-335A-491E-8AB4-27742BA2EA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2. ‘Top inequity’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rly flat income distribution for bottom 3-4 quintiles, with much higher incomes only in the top 1-2 quin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ed also in the ‘shape of the curves’ for social indicators by wealth 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st with other regions of the world, e.g. 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5 mortality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o child health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A84-BA33-4F5E-9E88-54CF628B81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ef"/>
                </a:solidFill>
                <a:latin typeface="Arial"/>
              </a:rPr>
              <a:t>Under 5 mortality: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99ff"/>
                </a:solidFill>
                <a:latin typeface="Arial"/>
              </a:rPr>
              <a:t>ratio of U5MR by quintiles to bottom quintile U5MR</a:t>
            </a: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(by wealth quintiles)</a:t>
            </a:r>
            <a:endParaRPr b="1" lang="en-US" sz="20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2057400"/>
          <a:ext cx="7201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01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6A8-1F04-41CE-ABBD-66BF43EEA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71600" y="179856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79856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80880" y="1905120"/>
            <a:ext cx="2743200" cy="533160"/>
          </a:xfrm>
          <a:prstGeom prst="wedgeRectCallout">
            <a:avLst>
              <a:gd name="adj1" fmla="val 24189"/>
              <a:gd name="adj2" fmla="val 22768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Cn BT"/>
              </a:rPr>
              <a:t>Bottom in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4267080"/>
            <a:ext cx="2514600" cy="533520"/>
          </a:xfrm>
          <a:prstGeom prst="wedgeRectCallout">
            <a:avLst>
              <a:gd name="adj1" fmla="val -6185"/>
              <a:gd name="adj2" fmla="val -29881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Cn BT"/>
              </a:rPr>
              <a:t>Top in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Percent of underfive children receiving six or more child survival interventions</a:t>
            </a:r>
            <a:br>
              <a:rPr sz="3200"/>
            </a:b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(by wealth quintiles)</a:t>
            </a: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6800" y="6553080"/>
            <a:ext cx="34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Victora et al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Lanc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C6A-0EFE-4F68-BC62-E1EDA78A35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engthens the case for univers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main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onal health insurance – Ghana model – but can poor afford premiu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provision of free essential healt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hana is combining the 2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HIS plus free health services for all children (&lt;18) and pregnant and post-partum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re limited fee abolition in some other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886-1A64-4C5E-A738-7DD43BF510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3. </a:t>
            </a: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Supply side deficits in basic social service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tionale for CCTs in Latin America: address demand-side constraints on access by poor to basic 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t in SSA there are still huge supply deficits: e.g. primary pupil-teacher ratio is twice as high as in Lat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3138480"/>
          <a:ext cx="5867640" cy="319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38480"/>
                    <a:ext cx="586764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DA9-CF40-406A-B825-5557A99CF2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ditionality in cash transfers makes little sense – and risks excluding the most marg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overnments face difficult trade-offs between priorities (within hard budget constrai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.g. invest in availability &amp; quality of primary education? Or invest in social transfers to overcome demand side barri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336-0D81-4CF3-B51C-CE92AE7F7A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4. Fiscal space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DP and fiscal space vary enormously between countries, even within W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world of difference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dful of oil producers with massive fiscal sur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jority of low income countries with persistent deficits despite debt r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overnments face hard choices between social sectors, infrastructure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27-B8C5-46B2-AC49-4E6286C823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434880"/>
            <a:ext cx="7391520" cy="606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143000"/>
            <a:ext cx="2362320" cy="5310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iversal benefits (e.g. child grants &amp; social pensions) in oil sta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 income redistribution mechanism, not just ‘poverty reduction’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word of caution: future sustainabil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C6D-4061-421E-91D8-ED4A2786F1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ff"/>
                </a:solidFill>
                <a:latin typeface="Arial"/>
              </a:rPr>
              <a:t>Affordability of universal child benefit?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1752480"/>
          <a:ext cx="678168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78168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1AE-2FEE-4E2A-B731-D073ADAD4C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aeef"/>
                </a:solidFill>
                <a:latin typeface="Arial"/>
              </a:rPr>
              <a:t>Structure of the presentation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le of social transfers in 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 situation of social protection in West and Central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e challenges for the design of social transfer programmes in West and Central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66E-DCBD-4B81-B07A-C9B2B47BF3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5. Governance and administrative capacity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24 countries in WCA, 14 are ‘fragile states’ (World Ban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dministrative capacity – especially in Ministries of Soci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and weak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budgets and weak staffing (social workers,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: Transparency Perceptions Index: All but 4 WCA countries are in the bottom 80 out of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EE2-8E35-4D69-B954-111FDE0304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administrative burden of programmes by avoiding complex targeting processes or monitoring of condi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ffordable, universal approaches are more practical and less prone to corru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high priority to capacity building of the responsible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2F2-0F96-4457-AACC-88BEC9D930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99ff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h transfers have strong att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vide social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mote way out of poverty by building assets and huma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e more flexible than in-kind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t not a ‘silver bullet’: difficult design issues and trade-offs with other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 ‘one size fits all’: programmes need to be based on count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AD0-48CE-4CCA-95E1-14057715FC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aeef"/>
                </a:solidFill>
                <a:latin typeface="Arial"/>
              </a:rPr>
              <a:t>1.</a:t>
            </a:r>
            <a:br>
              <a:rPr sz="4400"/>
            </a:br>
            <a:r>
              <a:rPr b="1" lang="fr-FR" sz="2000" spc="-1" strike="noStrike">
                <a:solidFill>
                  <a:srgbClr val="00aeef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4400" spc="-1" strike="noStrike">
                <a:solidFill>
                  <a:srgbClr val="00aeef"/>
                </a:solidFill>
                <a:latin typeface="Arial"/>
              </a:rPr>
              <a:t>Role of social transfers in poverty reduction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9E9-5C0C-4E6C-B9B0-AEB035AF7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ef"/>
                </a:solidFill>
                <a:latin typeface="Arial"/>
              </a:rPr>
              <a:t>What are social transfers?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contributory grants paid to poor/vulnerable or specific soci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7720" y="2590560"/>
            <a:ext cx="3581640" cy="335268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social transf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kind transfers (food, tools and seed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2590560"/>
            <a:ext cx="4190760" cy="335268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cash transf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and less expensive to de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to distort loc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for beneficiaries, who have multiple needs and know best how to spend thei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-kind transfers are generally better in conditions where markets function poo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120-080A-45E8-8B1A-5FE891FE1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ef"/>
                </a:solidFill>
                <a:latin typeface="Arial"/>
              </a:rPr>
              <a:t>Functions of social transfers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tec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hort term safety net to protect poor and vulnerable against sh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ven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harmful coping strategies, e.g. sale of cattle and other assets, withdrawal of children from school, child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build the capabilities and assets of the p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 households to invest in productive assets and contribute to 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 households to invest in their children (human capital develop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8DC-9475-4A1C-A939-9B71A5478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ef"/>
                </a:solidFill>
                <a:latin typeface="Arial"/>
              </a:rPr>
              <a:t>Cash transfers and investment in  children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transfers as ‘demand-side’ instr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 the supply of education, health servi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overcome demand-side barriers of access, such as fees, transport costs and opportun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 in 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break out of poverty tr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reak the inter-generational transmission of poverty (gir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mothers →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A4C-0FBD-4026-83B9-05B467412C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ef"/>
                </a:solidFill>
                <a:latin typeface="Arial"/>
              </a:rPr>
              <a:t>Highly relevant in the current food price crisis</a:t>
            </a:r>
            <a:endParaRPr b="1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 transfers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hion the price shock on househol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hildren from risks of deterioration in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n the risk of reduction in use of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prevent resort to harmful coping strategies (withdrawal of children from school, child labour, sale of productive asset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AA2-2026-42A8-9350-8A1E41417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aeef"/>
                </a:solidFill>
                <a:latin typeface="Arial"/>
              </a:rPr>
              <a:t>The challenge</a:t>
            </a:r>
            <a:endParaRPr b="1" lang="en-US" sz="4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cial transfers a viable policy response to the food price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5F7-FA7A-4B80-A0C3-00D6E50F2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1:54:29Z</dcterms:created>
  <dc:creator>ITD</dc:creator>
  <dc:description/>
  <dc:language>en-US</dc:language>
  <cp:lastModifiedBy>user</cp:lastModifiedBy>
  <dcterms:modified xsi:type="dcterms:W3CDTF">2008-09-23T12:46:32Z</dcterms:modified>
  <cp:revision>51</cp:revision>
  <dc:subject/>
  <dc:title>CLICK AND TYPE TITLE HERE</dc:title>
</cp:coreProperties>
</file>