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375-40FC-4793-B00A-9B1F1764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E35-7A9E-48E7-A814-DB003DD1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876-2237-4F07-AB10-C1C71CE8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575-2D90-41FA-B1C3-24151998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9CD-5494-467D-AEC2-F021AAB1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7AF-C069-4F35-ABAB-D5050530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931-15A6-4272-BA1D-2B4F3D56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2BB-9D59-4240-800A-853173EC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3BD-2E15-4AC4-9748-6FBC2E78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B83-4507-4C5B-80DF-C2FAEA01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1E4-FAA2-4D1C-87EB-0890636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B18-79F1-4AAA-A0B3-B531B60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AFC9-792C-42E0-8729-7A6F9D84B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20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ste d’action en lien avec la hausse des p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tée des prix a été effective (exe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/- importante selon les produits (import/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ffet positif potentiel sur milieu rural (variable selon rôle dans la filiè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ffet négatif en milieu urb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uvements populaires variables, pas tjs liés à la seule hausse des 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ications « Tsunami silencieux » peu/pas connues, manque de systèmes de su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ponse fonction des besoins des p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es lieux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es d’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ut-on dissocier Food et carburan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ut-il cibler le rural ou l’urba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ppel des pistes du « non paper » 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urt, moyen, long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uman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ui budgé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ferts soc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lance agricole/dév r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ui budgét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ls indicateur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lles conditions ? (appui S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es sont mieux bénéfici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érêts : rapidité, déclaration Paris/appropriation, équilibre balance paiement (cas Mauritanie, Sénég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rundi)  + baisse taxe, mais peu cibl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 &gt;0  Mauritanie avec baisse effective des prix, cas &lt;0 Mali ou oligopole a enrichi quelques commerça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soin restructuration filière int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érence, aide simultanée au prix de certaines produits locaux et subvention d’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ts soci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tection , préservation,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sh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ssibilité d’inverser les trois niveaux pour mieux lier à relance agr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Mali fixation dunes, r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aide femmes chef de foyer, travail mi temps (ciblage d’un groupe plus vulnér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veloppement 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lon les cas /pays (diversifier au Sénégal, augmenter en RD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DC très intéressés car potentiel de progression énorme pour production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habilitation terre, fumure organique au Burk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s de dérogation (EnvB région), procédures urgence pour gré à gré (Burkina) lié à la saison agr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ction des outils/facil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on titre 2 ou titr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s de mise en œuvre diffé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érateurs élar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oin de ré-identifier les projets/programmes + adaptés en fonction des nouvelles opportunités/contrai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t-il déjà envisager le plan B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28:12Z</dcterms:created>
  <dc:creator>user</dc:creator>
  <dc:description/>
  <dc:language>en-US</dc:language>
  <cp:lastModifiedBy>user</cp:lastModifiedBy>
  <dcterms:modified xsi:type="dcterms:W3CDTF">2008-09-24T11:10:01Z</dcterms:modified>
  <cp:revision>5</cp:revision>
  <dc:subject/>
  <dc:title>Diapositive 1</dc:title>
</cp:coreProperties>
</file>