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7316-5801-4F47-861D-5B228AF0E1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: process s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aws on Lancet + 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wo parts in the presentation: context and suggested next steps for the 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derweight: a combination of stunting and wasting / insuffisance pondé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derweight: a combination of stunting and wasting / insuffisance pondé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derweight: a combination of stunting and wasting / insuffisance pondé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derweight: a combination of stunting and wasting / insuffisance pondé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derweight: a combination of stunting and wasting / insuffisance pondé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derweight: a combination of stunting and wasting / insuffisance pondé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6271-959A-4182-924C-786BF3FA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7088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4000" y="3736440"/>
            <a:ext cx="7088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ECF-02D5-4B89-BAD5-FB95DF5D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4000" y="373644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316040" y="373644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196-FB3E-4340-BD9E-2BA2AB3C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80520" y="328428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477040" y="328428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4000" y="373644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80520" y="373644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477040" y="373644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547-FB19-4CA4-BEB8-4895D512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7DDB-0C66-443C-98AC-1939C708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5383-9769-4DDD-8EC6-1B075CE9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0446-A609-4513-8002-D6B196A9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8F89-981F-4F37-8CDC-EE994489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F1E5-FF32-4F99-A1BA-3A9A9B24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7E48-8E0C-4456-936B-52B7C522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4000" y="373644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68C5-4043-4CD8-A228-E90E7409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684-D3ED-4852-8222-726FF073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316040" y="373644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B15A-3D6C-4994-A918-EB28A924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4000" y="3736440"/>
            <a:ext cx="7088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3EF1-299F-4A78-84B9-6473B8C3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7088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4000" y="3736440"/>
            <a:ext cx="7088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D350-88D3-4C14-8C28-16463688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4000" y="373644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316040" y="373644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4105-790C-417A-8A94-8219673B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080520" y="328428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77040" y="328428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4000" y="373644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080520" y="373644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477040" y="3736440"/>
            <a:ext cx="2282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B44F-FDA1-4E50-9E1A-EC031549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C33-8235-4C84-9507-2A074281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F0A-8282-4B1E-9800-187688E0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D58-0755-4028-8AAA-C4E2406F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F66E-6608-4BDD-921F-B7ACE844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000" y="373644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06E-015F-421F-B981-7FA51483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16040" y="373644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4FA-3921-4770-9C21-F7DB46BF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00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6040" y="3284280"/>
            <a:ext cx="345888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4000" y="3736440"/>
            <a:ext cx="7088040" cy="41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AA3-685C-45B6-8B7A-594CABC9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F8FD-27E7-4A46-8517-C027075F0A79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280360" y="0"/>
            <a:ext cx="863640" cy="6858000"/>
            <a:chOff x="8280360" y="0"/>
            <a:chExt cx="863640" cy="6858000"/>
          </a:xfrm>
        </p:grpSpPr>
        <p:sp>
          <p:nvSpPr>
            <p:cNvPr id="11" name=""/>
            <p:cNvSpPr/>
            <p:nvPr/>
          </p:nvSpPr>
          <p:spPr>
            <a:xfrm>
              <a:off x="87692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8280360" y="682560"/>
              <a:ext cx="863640" cy="1224000"/>
              <a:chOff x="8280360" y="682560"/>
              <a:chExt cx="863640" cy="1224000"/>
            </a:xfrm>
          </p:grpSpPr>
          <p:sp>
            <p:nvSpPr>
              <p:cNvPr id="13" name=""/>
              <p:cNvSpPr/>
              <p:nvPr/>
            </p:nvSpPr>
            <p:spPr>
              <a:xfrm>
                <a:off x="8280360" y="161928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280360" y="115092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280360" y="68256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307040" y="6227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428400" y="6232680"/>
            <a:ext cx="2895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57" name="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8280360" y="0"/>
            <a:ext cx="863640" cy="6858000"/>
            <a:chOff x="8280360" y="0"/>
            <a:chExt cx="863640" cy="6858000"/>
          </a:xfrm>
        </p:grpSpPr>
        <p:sp>
          <p:nvSpPr>
            <p:cNvPr id="62" name=""/>
            <p:cNvSpPr/>
            <p:nvPr/>
          </p:nvSpPr>
          <p:spPr>
            <a:xfrm>
              <a:off x="87692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8280360" y="682560"/>
              <a:ext cx="863640" cy="1224000"/>
              <a:chOff x="8280360" y="682560"/>
              <a:chExt cx="863640" cy="1224000"/>
            </a:xfrm>
          </p:grpSpPr>
          <p:sp>
            <p:nvSpPr>
              <p:cNvPr id="64" name=""/>
              <p:cNvSpPr/>
              <p:nvPr/>
            </p:nvSpPr>
            <p:spPr>
              <a:xfrm>
                <a:off x="8280360" y="161928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80360" y="115092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80360" y="682560"/>
                <a:ext cx="86364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8767440" y="6443640"/>
            <a:ext cx="3762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1f1d"/>
                </a:solidFill>
                <a:latin typeface="Times New Roman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714B-D89C-4A06-A185-1A4C24EBAC08}" type="slidenum">
              <a:rPr b="0" lang="en-US" sz="1000" spc="-1" strike="noStrike">
                <a:solidFill>
                  <a:srgbClr val="aa1f1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9440" y="2125800"/>
            <a:ext cx="7556760" cy="92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cc"/>
                </a:solidFill>
                <a:latin typeface="Verdana"/>
              </a:rPr>
              <a:t>Groupe de travail 2</a:t>
            </a:r>
            <a:r>
              <a:rPr b="1" lang="fr-FR" sz="2000" spc="-1" strike="noStrike">
                <a:solidFill>
                  <a:srgbClr val="33cccc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1" lang="fr-FR" sz="3200" spc="-1" strike="noStrike">
                <a:solidFill>
                  <a:srgbClr val="33cccc"/>
                </a:solidFill>
                <a:latin typeface="Verdana"/>
              </a:rPr>
              <a:t>Nutrition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673200" y="6049800"/>
            <a:ext cx="19303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dceff0"/>
                </a:solidFill>
                <a:latin typeface="Lucida Sans"/>
              </a:rPr>
              <a:t>AIDCO - E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7720" y="384120"/>
            <a:ext cx="684216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a1f1d"/>
                </a:solidFill>
                <a:latin typeface="Verdana"/>
              </a:rPr>
              <a:t>Séminaire Sécurité Alimentaire </a:t>
            </a:r>
            <a:br>
              <a:rPr sz="2400"/>
            </a:br>
            <a:r>
              <a:rPr b="1" lang="fr-FR" sz="2400" spc="-1" strike="noStrike">
                <a:solidFill>
                  <a:srgbClr val="aa1f1d"/>
                </a:solidFill>
                <a:latin typeface="Verdana"/>
              </a:rPr>
              <a:t>– Afrique de l'Ouest et Centrale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46640" y="3335400"/>
            <a:ext cx="258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September 24rd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725C-A1A6-4030-BE71-4B115A8A9B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0280" y="840960"/>
            <a:ext cx="5280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Participants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1413000"/>
            <a:ext cx="734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498680"/>
            <a:ext cx="7873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6600" y="1378080"/>
            <a:ext cx="834372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es champions de la Nutr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tephane 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laire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es RE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bilio (Guinée Bissa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arole R(M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Olivier  Lefay  (Niger)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xcu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CH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Jan (Regional Dakar)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e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es  outs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Jacqueline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Olivier LEO (Ispra) Le raporteur desig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F457-E442-4516-A1F4-7F056F0BA5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1413000"/>
            <a:ext cx="734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498680"/>
            <a:ext cx="7873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Verdana"/>
              </a:rPr>
              <a:t>Diagnostic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cho a la limite de son mandat d’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s de detection Nutrition  dans les prog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ifficile de prendre en relais les actions d’urgences  et de development  (ti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soin d’y voir plus clair sur le 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adre strategique / analyse commune avec EC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Depasser les clivages et la logique budgetaire  pour se centrer sur l’analy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5960" y="1111320"/>
            <a:ext cx="8343720" cy="38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3D25-4652-4F65-836D-270499889F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34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498680"/>
            <a:ext cx="7873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Trois grands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Niveau d’entrée de la Nutrition dans les programmes Appui Budge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jets (SA) /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apacité techniques des del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6600" y="2432160"/>
            <a:ext cx="8343720" cy="38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12A2-B987-49F8-8FF0-0745F09178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549000"/>
            <a:ext cx="6715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a1f1d"/>
                </a:solidFill>
                <a:latin typeface="Verdana"/>
              </a:rPr>
              <a:t>Nutrition dans l’appui Budgetair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789520" y="1413000"/>
            <a:ext cx="2238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440" y="1378080"/>
            <a:ext cx="8344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oints d’entrée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utrition dans le dialogue  /  Gouverna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tous les etages  (DSP, Doc lutte pauvreté, aut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vec les autres bailleurs  et les orgnaisations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SP Document strategique P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NFORCER L’ANALYSE   </a:t>
            </a:r>
            <a:r>
              <a:rPr b="1" i="1" lang="it-IT" sz="1600" spc="-1" strike="noStrike">
                <a:solidFill>
                  <a:srgbClr val="ffffff"/>
                </a:solidFill>
                <a:latin typeface="Verdana"/>
              </a:rPr>
              <a:t>Dans L’etat des lieux mettre en evidence la situation nutrition (populations et regions à risque, reponses existantes et deman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Choix strategique  de  l’ancrage de  Nutrition dans priorité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En fonction des liens et support institutio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niveau d’ambition  et objectifs spe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Reflechir aux modali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Conditionnalité  incluant des  indicateurs Nutrition ( Appui Bud. Global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IN  Programme indicatif 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Veiller que c’est pris en copmte dans les priorités avec Budg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81CE-CD5D-4DDE-B454-A28B2953BC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1413000"/>
            <a:ext cx="734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6600" y="901800"/>
            <a:ext cx="78739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CAPACITES DES DELE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as d’expert  Nutrition dans les delegation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Mali. cf appui Echo Dakar,  mais difficult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Guine Bissao: Consultation avec expert UNICE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esoins Renforcer les capacités du staff 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crutement  SIEGE ??? DEL REGIONALES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nsultance ponctuélle  et ciblée ? (Listes d’exper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Form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eminaire pour avoir analyse commune de la problema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Utilisation etude exisitantes  (ex UNICEF)  pour sensibili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00"/>
                </a:solidFill>
                <a:latin typeface="Verdana"/>
              </a:rPr>
              <a:t>Nutrition Handbook  ou Hanbook SA incluant une composante nutriti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Besoins d’etude de cas…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Formation de base pour les agents  en delegation , y compris sur les indicateu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600" y="2432160"/>
            <a:ext cx="8343720" cy="38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4729-D33E-4B84-A499-0E74AB97AA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4360" y="1413000"/>
            <a:ext cx="734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2880" y="1003320"/>
            <a:ext cx="787428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Aide  Projets</a:t>
            </a:r>
            <a:r>
              <a:rPr b="0" lang="en-GB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Verdana"/>
              </a:rPr>
              <a:t>Document technique Pays  Debut d</a:t>
            </a:r>
            <a:r>
              <a:rPr b="0" lang="it-IT" sz="1800" spc="-1" strike="noStrike">
                <a:solidFill>
                  <a:srgbClr val="cc0000"/>
                </a:solidFill>
                <a:latin typeface="Verdana"/>
              </a:rPr>
              <a:t>’</a:t>
            </a:r>
            <a:r>
              <a:rPr b="0" lang="en-GB" sz="1800" spc="-1" strike="noStrike">
                <a:solidFill>
                  <a:srgbClr val="cc0000"/>
                </a:solidFill>
                <a:latin typeface="Verdana"/>
              </a:rPr>
              <a:t>a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utrition  inclue  dans le do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t discutée avec les  ONG et partenaires nationa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pproche locale  et consensuelle sur les programmes priorita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uis identifier financement tiers  si instruments inadap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Verdana"/>
              </a:rPr>
              <a:t>Appel a pro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sertions des apects nutritions dnas les ToR et critieres de sele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t /ou insertion d’indicateur Nutrition dans les projets 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Comment  eviter simple verni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Besoins de Lignes directrices  / Appel a pro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(actions elligibles ,  ineligibles , criteres d’evaluations, indicateurs…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6600" y="2432160"/>
            <a:ext cx="8343720" cy="38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D994-7049-41B2-94E4-8A0EB4BB23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1:43:51Z</dcterms:created>
  <dc:creator>aidco-sd-tech2</dc:creator>
  <dc:description/>
  <dc:language>en-US</dc:language>
  <cp:lastModifiedBy>JRC User</cp:lastModifiedBy>
  <dcterms:modified xsi:type="dcterms:W3CDTF">2008-09-24T11:46:50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