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727-30F6-4F24-92E2-8D24F970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6FC-6CBC-4DBF-ADBB-8D5E513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C78-0EE3-4B69-ACC9-9949EFD9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8D6-A497-4450-A962-3A746350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771-4505-4C71-9C00-A4DB6D46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4C7-A871-4478-B7F7-3D24203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786-E887-4A2E-9CB3-8FD623DE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285-8CF4-4825-AFCD-7950BD69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E5C-21CB-4F85-A30D-750B5DED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D51-0699-49DA-AE41-7A2AEF7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4BF-9347-4713-AF7F-0AA4C486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EC5-8362-46E4-80F7-0AC4139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2DCF-F71F-4A12-830E-8BE961318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alités de mise en œuvre des transferts sociaux: Le cas de l’Afrique de l’Ouest et du Cen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ppel des éléments de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ntages des systèmes de transferts sociaux mais difficulté à les rendre opérationn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eur de la pauvre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bl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ement (espace fiscal rédu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é administrative des autorités nat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ement poli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intes spécifiques à la région de l’AO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sur le risque d’assistan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tuité vs conditionnalités/rembou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vernance et risque de clientél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que de connaissances sur l’approche 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itifs nationaux dans le Sa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ertain nombre de conditions préalables ne semblent pas être remplies (ex. Niger-Tcha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ditions préal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écessité de prendre en compte les caractéristiques spécifiques p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préalable (pertinence TS et beso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s exportateurs du pétrole et de l’ura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AO: des politiques en matière de protection sociale et pays éligibles à l’appui budgétaire (Sénégal, Mali, BF, Ghana, Sierra Leone, Cap Ve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que Centr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ditions préal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istence d’une politique/stratégique nationale (ex. SDR du Niger): Point d’anc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tégration et articulation des systèmes de transferts sociaux dans les pol. 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olonté politique: promotion du dialogue entre les différents partenaires et sensibilisation pour bâtir les conditions nécessaires pour la mise en place des transferts soci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ouvernance (minimiser la complexité des systèmes et les conditionnalit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istence des dispositifs permettant d’assurer le cib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stes de réflex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itifs nationaux de gestion et de prévention des crises alimentaires (élargissement du mand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e en œuvre à une échelle plus réduite, par d’autres opérateurs et programmes existantes (outil d’inter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e en place des TS en lien avec la stratégie de lutte contre la malnutrition (approche universelle mais ciblage des femmes et enf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39:29Z</dcterms:created>
  <dc:creator> </dc:creator>
  <dc:description/>
  <dc:language>en-US</dc:language>
  <cp:lastModifiedBy> </cp:lastModifiedBy>
  <dcterms:modified xsi:type="dcterms:W3CDTF">2008-10-13T15:24:08Z</dcterms:modified>
  <cp:revision>4</cp:revision>
  <dc:subject/>
  <dc:title>Modalités de mise en œuvre des transferts sociaux: Le cas de l’Afrique de l’Ouest et du Centre</dc:title>
</cp:coreProperties>
</file>