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83A2-A294-4172-A93A-FDE5F151C9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mpact of Climate Change: e.g. Food Security: </a:t>
            </a: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adaptation and mitigation for small-holder far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Impact of other global developments: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e.g. Food Security: </a:t>
            </a: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Increase in food pr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F83-3E1E-469A-809A-958B7704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B6C8-EDB3-47C4-BB77-B44132A4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66C-16E3-4660-8949-9C44AABE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BC0-6CE3-4A0E-81C5-F55B730A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A4C5-773B-4DD5-8E06-A770488A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214C-432D-40AD-B82C-4B883835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A2BA-DC14-4A12-BC88-769AE959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59B2-1F34-4F30-A8E2-4C98E36F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CAC2-EA2F-483E-99FF-F7006168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19D1-B8CD-45B7-A00F-64D77F13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693A-705C-4140-9F36-4B70B788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B7A-E5DD-40C3-A898-5EEC1FE6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95B5-8FB4-42D9-B15F-994B04FF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7BC1-69D4-41B8-B1BA-1D4BB613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4A07-16C9-49FD-8C94-4DFA4ED1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F95B-62A4-4733-A7A1-3B5E928E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0F6F-743F-415E-B76E-0E685D27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0A9-EDA7-4689-9CB3-AB8BF860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786-3B2B-444B-B5F0-738BFB29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8B6-0BD3-452B-8532-4D0CE0AB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287C-BE58-48A7-8F22-AF44CE52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29C-2010-434F-8515-1115AE86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244-A2FD-4112-A77E-9E47ED89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DE7D-C7D1-44E1-9D0E-DBDDE5AF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B776-88AA-417D-88E1-7C3D87EE9CE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FCFA-C78E-4A8E-8C16-8E305B76D8C8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025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03c72"/>
                </a:solidFill>
                <a:latin typeface="Verdana"/>
              </a:rPr>
              <a:t>2008/09 Annual Action Programmes</a:t>
            </a:r>
            <a:br>
              <a:rPr sz="2800"/>
            </a:br>
            <a:br>
              <a:rPr sz="2800"/>
            </a:br>
            <a:r>
              <a:rPr b="1" lang="fr-BE" sz="2800" spc="-1" strike="noStrike">
                <a:solidFill>
                  <a:srgbClr val="103c72"/>
                </a:solidFill>
                <a:latin typeface="Verdana"/>
              </a:rPr>
              <a:t>for Food Security</a:t>
            </a:r>
            <a:endParaRPr b="1" lang="en-US" sz="2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10920" y="4149360"/>
            <a:ext cx="70880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103c72"/>
                </a:solidFill>
                <a:latin typeface="Verdana"/>
              </a:rPr>
              <a:t>Simona Mari-Sabatini</a:t>
            </a:r>
            <a:br>
              <a:rPr sz="2400"/>
            </a:br>
            <a:r>
              <a:rPr b="1" i="1" lang="fr-BE" sz="2400" spc="-1" strike="noStrike">
                <a:solidFill>
                  <a:srgbClr val="103c72"/>
                </a:solidFill>
                <a:latin typeface="Verdana"/>
              </a:rPr>
              <a:t>AIDCO F/3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7786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c8"/>
                </a:solidFill>
                <a:latin typeface="Verdana"/>
              </a:rPr>
              <a:t>II. Food Security 2008 – What &amp; how?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4.b</a:t>
            </a: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Linking Relief to Rehabilitation and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Development (LRRD)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821160" indent="-3729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2008: Local calls for proposal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1270800" indent="-373320">
              <a:lnSpc>
                <a:spcPts val="3498"/>
              </a:lnSpc>
              <a:buClr>
                <a:srgbClr val="103c72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Calls foreseen to be launched in Sept. 2008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70800" indent="-373320">
              <a:lnSpc>
                <a:spcPts val="3498"/>
              </a:lnSpc>
              <a:buClr>
                <a:srgbClr val="103c72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Contracts to be signed by end 2009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70800" indent="-373320">
              <a:lnSpc>
                <a:spcPts val="3498"/>
              </a:lnSpc>
              <a:buClr>
                <a:srgbClr val="103c72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Countries covered in Africa and actions foreseen: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71720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Chad (€ 4,4m): 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integration of refugees from RC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71720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Sudan (€ 9m): 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restart agricultural/fisheries activities, 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stabilisation of IDPs/refuge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71720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Zimbabwe (€ 16m): agricultural inputs, access to water, 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livestock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71720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21160" indent="-3729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Who?  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C Deleg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71720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6165720"/>
            <a:ext cx="58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189000"/>
            <a:ext cx="525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2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6. Advocacy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6.a European Initiative for Agricultural Research for Development (EIARD)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8520" indent="-2570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,3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8520" indent="-2570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stering European aid effectiveness for AR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6.b Global Donor Platform for Rural Development (GDPRD)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8520" indent="-2570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,5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8520" indent="-2570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latform for better donors’ cooperation and collaboration in dialogue with partner countries to fight rural pover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02996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Who?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C HQs 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(centralised, AIDCO/F/3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24000" y="476280"/>
            <a:ext cx="77752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c8"/>
                </a:solidFill>
                <a:latin typeface="Verdana"/>
              </a:rPr>
              <a:t>II. Food Security 2008 – What &amp; how?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786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. Food Security 2008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– What &amp; how?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  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79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c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  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Strengthening civil society participation in the                                      international policy dialogue for an increased food secur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Global Call for proposal to be launched by Oct. 2008: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 </a:t>
            </a:r>
            <a:br>
              <a:rPr sz="2000"/>
            </a:b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4.5 m €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einforce the analysis and action capacities of civil society for increased food crisis preven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einforce civil society capacity in international and national debate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mote links and alliance building, as well as coordination among civil society acto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0">
              <a:lnSpc>
                <a:spcPts val="34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Who? 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EC HQ (centralised, AIDCO/F/3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86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hallenges ahead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03c72"/>
                </a:solidFill>
                <a:latin typeface="Verdana"/>
              </a:rPr>
              <a:t>Main challenges for 2008 and beyond: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Close 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monitoring of food prices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 to better prevent food crises and chronic malnutrition</a:t>
            </a:r>
            <a:br>
              <a:rPr sz="2000"/>
            </a:b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mpact of 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global developments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,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specially the impact of climate change on food secur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mprove time for Dialogue with civil society and international organisations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s well as with other partners for 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ncreased aid effectivenes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I. Food Security 2009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– What &amp; how?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1.a ARD at global level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Global programme on ‘Agricultural innovation for smallholder farmers in developing countries”: € 5 m (2009) and € 18 m (2010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03c72"/>
                </a:solidFill>
                <a:latin typeface="Verdana"/>
              </a:rPr>
              <a:t>Themes: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3c72"/>
                </a:solidFill>
                <a:latin typeface="Verdana"/>
              </a:rPr>
              <a:t>Climate change adaptation and mitigation for small-holders farmers in developing countries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3c72"/>
                </a:solidFill>
                <a:latin typeface="Verdana"/>
              </a:rPr>
              <a:t>Trade-offs between bio-fuels and crop growing: innovative policies and techniques to ensure the right balance for food securit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3c72"/>
                </a:solidFill>
                <a:latin typeface="Verdana"/>
              </a:rPr>
              <a:t>Ecological agriculture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3c72"/>
                </a:solidFill>
                <a:latin typeface="Verdana"/>
              </a:rPr>
              <a:t>Innovation systems involving smallholders farmers and traditional knowledge in developing countrie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3c72"/>
                </a:solidFill>
                <a:latin typeface="Verdana"/>
              </a:rPr>
              <a:t>Empowering small-holder farmers in the access to marke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3c72"/>
                </a:solidFill>
                <a:latin typeface="Verdana"/>
              </a:rPr>
              <a:t>Risk management in family agriculture in developing countrie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609300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Who? 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EC HQs (centralised AIDCO/F/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I. Food Security 2009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– What &amp; how?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03c72"/>
                </a:solidFill>
                <a:latin typeface="Verdana"/>
              </a:rPr>
              <a:t>1.b ARD for Africa: € 31 m (under identification)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Association for Strengthening Agricultural Research in Eastern and Central Africa (ASARECA: € 4 m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Conseil Ouest et Centre Africain pour la Recherche et le Développement (CORAF: € 12 m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International Centre of Insect Physiology and Ecology (ICIPE: € 1,5 m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Southern African Development Community (SADC: € 8 m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Platform for African-European Partnership in Agricultural Research for Development (PAEPARD: € 5,5 m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 flipV="1" rot="10772400">
            <a:off x="533160" y="5732640"/>
            <a:ext cx="778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Who? 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EC HQs (AIDCO/C/4) and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I. Food Security 2009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– What &amp; how?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2. Food Security Information Systems FSIS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25 m (under identifica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ILSS: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€ 10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JRC/East Africa: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€ 5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NPI: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€ 6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entral Asia: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€ 4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5229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Who?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C HQs + regional Dele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I. Food Security 2009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– What &amp; how?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69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3. Continental/regional programmes for Africa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24 m (under identifica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Theme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)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Policy development and harmonisation: </a:t>
            </a:r>
            <a:br>
              <a:rPr sz="2000"/>
            </a:b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acity building to CAADP lead institutions and RE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2)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Sustainable management of natural resources: </a:t>
            </a:r>
            <a:br>
              <a:rPr sz="2000"/>
            </a:b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and degradation, drought and desertification, marine resources, forestry resources, cross-border management of natural resources, climate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3)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Disaster and risk reduction:</a:t>
            </a:r>
            <a:br>
              <a:rPr sz="2000"/>
            </a:b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isk assessment and risk reduction, preparedness and early warning, response and rehabilitation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623736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Who?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C HQs + regional Dele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I. Food Security 2009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– What &amp; how?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4.b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Linking Relief to Rehabilitation and Development 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(LRRD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2009 local calls for proposal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Guinea: 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€ 7 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Burundi: 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€ 5,278 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DRC: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€ 12 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CAR: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€ 3 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103c72"/>
                </a:solidFill>
                <a:latin typeface="Verdana"/>
              </a:rPr>
              <a:t>DEL Please send over main fields of intervention to AIDCO/F/3!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V="1" rot="10824600">
            <a:off x="460080" y="5344560"/>
            <a:ext cx="74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Arial"/>
              </a:rPr>
              <a:t>Who? 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EC HQs + regional Dele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I. Food Security 2009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– What &amp; how?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16080" indent="-316080">
              <a:lnSpc>
                <a:spcPts val="2798"/>
              </a:lnSpc>
              <a:buClr>
                <a:srgbClr val="103c72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Innovative approaches to combat food insecurity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26 countries: € 22 m (2008) and € 33 m (2009)</a:t>
            </a:r>
            <a:br>
              <a:rPr sz="2000"/>
            </a:br>
            <a:r>
              <a:rPr b="0" lang="fr-BE" sz="1600" spc="-1" strike="noStrike">
                <a:solidFill>
                  <a:srgbClr val="103c72"/>
                </a:solidFill>
                <a:latin typeface="Verdana"/>
              </a:rPr>
              <a:t>(Mr Weber’s note to DEL no. 9598 of 10/05/2007)</a:t>
            </a:r>
            <a:br>
              <a:rPr sz="1600"/>
            </a:br>
            <a:r>
              <a:rPr b="1" lang="fr-BE" sz="1800" spc="-1" strike="noStrike">
                <a:solidFill>
                  <a:srgbClr val="103c72"/>
                </a:solidFill>
                <a:latin typeface="Verdana"/>
              </a:rPr>
              <a:t>Themes are annexed to the Thematic Strate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2009: € 2 million per countr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03c72"/>
                </a:solidFill>
                <a:latin typeface="Verdana"/>
              </a:rPr>
              <a:t>GUINEA BISSAU: 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animal traction, fisheries, early war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03c72"/>
                </a:solidFill>
                <a:latin typeface="Verdana"/>
              </a:rPr>
              <a:t>CHAD: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 nutri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03c72"/>
                </a:solidFill>
                <a:latin typeface="Verdana"/>
              </a:rPr>
              <a:t>MAURITANIA*: 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cross-border food exchanges, data on agricultural production, local develop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03c72"/>
                </a:solidFill>
                <a:latin typeface="Verdana"/>
              </a:rPr>
              <a:t>SIERRA LEONE: 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urban and peri-urban agriculture in Freetown area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03c72"/>
                </a:solidFill>
                <a:latin typeface="Verdana"/>
              </a:rPr>
              <a:t>NIGER*: </a:t>
            </a: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safety ne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16080" indent="-31608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03c72"/>
                </a:solidFill>
                <a:latin typeface="Verdana"/>
              </a:rPr>
              <a:t>2 countries to be retained in 2009, 3 countries in 2010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16080" indent="-316080">
              <a:lnSpc>
                <a:spcPct val="100000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Who?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C Deleg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16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84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I. Introduction     </a:t>
            </a: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fr-BE" sz="1800" spc="-1" strike="noStrike">
                <a:solidFill>
                  <a:srgbClr val="0082c8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82c8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50920" y="1413000"/>
            <a:ext cx="8388360" cy="4738320"/>
            <a:chOff x="250920" y="1413000"/>
            <a:chExt cx="8388360" cy="4738320"/>
          </a:xfrm>
        </p:grpSpPr>
        <p:cxnSp>
          <p:nvCxnSpPr>
            <p:cNvPr id="107" name="_s63493"/>
            <p:cNvCxnSpPr>
              <a:stCxn id="108" idx="1"/>
              <a:endCxn id="109" idx="2"/>
            </p:cNvCxnSpPr>
            <p:nvPr/>
          </p:nvCxnSpPr>
          <p:spPr>
            <a:xfrm rot="10800000">
              <a:off x="2766600" y="2273760"/>
              <a:ext cx="839520" cy="34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63494"/>
            <p:cNvCxnSpPr>
              <a:stCxn id="111" idx="1"/>
              <a:endCxn id="109" idx="2"/>
            </p:cNvCxnSpPr>
            <p:nvPr/>
          </p:nvCxnSpPr>
          <p:spPr>
            <a:xfrm rot="10800000">
              <a:off x="2766600" y="2273760"/>
              <a:ext cx="839520" cy="2154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63495"/>
            <p:cNvCxnSpPr>
              <a:stCxn id="113" idx="1"/>
              <a:endCxn id="109" idx="2"/>
            </p:cNvCxnSpPr>
            <p:nvPr/>
          </p:nvCxnSpPr>
          <p:spPr>
            <a:xfrm rot="10800000">
              <a:off x="2766600" y="2273760"/>
              <a:ext cx="83952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9" name="_s63496"/>
            <p:cNvSpPr/>
            <p:nvPr/>
          </p:nvSpPr>
          <p:spPr>
            <a:xfrm>
              <a:off x="250920" y="1413000"/>
              <a:ext cx="5033160" cy="861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3399"/>
                  </a:solidFill>
                  <a:latin typeface="Verdana"/>
                </a:rPr>
                <a:t>Food Security</a:t>
              </a:r>
              <a:r>
                <a:rPr b="1" lang="en-GB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3399"/>
                  </a:solidFill>
                  <a:latin typeface="Verdana"/>
                </a:rPr>
                <a:t>Art. 15 of DCI</a:t>
              </a:r>
              <a:r>
                <a:rPr b="1" lang="fr-BE" sz="17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63497"/>
            <p:cNvSpPr/>
            <p:nvPr/>
          </p:nvSpPr>
          <p:spPr>
            <a:xfrm>
              <a:off x="3606120" y="2705040"/>
              <a:ext cx="5033160" cy="861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500" spc="-1" strike="noStrike">
                  <a:solidFill>
                    <a:srgbClr val="003399"/>
                  </a:solidFill>
                  <a:latin typeface="Verdana"/>
                </a:rPr>
                <a:t>Ex-Programme</a:t>
              </a:r>
              <a:r>
                <a:rPr b="1" lang="fr-BE" sz="1700" spc="-1" strike="noStrike">
                  <a:solidFill>
                    <a:srgbClr val="003399"/>
                  </a:solidFill>
                  <a:latin typeface="Verdana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700" spc="-1" strike="noStrike">
                  <a:solidFill>
                    <a:srgbClr val="003399"/>
                  </a:solidFill>
                  <a:latin typeface="Verdana"/>
                </a:rPr>
                <a:t>Food Aid &amp; Food Secur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63498"/>
            <p:cNvSpPr/>
            <p:nvPr/>
          </p:nvSpPr>
          <p:spPr>
            <a:xfrm>
              <a:off x="3606120" y="3997440"/>
              <a:ext cx="5033160" cy="861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500" spc="-1" strike="noStrike">
                  <a:solidFill>
                    <a:srgbClr val="103c72"/>
                  </a:solidFill>
                  <a:latin typeface="Verdana"/>
                </a:rPr>
                <a:t>TOTAL of 886 m € for 2007-1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BE" sz="1700" spc="-1" strike="noStrike">
                  <a:solidFill>
                    <a:srgbClr val="333399"/>
                  </a:solidFill>
                  <a:latin typeface="Verdana"/>
                </a:rPr>
                <a:t>217</a:t>
              </a:r>
              <a:r>
                <a:rPr b="1" lang="en-GB" sz="1700" spc="-1" strike="noStrike">
                  <a:solidFill>
                    <a:srgbClr val="333399"/>
                  </a:solidFill>
                  <a:latin typeface="Verdana"/>
                </a:rPr>
                <a:t> m € in</a:t>
              </a:r>
              <a:r>
                <a:rPr b="1" lang="en-GB" sz="1500" spc="-1" strike="noStrike">
                  <a:solidFill>
                    <a:srgbClr val="333399"/>
                  </a:solidFill>
                  <a:latin typeface="Verdana"/>
                </a:rPr>
                <a:t> 2008</a:t>
              </a:r>
              <a:r>
                <a:rPr b="0" lang="en-GB" sz="1300" spc="-1" strike="noStrike" baseline="70000">
                  <a:solidFill>
                    <a:srgbClr val="333399"/>
                  </a:solidFill>
                  <a:latin typeface="Verdana"/>
                </a:rPr>
                <a:t>1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333399"/>
                  </a:solidFill>
                  <a:latin typeface="Verdana"/>
                </a:rPr>
                <a:t>233</a:t>
              </a:r>
              <a:r>
                <a:rPr b="1" lang="en-GB" sz="1800" spc="-1" strike="noStrike">
                  <a:solidFill>
                    <a:srgbClr val="333399"/>
                  </a:solidFill>
                  <a:latin typeface="Verdana"/>
                </a:rPr>
                <a:t> m €</a:t>
              </a:r>
              <a:r>
                <a:rPr b="0" lang="en-GB" sz="1800" spc="-1" strike="noStrike">
                  <a:solidFill>
                    <a:srgbClr val="333399"/>
                  </a:solidFill>
                  <a:latin typeface="Verdana"/>
                </a:rPr>
                <a:t> in 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63499"/>
            <p:cNvSpPr/>
            <p:nvPr/>
          </p:nvSpPr>
          <p:spPr>
            <a:xfrm>
              <a:off x="3606120" y="5289840"/>
              <a:ext cx="5033160" cy="861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457200">
                <a:lnSpc>
                  <a:spcPct val="100000"/>
                </a:lnSpc>
                <a:buClr>
                  <a:srgbClr val="103c72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103c72"/>
                  </a:solidFill>
                  <a:latin typeface="Verdana"/>
                </a:rPr>
                <a:t> </a:t>
              </a:r>
              <a:r>
                <a:rPr b="0" lang="en-US" sz="1500" spc="-1" strike="noStrike">
                  <a:solidFill>
                    <a:srgbClr val="103c72"/>
                  </a:solidFill>
                  <a:latin typeface="Verdana"/>
                </a:rPr>
                <a:t>Improves food security of poorest and most vulnerable groups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103c72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103c72"/>
                  </a:solidFill>
                  <a:latin typeface="Verdana"/>
                </a:rPr>
                <a:t> </a:t>
              </a:r>
              <a:r>
                <a:rPr b="0" lang="en-US" sz="1500" spc="-1" strike="noStrike">
                  <a:solidFill>
                    <a:srgbClr val="103c72"/>
                  </a:solidFill>
                  <a:latin typeface="Verdana"/>
                </a:rPr>
                <a:t>Contributes to MDG 1 (poverty and hunger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103c72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103c72"/>
                  </a:solidFill>
                  <a:latin typeface="Verdana"/>
                </a:rPr>
                <a:t> </a:t>
              </a:r>
              <a:r>
                <a:rPr b="0" lang="en-US" sz="1500" spc="-1" strike="noStrike">
                  <a:solidFill>
                    <a:srgbClr val="103c72"/>
                  </a:solidFill>
                  <a:latin typeface="Verdana"/>
                </a:rPr>
                <a:t>Worldw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0" y="63817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fr-BE" sz="1400" spc="-1" strike="noStrike">
                <a:solidFill>
                  <a:srgbClr val="003399"/>
                </a:solidFill>
                <a:latin typeface="Verdana"/>
              </a:rPr>
              <a:t>BL 21.0201, 21.0703;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Excluding administrative expendi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18900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90792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Identity Car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NEW!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2009: increase of € 50 million in credit and payment appropriations to tackle food crisi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redit appropriations: € 283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ayment appropriations: € 245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o do what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rovision of agricultural inputs for the next agricultural cyc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upport social safety nets for low-income popul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NEW!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2009: new budget line for pilot projects on rural micro-credi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2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MISE EN OEUVRE FSBL/FSTP</a:t>
            </a:r>
            <a:br>
              <a:rPr sz="2000"/>
            </a:b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Première revue des résultats des projets ONG et LRRD en Afrique Centrale et de l’Ouest: 2004-2008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69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RDC: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8 projets. Total allocations: € 24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ontant moyen: +/- € 1,5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èmes: renforcement des capacités des organisations paysannes, nutrition, aide alimentaire, valorisation des produits agricoles, production agro-pastorale, etc</a:t>
            </a:r>
            <a:br>
              <a:rPr sz="2000"/>
            </a:b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est practices/réplicabilité: OUI</a:t>
            </a:r>
            <a:br>
              <a:rPr sz="2000"/>
            </a:b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)au moins 5 projets se sont enchainés sur la réplication de l’appui à l’organisation paysanne + systèmes d’évacuation et commercialisation des produits agricoles gérés par des fédérations de comités villageois + réhabilitation des pist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e pour la relance agricole au RDC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MISE EN OEUVRE FSBL/FSTP</a:t>
            </a:r>
            <a:br>
              <a:rPr sz="2000"/>
            </a:b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Première revue des résultats des projets ONG et LRRD en Afrique Centrale et de l’Ouest: 2004-2008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TCHA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8 projets. Total allocations: € 5,4 m (projets de 2008 à signer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ontant moyen: +/- € 180.000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èmes: récupération terres dégradées, renforcement capacités institutionnelles de production agricole et de stockage, nutri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est practices/réplicabilité: OU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u moins 3 projets se sont enchainés sur l’introduction de la traction asine dans le labour et le transport. Utilisation des techniques de compostage et des engrais biologique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utrition: spirulina et moringa oleifer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MISE EN OEUVRE FSBL/FSTP</a:t>
            </a:r>
            <a:br>
              <a:rPr sz="2000"/>
            </a:b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Première revue des résultats des projets ONG et LRRD en Afrique Centrale et de l’Ouest: 2004-2008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NIGE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5 projets. Total allocation: € 5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ontant moyen: +/- € 1 mill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èmes: appui au dispositif national de prévention et de gestion des crises alimentaires, nutri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est practices/réplicabilité: OU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utrition: au moins 4 projets enchainés sur la nutri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éveloppment de stratégies durables de nutrition et de gestion démographiqu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II. </a:t>
            </a: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Food Security 2008 </a:t>
            </a: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– What &amp; how?</a:t>
            </a: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   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8930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ts val="2798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Main Specific objectives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-3812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Agricultural Research for Development (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ARD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) at global and continental level (Africa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-3812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Improvement and harmonisation of Food Security Information Systems (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FSIS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) and Support to decision mak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-3812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Continental food security programmes for Afric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4.a EC response to 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soaring food pric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4.b Linking Relief, Rehabilitation and Development (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LRRD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) in Africa and Asia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5. Special allocation Asi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6. </a:t>
            </a: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Advocacy</a:t>
            </a: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 for a stronger aid effectiveness (support to EIARD and to GDPRD) and a stronger civil society participation in the international policy dialogu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29708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189000"/>
            <a:ext cx="525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. Food Security 2008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– What &amp; how?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1.a ARD at global level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507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marL="507960" indent="-50796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onsultative Group for International Agricultural Research</a:t>
            </a:r>
            <a:br>
              <a:rPr sz="2000"/>
            </a:b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GIAR (IFAD): € 67.5 m (3 years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65160" indent="-5079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rovision of international public goods such as pro-poor agricultural research for </a:t>
            </a:r>
            <a:br>
              <a:rPr sz="2000"/>
            </a:b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6516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* biodiversity</a:t>
            </a:r>
            <a:br>
              <a:rPr sz="2000"/>
            </a:b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* improved genetic resources</a:t>
            </a:r>
            <a:br>
              <a:rPr sz="2000"/>
            </a:b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* international policies</a:t>
            </a:r>
            <a:br>
              <a:rPr sz="2000"/>
            </a:b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* climate change and food security</a:t>
            </a: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50796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50796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877000"/>
            <a:ext cx="62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Who? </a:t>
            </a:r>
            <a:r>
              <a:rPr b="0" lang="en-US" sz="2200" spc="-1" strike="noStrike">
                <a:solidFill>
                  <a:srgbClr val="103c72"/>
                </a:solidFill>
                <a:latin typeface="Verdana"/>
              </a:rPr>
              <a:t>EC HQs (centralised AIDCO/F/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03c72"/>
                </a:solidFill>
                <a:latin typeface="Verdana"/>
              </a:rPr>
              <a:t>  </a:t>
            </a:r>
            <a:r>
              <a:rPr b="1" lang="en-GB" sz="2200" spc="-1" strike="noStrike">
                <a:solidFill>
                  <a:srgbClr val="103c72"/>
                </a:solidFill>
                <a:latin typeface="Verdana"/>
              </a:rPr>
              <a:t>1.b ARD for Africa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um for Agricultural Research in Africa FARA (WB)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0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latform for information and technological dissemination and partnerships for sustainable agricultural growth in Afric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frican Forum for Agricultural Advisory Services AFAAS (WB)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.5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nsuring a proper linkage between research results and extension system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entre Africain de Recherches sur Bananiers et Plantains CARBAP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2.5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esearch and information dissemination focusing on bananas and plantains ensuring the food security of large popul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623736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Who? </a:t>
            </a:r>
            <a:r>
              <a:rPr b="0" lang="en-US" sz="2200" spc="-1" strike="noStrike">
                <a:solidFill>
                  <a:srgbClr val="103c72"/>
                </a:solidFill>
                <a:latin typeface="Verdana"/>
              </a:rPr>
              <a:t>EC HQs (AIDCO/C/4) and Delegation Camero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79280" y="-3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. Food Security 2008 – What &amp; how?  </a:t>
            </a:r>
            <a:r>
              <a:rPr b="0" lang="en-US" sz="1600" spc="-1" strike="noStrike">
                <a:solidFill>
                  <a:srgbClr val="0082c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1600" spc="-1" strike="noStrike">
              <a:solidFill>
                <a:srgbClr val="0082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425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2. Food Security Information Systems FSIS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11 m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n joint management with FAO for global level and South East Asia, with UNDP for Central Americ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ontributing to the harmonisation of approaches in food security monitoring, risk and food system resilience analysis, and early warning system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Monitoring food prices to build effective strategies to prevent food crise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79280" y="259920"/>
            <a:ext cx="77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. Food Security 2008 – What &amp; how? 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5897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Who? </a:t>
            </a:r>
            <a:r>
              <a:rPr b="0" lang="en-US" sz="2200" spc="-1" strike="noStrike">
                <a:solidFill>
                  <a:srgbClr val="103c72"/>
                </a:solidFill>
                <a:latin typeface="Verdana"/>
              </a:rPr>
              <a:t>EC HQs (AIDCO/F/3) and Delegations Nicaragua and Thai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3. Continental programmes for Africa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3.a Support to Farmers Organisations (IFAD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5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armers’ empowerment is key for agricultural growt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宋体"/>
              </a:rPr>
              <a:t>3.b Strengthening Comprehensive African Agricultural Development Programme (CAADP) institutions and processes (WB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5 m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323640" y="333000"/>
            <a:ext cx="7786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. Food Security 2008 – What &amp; how?  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5661000"/>
            <a:ext cx="62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103c72"/>
                </a:solidFill>
                <a:latin typeface="Verdana"/>
              </a:rPr>
              <a:t>Who? </a:t>
            </a:r>
            <a:r>
              <a:rPr b="0" lang="en-US" sz="2200" spc="-1" strike="noStrike">
                <a:solidFill>
                  <a:srgbClr val="103c72"/>
                </a:solidFill>
                <a:latin typeface="Verdana"/>
              </a:rPr>
              <a:t>EC HQs (AIDCO/C/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4.a EC Response to soaring food price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e FAO Food Index rose by 57% between March 2007 and March 2008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Dominant structural cause: higher cereals consumption than cereals production and lower yield increases reflecting lower investment in agricultural research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Other causes such as higher oil pri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103c72"/>
                </a:solidFill>
                <a:latin typeface="Verdana"/>
              </a:rPr>
              <a:t>Need to adapt our Annual Action Programme to this emergency situation: re-shuffle of funds among components!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86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I. Food Security 2008 – What &amp; how? </a:t>
            </a:r>
            <a:r>
              <a:rPr b="0" lang="en-US" sz="1400" spc="-1" strike="noStrike">
                <a:solidFill>
                  <a:srgbClr val="0082c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4.a EC Response to soaring food prices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01560" indent="-2314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€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50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01560" indent="-2314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veloping countries are not all exposed in a similar manner </a:t>
            </a:r>
            <a:r>
              <a:rPr b="0" lang="en-GB" sz="2000" spc="-1" strike="noStrike">
                <a:solidFill>
                  <a:srgbClr val="103c72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there is a need for a differentiated approach in analysis and respons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01560" indent="-2314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Mix of policie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26640" indent="-18504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sh transfers to most vulnerable peop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26640" indent="-18504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rket-based and production support measures to support small-holder farmer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01560" indent="-2314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DRC </a:t>
            </a: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€ 6,7 m </a:t>
            </a:r>
            <a:r>
              <a:rPr b="0" lang="fr-FR" sz="1400" spc="-1" strike="noStrike">
                <a:solidFill>
                  <a:srgbClr val="103c72"/>
                </a:solidFill>
                <a:latin typeface="Verdana"/>
              </a:rPr>
              <a:t>(d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irect awards to NGOs for agricultural inputs 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and measures aiming to increase agricultural production)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lvl="1" marL="601560" indent="-2314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Liberia </a:t>
            </a: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€ 4,7 m </a:t>
            </a:r>
            <a:r>
              <a:rPr b="0" lang="fr-FR" sz="1400" spc="-1" strike="noStrike">
                <a:solidFill>
                  <a:srgbClr val="103c72"/>
                </a:solidFill>
                <a:latin typeface="Verdana"/>
              </a:rPr>
              <a:t>(topping up of calls for proposals)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lvl="1" marL="601560" indent="-2314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Sierra Leone </a:t>
            </a: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€ 2,7 m </a:t>
            </a:r>
            <a:r>
              <a:rPr b="0" lang="fr-FR" sz="1400" spc="-1" strike="noStrike">
                <a:solidFill>
                  <a:srgbClr val="103c72"/>
                </a:solidFill>
                <a:latin typeface="Verdana"/>
              </a:rPr>
              <a:t>(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Contribution Agreement with the WFP for 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safety nets in the Freetown urban area)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lvl="1" marL="601560" indent="-2314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Guinea Conakry € 1,5 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015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015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46520" indent="-146520">
              <a:lnSpc>
                <a:spcPct val="100000"/>
              </a:lnSpc>
              <a:buClr>
                <a:srgbClr val="103c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Who?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C Deleg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465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9:56:47Z</dcterms:created>
  <dc:creator>vandrjo</dc:creator>
  <dc:description/>
  <dc:language>en-US</dc:language>
  <cp:lastModifiedBy>user</cp:lastModifiedBy>
  <dcterms:modified xsi:type="dcterms:W3CDTF">2008-09-26T10:20:56Z</dcterms:modified>
  <cp:revision>408</cp:revision>
  <dc:subject/>
  <dc:title>Reference Template for    Presen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