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0E1-F493-4F90-A252-EE7AF582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690-8562-4B39-9822-9F86B85C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B17-26E5-4D58-B5F2-63932272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3DC-2677-4480-8AEB-28400F72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78D-C86F-4561-8A19-7735949D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CA1-9BC9-41AB-9FD0-F027E3D5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FA96-90AC-49F6-A57F-C6E1D12A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B3E-99D6-488E-B1BD-AFE1690F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40D-F7E8-4A4D-A559-2F473D05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B57-F7AD-4A8A-A4A8-5730AD92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EFC-EA83-4755-9F8A-263DB8C5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A7FE-C8AF-4165-9409-3877DF31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9CEF-3E2B-486A-850C-08834553A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20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ste d’action en lien avec la hausse des p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ntée des prix a été effective (exe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+/- importante selon les produits (import/lo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ffet positif potentiel sur milieu rural (variable selon rôle dans la filiè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ffet négatif en milieu urb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uvements populaires variables, pas tjs liés à la seule hausse des p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plications « Tsunami silencieux » peu/pas connues, manque de systèmes de su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ponse fonction des besoins des p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t des lieux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stes d’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ut-on dissocier Food et carburan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ut-il cibler le rural ou l’urba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appel des pistes du « non paper » 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urt, moyen, long t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uman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ppui budgé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nsferts soci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lance agricole/dév r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ui budgét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ls indicateur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lles conditions ? (appui S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lles sont mieux bénéfici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érêts : rapidité, déclaration Paris/appropriation, équilibre balance paiement (cas Mauritanie, Sénég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rundi)  + baisse taxe, mais peu ciblé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 &gt;0  Mauritanie avec baisse effective des prix, cas &lt;0 Mali ou oligopole a enrichi quelques commerça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soin restructuration filière int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érence, aide simultanée au prix de certaines produits locaux et subvention d’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ts soci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tection , préservation,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ash f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ssibilité d’inverser les trois niveaux pour mieux lier à relance agr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 Mali fixation dunes, r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 aide femmes chef de foyer, travail mi temps (ciblage d’un groupe plus vulnér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veloppement 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lon les cas /pays (diversifier au Sénégal, augmenter en RD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DC très intéressés car potentiel de progression énorme pour productions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habilitation terre, fumure organique au Burk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s de dérogation (EnvB région), procédures urgence pour gré à gré (Burkina) lié à la saison agri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ction des outils/facil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on titre 2 ou titr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s de mise en œuvre diffé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érateurs élarg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oin de ré-identifier les projets/programmes + adaptés en fonction des nouvelles opportunités/contrai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t-il déjà envisager le plan B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0:28:12Z</dcterms:created>
  <dc:creator>user</dc:creator>
  <dc:description/>
  <dc:language>en-US</dc:language>
  <cp:lastModifiedBy>user</cp:lastModifiedBy>
  <dcterms:modified xsi:type="dcterms:W3CDTF">2008-09-24T11:10:01Z</dcterms:modified>
  <cp:revision>5</cp:revision>
  <dc:subject/>
  <dc:title>Diapositive 1</dc:title>
</cp:coreProperties>
</file>