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EA2F-26FC-4737-9A17-F2CE33835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: process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aws on Lancet +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wo parts in the presentation: context and suggested next steps for the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8D6-696A-46A2-9B6E-CB5617B5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2DB-5F0E-466E-BB90-A8F80B89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E90-A738-4F65-9A0E-51DB634B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8052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7704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00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8052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7704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57D-B01C-4770-A470-E122516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2B30-1FB8-41A6-BD78-40F37B43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86C-1BA1-4C53-91A3-5573B6C4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BF47-9108-4138-89E5-7D8EC9A6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1423-ECB2-4C52-AB1A-E4FE67FD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C666-34D0-485C-84F6-CD7101A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726-CD01-4F8C-A1E2-661C2E1F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07A-47B1-460B-BBD3-7D280C8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891-B76B-4DCE-8633-610B77B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FCBC-A4C6-47D4-8CAE-0AA4EC6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7A78-2971-42D0-B35D-82F9CF3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633-9F2B-45E1-8A09-DFAB4B17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9B18-8EED-4106-97D8-DEDE402F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8052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7704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400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08052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47704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C27-400F-49A3-BB59-D0303AC8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018-9E03-4C78-8422-C0F8D4F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A60-21D4-4E46-A4B6-0B519DF1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39E-E57D-4394-82FE-4E8F9E2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EAA-A94A-4688-8859-202F589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D56-C937-45C6-9221-AF251B4F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663-1210-41CD-A0E0-CC7DB5B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650-F046-4BFF-B478-871D7C1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4DD5-CCF8-4A7E-A443-14902B923085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11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13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307040" y="6227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428400" y="623268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57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62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64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8767440" y="6443640"/>
            <a:ext cx="376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1f1d"/>
                </a:solidFill>
                <a:latin typeface="Times New Roman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BA3A-2491-4E64-95AF-5473F7C47699}" type="slidenum">
              <a:rPr b="0" lang="en-US" sz="1000" spc="-1" strike="noStrike">
                <a:solidFill>
                  <a:srgbClr val="aa1f1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9440" y="2125800"/>
            <a:ext cx="7556760" cy="92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cc"/>
                </a:solidFill>
                <a:latin typeface="Verdana"/>
              </a:rPr>
              <a:t>Groupe de travail 2</a:t>
            </a:r>
            <a:r>
              <a:rPr b="1" lang="fr-FR" sz="2000" spc="-1" strike="noStrike">
                <a:solidFill>
                  <a:srgbClr val="33cc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fr-FR" sz="3200" spc="-1" strike="noStrike">
                <a:solidFill>
                  <a:srgbClr val="33cccc"/>
                </a:solidFill>
                <a:latin typeface="Verdana"/>
              </a:rPr>
              <a:t>Nutrition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6049800"/>
            <a:ext cx="1930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dceff0"/>
                </a:solidFill>
                <a:latin typeface="Lucida Sans"/>
              </a:rPr>
              <a:t>AIDCO - E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7720" y="384120"/>
            <a:ext cx="68421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a1f1d"/>
                </a:solidFill>
                <a:latin typeface="Verdana"/>
              </a:rPr>
              <a:t>Séminaire Sécurité Alimentaire </a:t>
            </a:r>
            <a:br>
              <a:rPr sz="2400"/>
            </a:br>
            <a:r>
              <a:rPr b="1" lang="fr-FR" sz="2400" spc="-1" strike="noStrike">
                <a:solidFill>
                  <a:srgbClr val="aa1f1d"/>
                </a:solidFill>
                <a:latin typeface="Verdana"/>
              </a:rPr>
              <a:t>– Afrique de l'Ouest et Centrale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46640" y="3335400"/>
            <a:ext cx="25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eptember 24rd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96F1-C04E-4AF9-97B6-5CD549C9FA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0280" y="840960"/>
            <a:ext cx="5280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Participants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6600" y="1378080"/>
            <a:ext cx="834372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champions de la Nutr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ephane 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laire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RE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bilio (Guinée Biss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role R(M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livier  Lefay  (Niger)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cu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Jan (Regional Dakar)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 outs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Jacqueline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livier LEO (Ispra) Le raporteur desig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E1B3-E3F2-4091-865F-D4D0D69B5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Diagnostic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cho a la limite de son mandat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s de detection Nutrition  dans les prog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fficile de prendre en relais les actions d’urgences  et de development  (ti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soin d’y voir plus clair sur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dre strategique / analyse commune avec 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epasser les clivages et la logique budgetaire  pour se centrer sur l’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960" y="111132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A39C-B9B7-4FD6-BE14-BE11D0A6B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Trois grand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Niveau d’entrée de la Nutrition dans les programmes Appui Budg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jets (SA) /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pacité techniques des del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EAD-896F-4A87-8305-8592B61B2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549000"/>
            <a:ext cx="671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Nutrition dans l’appui Budgetai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789520" y="1413000"/>
            <a:ext cx="2238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440" y="1378080"/>
            <a:ext cx="8344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oints d’entré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utrition dans le dialogue  /  Gouvern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tous les etages  (DSP, Doc lutte pauvreté, au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ec les autres bailleurs  et les orgnaisation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SP Document strategique P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NFORCER L’ANALYSE   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Dans L’etat des lieux mettre en evidence la situation nutrition (populations et regions à risque, reponses existantes et deman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Choix strategique  de  l’ancrage de  Nutrition dans priorité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En fonction des liens et support institutio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niveau d’ambition  et objectifs spe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Reflechir aux modal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Conditionnalité  incluant des  indicateurs Nutrition ( Appui Bud. Global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IN  Programme indicatif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Veiller que c’est pris en copmte dans les priorités avec Bud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D14B-625A-4EAA-B727-248E25421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6600" y="90180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CAPACITES DES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s d’expert  Nutrition dans les delegation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ali. cf appui Echo Dakar,  mais difficult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Guine Bissao: Consultation avec expert UNICE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esoins Renforcer les capacités du staff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crutement  SIEGE ??? DEL REGIONALES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ltance ponctuélle  et ciblée ? (Listes d’expe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orm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eminaire pour avoir analyse commune de la problema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Utilisation etude exisitantes  (ex UNICEF)  pour sensibi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Verdana"/>
              </a:rPr>
              <a:t>Nutrition Handbook  ou Hanbook SA incluant une composante nutriti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Besoins d’etude de cas…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Formation de base pour les agents  en delegation , y compris sur les indicateu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6642-C3B4-4F5C-B5D5-FAC7680FD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1003320"/>
            <a:ext cx="78742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Aide  Projets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Document technique Pays  Debut d</a:t>
            </a: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utrition  inclue  dans le 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t discutée avec les  ONG et partenaires nat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roche locale  et consensuelle sur les programmes priorit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is identifier financement tiers  si instruments inadap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Appel a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sertions des apects nutritions dnas les ToR et critieres de sel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t /ou insertion d’indicateur Nutrition dans les projets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Comment  eviter simple vern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Besoins de Lignes directrices  / Appel a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(actions elligibles ,  ineligibles , criteres d’evaluations, indicateurs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29D-317A-4984-9A70-D4D137EFD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1:43:51Z</dcterms:created>
  <dc:creator>aidco-sd-tech2</dc:creator>
  <dc:description/>
  <dc:language>en-US</dc:language>
  <cp:lastModifiedBy>JRC User</cp:lastModifiedBy>
  <dcterms:modified xsi:type="dcterms:W3CDTF">2008-09-24T11:46:50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