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E0F6-2533-4F28-985D-31B3201B7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87DC-299E-44AE-97B7-7FDE093A0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CD03-6999-4ABA-8906-E47AD1D75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43A3-0540-4D06-A568-326261939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9B13-DF77-4273-A0B3-8C223EAE9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F95A-1EDC-4F63-AE5C-54275131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AD8C-9175-48B9-82D1-1CFFBA93F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A9A3-4192-44F8-B1A7-16597C4BF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FE16-3F00-4226-884B-2AE47EEF8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2F59-8233-4C7D-978C-3F0BC44F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A4B1-5ED9-461E-880D-1977AA0C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84BF-44A8-4D89-8FF5-99BCDA4C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2D980-F141-4F0B-B3E1-EB0E0DACFB8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dalités de mise en œuvre des transferts sociaux: Le cas de l’Afrique de l’Ouest et du Cent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appel des éléments de discuss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antages des systèmes de transferts sociaux mais difficulté à les rendre opérationn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pleur de la pauvret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blag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ancement (espace fiscal rédui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pacité administrative des autorités nation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gagement politiq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raintes spécifiques à la région de l’AO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8785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ion sur le risque d’assistana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tuité vs conditionnalités/rembours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uvernance et risque de clientélis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que de connaissances sur l’approche 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positifs nationaux dans le Sah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 certain nombre de conditions préalables ne semblent pas être remplies (ex. Niger-Tcha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ditions préalab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écessité de prendre en compte les caractéristiques spécifiques p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gnostic préalable (pertinence TS et besoi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ys exportateurs du pétrole et de l’urani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 AO: des politiques en matière de protection sociale et pays éligibles à l’appui budgétaire (Sénégal, Mali, BF, Ghana, Sierra Leone, Cap Ver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rique Central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ditions préalab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Existence d’une politique/stratégique nationale (ex. SDR du Niger): Point d’ancrag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tégration et articulation des systèmes de transferts sociaux dans les pol. nation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Volonté politique: promotion du dialogue entre les différents partenaires et sensibilisation pour bâtir les conditions nécessaires pour la mise en place des transferts socia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Gouvernance (minimiser la complexité des systèmes et les conditionnalité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Existence des dispositifs permettant d’assurer le cibl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istes de réflex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positifs nationaux de gestion et de prévention des crises alimentaires (élargissement du manda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se en œuvre à une échelle plus réduite, par d’autres opérateurs et programmes existantes (outil d’interven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se en place des TS en lien avec la stratégie de lutte contre la malnutrition (approche universelle mais ciblage des femmes et enfan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10:39:29Z</dcterms:created>
  <dc:creator> </dc:creator>
  <dc:description/>
  <dc:language>en-US</dc:language>
  <cp:lastModifiedBy> </cp:lastModifiedBy>
  <dcterms:modified xsi:type="dcterms:W3CDTF">2008-10-13T15:24:08Z</dcterms:modified>
  <cp:revision>4</cp:revision>
  <dc:subject/>
  <dc:title>Modalités de mise en œuvre des transferts sociaux: Le cas de l’Afrique de l’Ouest et du Centre</dc:title>
</cp:coreProperties>
</file>