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9F6-2808-4F43-ACCC-CB2C569191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mpact of Climate Change: e.g. Food Security: </a:t>
            </a: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adaptation and mitigation for small-holder far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Impact of other global developments: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.g. Food Security: </a:t>
            </a: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Increase in food pr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AC6-3B32-4ADD-A094-6592DD1A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00D-894B-48D6-8A3D-1CAB5515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6F6-18AF-4ACF-88E1-D819EAB8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D36-0C6C-4B61-9BCF-5F2A7A81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883E-48E4-4332-A7B5-F1C4CC94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1534-3A31-45FB-B0AE-AC1935B9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3D92-D6BE-4477-94C0-6AA14AA1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1E53-99D8-413F-9D2F-98D25366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733C-BE5B-4A41-9147-F0CE655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545-C8D5-43F4-A95A-E8C714F6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E9DB-CA30-437A-83B8-18975C17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638-C61D-4E18-AE7B-4A2B58BC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B1E0-7456-407E-B170-70A4FF8F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4DCB-BB86-43EF-B8A9-24555F9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8E52-025D-48AF-96B1-E8364358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B05D-B99F-40D5-A18D-8A8FC0FD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A1AA-7C09-400B-93A4-B8F1C23D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C2B-BB8C-44CF-98CE-C0E55B23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7ED-092F-4026-942E-A10803CF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4EC-51AA-415A-B81B-663B4699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588-F4A2-4508-87FB-3CE5CB92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137-A76F-477D-A968-D9A2B495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79E-8C05-417A-8DA7-A54A481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2AE-1BBC-4F04-9F4E-1E01A9C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D0BF-4688-4E62-8D93-1E3000A1824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1E08-D8B2-42D0-931F-6D62079F724C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025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03c72"/>
                </a:solidFill>
                <a:latin typeface="Verdana"/>
              </a:rPr>
              <a:t>2008/09 Annual Action Programmes</a:t>
            </a:r>
            <a:br>
              <a:rPr sz="2800"/>
            </a:br>
            <a:br>
              <a:rPr sz="2800"/>
            </a:br>
            <a:r>
              <a:rPr b="1" lang="fr-BE" sz="2800" spc="-1" strike="noStrike">
                <a:solidFill>
                  <a:srgbClr val="103c72"/>
                </a:solidFill>
                <a:latin typeface="Verdana"/>
              </a:rPr>
              <a:t>for Food Security</a:t>
            </a:r>
            <a:endParaRPr b="1" lang="en-US" sz="2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0920" y="4149360"/>
            <a:ext cx="70880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103c72"/>
                </a:solidFill>
                <a:latin typeface="Verdana"/>
              </a:rPr>
              <a:t>Simona Mari-Sabatini</a:t>
            </a:r>
            <a:br>
              <a:rPr sz="2400"/>
            </a:br>
            <a:r>
              <a:rPr b="1" i="1" lang="fr-BE" sz="2400" spc="-1" strike="noStrike">
                <a:solidFill>
                  <a:srgbClr val="103c72"/>
                </a:solidFill>
                <a:latin typeface="Verdana"/>
              </a:rPr>
              <a:t>AIDCO F/3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786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c8"/>
                </a:solidFill>
                <a:latin typeface="Verdana"/>
              </a:rPr>
              <a:t>II. Food Security 2008 – What &amp; how?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4.b</a:t>
            </a: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Linking Relief to Rehabilitation and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Development (LRRD)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821160" indent="-37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2008: Local calls for proposal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270800" indent="-373320">
              <a:lnSpc>
                <a:spcPts val="3498"/>
              </a:lnSpc>
              <a:buClr>
                <a:srgbClr val="103c72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alls foreseen to be launched in Sept. 2008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70800" indent="-373320">
              <a:lnSpc>
                <a:spcPts val="3498"/>
              </a:lnSpc>
              <a:buClr>
                <a:srgbClr val="103c72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ontracts to be signed by end 2009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70800" indent="-373320">
              <a:lnSpc>
                <a:spcPts val="3498"/>
              </a:lnSpc>
              <a:buClr>
                <a:srgbClr val="103c72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ountries covered in Africa and actions foreseen: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had (€ 4,4m):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integration of refugees from R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Sudan (€ 9m):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restart agricultural/fisheries activities,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stabilisation of IDPs/refuge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Zimbabwe (€ 16m): agricultural inputs, access to water,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livestoc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21160" indent="-37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Who?  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C Deleg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165720"/>
            <a:ext cx="58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89000"/>
            <a:ext cx="525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6. Advocac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6.a European Initiative for Agricultural Research for Development (EIARD)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8520" indent="-2570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,3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8520" indent="-2570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stering European aid effectiveness for AR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6.b Global Donor Platform for Rural Development (GDPRD)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8520" indent="-2570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,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8520" indent="-2570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latform for better donors’ cooperation and collaboration in dialogue with partner countries to fight rural pover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02996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C HQs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(centralised, AIDCO/F/3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7775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c8"/>
                </a:solidFill>
                <a:latin typeface="Verdana"/>
              </a:rPr>
              <a:t>II. Food Security 2008 – What &amp; how?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786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79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c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 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Strengthening civil society participation in the                                      international policy dialogue for an increased food secur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Global Call for proposal to be launched by Oct. 2008: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br>
              <a:rPr sz="2000"/>
            </a:b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4.5 m €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inforce the analysis and action capacities of civil society for increased food crisis preven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inforce civil society capacity in international and national debat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mote links and alliance building, as well as coordination among civil society ac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34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EC HQ (centralised, AIDCO/F/3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86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hallenges ahead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03c72"/>
                </a:solidFill>
                <a:latin typeface="Verdana"/>
              </a:rPr>
              <a:t>Main challenges for 2008 and beyond: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lose 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monitoring of food prices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 to better prevent food crises and chronic malnutrition</a:t>
            </a:r>
            <a:br>
              <a:rPr sz="2000"/>
            </a:b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act of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global development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specially the impact of climate change on food secur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rove time for Dialogue with civil society and international organisations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s well as with other partners for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ncreased aid effectiven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1.a ARD at global level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lobal programme on ‘Agricultural innovation for smallholder farmers in developing countries”: € 5 m (2009) and € 18 m (2010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03c72"/>
                </a:solidFill>
                <a:latin typeface="Verdana"/>
              </a:rPr>
              <a:t>Themes: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Climate change adaptation and mitigation for small-holders farmers in developing countr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Trade-offs between bio-fuels and crop growing: innovative policies and techniques to ensure the right balance for food securi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Ecological agricultur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Innovation systems involving smallholders farmers and traditional knowledge in developing countrie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Empowering small-holder farmers in the access to marke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Risk management in family agriculture in developing countrie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609300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EC HQs (centralised AIDCO/F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03c72"/>
                </a:solidFill>
                <a:latin typeface="Verdana"/>
              </a:rPr>
              <a:t>1.b ARD for Africa: € 31 m (under identification)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Association for Strengthening Agricultural Research in Eastern and Central Africa (ASARECA: € 4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onseil Ouest et Centre Africain pour la Recherche et le Développement (CORAF: € 12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International Centre of Insect Physiology and Ecology (ICIPE: € 1,5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Southern African Development Community (SADC: € 8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Platform for African-European Partnership in Agricultural Research for Development (PAEPARD: € 5,5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 flipV="1" rot="10772400">
            <a:off x="533160" y="5732640"/>
            <a:ext cx="778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EC HQs (AIDCO/C/4) and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2. Food Security Information Systems FSIS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5 m (under identifica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ILSS: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10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JRC/East Africa: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NPI: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6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entral Asia: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4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229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HQs + regional Del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3. Continental/regional programmes for Africa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4 m (under identifica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Them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)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Policy development and harmonisation: 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building to CAADP lead institutions and RE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)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Sustainable management of natural resources: 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and degradation, drought and desertification, marine resources, forestry resources, cross-border management of natural resources, climat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)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Disaster and risk reduction: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isk assessment and risk reduction, preparedness and early warning, response and rehabilitat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623736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HQs + regional Del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4.b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Linking Relief to Rehabilitation and Development 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(LRRD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2009 local calls for proposal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Guinea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€ 7 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Burundi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€ 5,278 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DRC: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€ 12 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CAR: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€ 3 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DEL Please send over main fields of intervention to AIDCO/F/3!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V="1" rot="10824600">
            <a:off x="460080" y="5344560"/>
            <a:ext cx="74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EC HQs + regional Del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16080" indent="-316080">
              <a:lnSpc>
                <a:spcPts val="2798"/>
              </a:lnSpc>
              <a:buClr>
                <a:srgbClr val="103c72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Innovative approaches to combat food insecurity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26 countries: € 22 m (2008) and € 33 m (2009)</a:t>
            </a:r>
            <a:br>
              <a:rPr sz="2000"/>
            </a:b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(Mr Weber’s note to DEL no. 9598 of 10/05/2007)</a:t>
            </a:r>
            <a:br>
              <a:rPr sz="1600"/>
            </a:b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Themes are annexed to the Thematic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2009: € 2 million per count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GUINEA BISSAU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animal traction, fisheries, early w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CHAD: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 nutri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MAURITANIA*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cross-border food exchanges, data on agricultural production, local develop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SIERRA LEONE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urban and peri-urban agriculture in Freetown are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NIGER*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safety ne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-31608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2 countries to be retained in 2009, 3 countries in 2010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-316080"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C Deleg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84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I. Introduction     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fr-BE" sz="1800" spc="-1" strike="noStrike">
                <a:solidFill>
                  <a:srgbClr val="0082c8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82c8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0920" y="1413000"/>
            <a:ext cx="8388360" cy="4738320"/>
            <a:chOff x="250920" y="1413000"/>
            <a:chExt cx="8388360" cy="4738320"/>
          </a:xfrm>
        </p:grpSpPr>
        <p:cxnSp>
          <p:nvCxnSpPr>
            <p:cNvPr id="107" name="_s63493"/>
            <p:cNvCxnSpPr>
              <a:stCxn id="108" idx="1"/>
              <a:endCxn id="109" idx="2"/>
            </p:cNvCxnSpPr>
            <p:nvPr/>
          </p:nvCxnSpPr>
          <p:spPr>
            <a:xfrm rot="10800000">
              <a:off x="2766600" y="2273760"/>
              <a:ext cx="839520" cy="34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63494"/>
            <p:cNvCxnSpPr>
              <a:stCxn id="111" idx="1"/>
              <a:endCxn id="109" idx="2"/>
            </p:cNvCxnSpPr>
            <p:nvPr/>
          </p:nvCxnSpPr>
          <p:spPr>
            <a:xfrm rot="10800000">
              <a:off x="2766600" y="2273760"/>
              <a:ext cx="839520" cy="215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63495"/>
            <p:cNvCxnSpPr>
              <a:stCxn id="113" idx="1"/>
              <a:endCxn id="109" idx="2"/>
            </p:cNvCxnSpPr>
            <p:nvPr/>
          </p:nvCxnSpPr>
          <p:spPr>
            <a:xfrm rot="10800000">
              <a:off x="2766600" y="2273760"/>
              <a:ext cx="83952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9" name="_s63496"/>
            <p:cNvSpPr/>
            <p:nvPr/>
          </p:nvSpPr>
          <p:spPr>
            <a:xfrm>
              <a:off x="250920" y="1413000"/>
              <a:ext cx="5033160" cy="86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3399"/>
                  </a:solidFill>
                  <a:latin typeface="Verdana"/>
                </a:rPr>
                <a:t>Food Security</a:t>
              </a:r>
              <a:r>
                <a:rPr b="1" lang="en-GB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3399"/>
                  </a:solidFill>
                  <a:latin typeface="Verdana"/>
                </a:rPr>
                <a:t>Art. 15 of DCI</a:t>
              </a:r>
              <a:r>
                <a:rPr b="1" lang="fr-BE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63497"/>
            <p:cNvSpPr/>
            <p:nvPr/>
          </p:nvSpPr>
          <p:spPr>
            <a:xfrm>
              <a:off x="3606120" y="2705040"/>
              <a:ext cx="5033160" cy="86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500" spc="-1" strike="noStrike">
                  <a:solidFill>
                    <a:srgbClr val="003399"/>
                  </a:solidFill>
                  <a:latin typeface="Verdana"/>
                </a:rPr>
                <a:t>Ex-Programme</a:t>
              </a:r>
              <a:r>
                <a:rPr b="1" lang="fr-BE" sz="1700" spc="-1" strike="noStrike">
                  <a:solidFill>
                    <a:srgbClr val="003399"/>
                  </a:solidFill>
                  <a:latin typeface="Verdana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700" spc="-1" strike="noStrike">
                  <a:solidFill>
                    <a:srgbClr val="003399"/>
                  </a:solidFill>
                  <a:latin typeface="Verdana"/>
                </a:rPr>
                <a:t>Food Aid &amp; Food Secur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63498"/>
            <p:cNvSpPr/>
            <p:nvPr/>
          </p:nvSpPr>
          <p:spPr>
            <a:xfrm>
              <a:off x="3606120" y="3997440"/>
              <a:ext cx="5033160" cy="86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500" spc="-1" strike="noStrike">
                  <a:solidFill>
                    <a:srgbClr val="103c72"/>
                  </a:solidFill>
                  <a:latin typeface="Verdana"/>
                </a:rPr>
                <a:t>TOTAL of 886 m € for 2007-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BE" sz="1700" spc="-1" strike="noStrike">
                  <a:solidFill>
                    <a:srgbClr val="333399"/>
                  </a:solidFill>
                  <a:latin typeface="Verdana"/>
                </a:rPr>
                <a:t>217</a:t>
              </a:r>
              <a:r>
                <a:rPr b="1" lang="en-GB" sz="1700" spc="-1" strike="noStrike">
                  <a:solidFill>
                    <a:srgbClr val="333399"/>
                  </a:solidFill>
                  <a:latin typeface="Verdana"/>
                </a:rPr>
                <a:t> m € in</a:t>
              </a:r>
              <a:r>
                <a:rPr b="1" lang="en-GB" sz="1500" spc="-1" strike="noStrike">
                  <a:solidFill>
                    <a:srgbClr val="333399"/>
                  </a:solidFill>
                  <a:latin typeface="Verdana"/>
                </a:rPr>
                <a:t> 2008</a:t>
              </a:r>
              <a:r>
                <a:rPr b="0" lang="en-GB" sz="1300" spc="-1" strike="noStrike" baseline="70000">
                  <a:solidFill>
                    <a:srgbClr val="333399"/>
                  </a:solidFill>
                  <a:latin typeface="Verdana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333399"/>
                  </a:solidFill>
                  <a:latin typeface="Verdana"/>
                </a:rPr>
                <a:t>233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 m €</a:t>
              </a:r>
              <a:r>
                <a:rPr b="0" lang="en-GB" sz="1800" spc="-1" strike="noStrike">
                  <a:solidFill>
                    <a:srgbClr val="333399"/>
                  </a:solidFill>
                  <a:latin typeface="Verdana"/>
                </a:rPr>
                <a:t> in 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63499"/>
            <p:cNvSpPr/>
            <p:nvPr/>
          </p:nvSpPr>
          <p:spPr>
            <a:xfrm>
              <a:off x="3606120" y="5289840"/>
              <a:ext cx="5033160" cy="86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>
                <a:lnSpc>
                  <a:spcPct val="100000"/>
                </a:lnSpc>
                <a:buClr>
                  <a:srgbClr val="103c7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Improves food security of poorest and most vulnerable group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103c7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Contributes to MDG 1 (poverty and hunger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103c7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Worldw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6381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fr-BE" sz="1400" spc="-1" strike="noStrike">
                <a:solidFill>
                  <a:srgbClr val="003399"/>
                </a:solidFill>
                <a:latin typeface="Verdana"/>
              </a:rPr>
              <a:t>BL 21.0201, 21.0703;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Excluding administrative expendi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18900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907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Identity Car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NEW!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009: increase of € 50 million in credit and payment appropriations to tackle food cri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redit appropriations: € 283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ayment appropriations: € 24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o do what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vision of agricultural inputs for the next agricultural cyc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pport social safety nets for low-income popul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NEW!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009: new budget line for pilot projects on rural micro-credi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MISE EN OEUVRE FSBL/FSTP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Première revue des résultats des projets ONG et LRRD en Afrique Centrale et de l’Ouest: 2004-2008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DC: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8 projets. Total allocations: € 24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ontant moyen: +/- € 1,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èmes: renforcement des capacités des organisations paysannes, nutrition, aide alimentaire, valorisation des produits agricoles, production agro-pastorale, etc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st practices/réplicabilité: OUI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)au moins 5 projets se sont enchainés sur la réplication de l’appui à l’organisation paysanne + systèmes d’évacuation et commercialisation des produits agricoles gérés par des fédérations de comités villageois + réhabilitation des pist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e pour la relance agricole au RD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MISE EN OEUVRE FSBL/FSTP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Première revue des résultats des projets ONG et LRRD en Afrique Centrale et de l’Ouest: 2004-2008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CHA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8 projets. Total allocations: € 5,4 m (projets de 2008 à signe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ontant moyen: +/- € 180.00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èmes: récupération terres dégradées, renforcement capacités institutionnelles de production agricole et de stockage, nutri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st practices/réplicabilité: OU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u moins 3 projets se sont enchainés sur l’introduction de la traction asine dans le labour et le transport. Utilisation des techniques de compostage et des engrais biologique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utrition: spirulina et moringa oleifer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MISE EN OEUVRE FSBL/FSTP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Première revue des résultats des projets ONG et LRRD en Afrique Centrale et de l’Ouest: 2004-2008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NIG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 projets. Total allocation: € 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ontant moyen: +/- € 1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èmes: appui au dispositif national de prévention et de gestion des crises alimentaires, nutri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st practices/réplicabilité: OU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utrition: au moins 4 projets enchainés sur la nutri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éveloppment de stratégies durables de nutrition et de gestion démographiqu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II. 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Food Security 2008 </a:t>
            </a: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Main Specific objectives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-3812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Agricultural Research for Development (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ARD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) at global and continental level (Africa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-3812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Improvement and harmonisation of Food Security Information Systems (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FSIS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) and Support to decision mak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-3812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ontinental food security programmes for Af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4.a EC response to 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soaring food pri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4.b Linking Relief, Rehabilitation and Development (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LRRD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) in Africa and Asi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5. Special allocation Asi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6. 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Advocacy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 for a stronger aid effectiveness (support to EIARD and to GDPRD) and a stronger civil society participation in the international policy dialogu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189000"/>
            <a:ext cx="525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1.a ARD at global level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07960" indent="-50796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nsultative Group for International Agricultural Research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GIAR (IFAD): € 67.5 m (3 year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-507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vision of international public goods such as pro-poor agricultural research for 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* biodiversity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* improved genetic resources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* international policies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* climate change and food security</a:t>
            </a: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87700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EC HQs (centralised AIDCO/F/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03c72"/>
                </a:solidFill>
                <a:latin typeface="Verdana"/>
              </a:rPr>
              <a:t>  </a:t>
            </a:r>
            <a:r>
              <a:rPr b="1" lang="en-GB" sz="2200" spc="-1" strike="noStrike">
                <a:solidFill>
                  <a:srgbClr val="103c72"/>
                </a:solidFill>
                <a:latin typeface="Verdana"/>
              </a:rPr>
              <a:t>1.b ARD for Africa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um for Agricultural Research in Africa FARA (WB)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0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latform for information and technological dissemination and partnerships for sustainable agricultural growth in Af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frican Forum for Agricultural Advisory Services AFAAS (WB)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.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nsuring a proper linkage between research results and extension system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entre Africain de Recherches sur Bananiers et Plantains CARBAP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.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search and information dissemination focusing on bananas and plantains ensuring the food security of large popul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623736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EC HQs (AIDCO/C/4) and Delegation Camer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79280" y="-3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– What &amp; how?  </a:t>
            </a:r>
            <a:r>
              <a:rPr b="0" lang="en-US" sz="16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1600" spc="-1" strike="noStrike">
              <a:solidFill>
                <a:srgbClr val="0082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42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2. Food Security Information Systems FSIS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11 m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 joint management with FAO for global level and South East Asia, with UNDP for Central Ame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ntributing to the harmonisation of approaches in food security monitoring, risk and food system resilience analysis, and early warning system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onitoring food prices to build effective strategies to prevent food crise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– What &amp; how?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5897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EC HQs (AIDCO/F/3) and Delegations Nicaragua and Thai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3. Continental programmes for Africa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.a Support to Farmers Organisations (IFAD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armers’ empowerment is key for agricultural growt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宋体"/>
              </a:rPr>
              <a:t>3.b Strengthening Comprehensive African Agricultural Development Programme (CAADP) institutions and processes (WB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 m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86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– What &amp; how? 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566100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EC HQs (AIDCO/C/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4.a EC Response to soaring food pric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 FAO Food Index rose by 57% between March 2007 and March 2008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Dominant structural cause: higher cereals consumption than cereals production and lower yield increases reflecting lower investment in agricultural research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ther causes such as higher oil pri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Need to adapt our Annual Action Programme to this emergency situation: re-shuffle of funds among components!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– What &amp; how? </a:t>
            </a:r>
            <a:r>
              <a:rPr b="0" lang="en-US" sz="14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4.a EC Response to soaring food price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0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veloping countries are not all exposed in a similar manner </a:t>
            </a:r>
            <a:r>
              <a:rPr b="0" lang="en-GB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there is a need for a differentiated approach in analysis and respon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Mix of polici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26640" indent="-18504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sh transfers to most vulnerable peo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26640" indent="-18504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rket-based and production support measures to support small-holder farmer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DRC 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€ 6,7 m </a:t>
            </a:r>
            <a:r>
              <a:rPr b="0" lang="fr-FR" sz="1400" spc="-1" strike="noStrike">
                <a:solidFill>
                  <a:srgbClr val="103c72"/>
                </a:solidFill>
                <a:latin typeface="Verdana"/>
              </a:rPr>
              <a:t>(d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irect awards to NGOs for agricultural inputs 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and measures aiming to increase agricultural production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Liberia 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€ 4,7 m </a:t>
            </a:r>
            <a:r>
              <a:rPr b="0" lang="fr-FR" sz="1400" spc="-1" strike="noStrike">
                <a:solidFill>
                  <a:srgbClr val="103c72"/>
                </a:solidFill>
                <a:latin typeface="Verdana"/>
              </a:rPr>
              <a:t>(topping up of calls for proposals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Sierra Leone 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€ 2,7 m </a:t>
            </a:r>
            <a:r>
              <a:rPr b="0" lang="fr-FR" sz="1400" spc="-1" strike="noStrike">
                <a:solidFill>
                  <a:srgbClr val="103c72"/>
                </a:solidFill>
                <a:latin typeface="Verdana"/>
              </a:rPr>
              <a:t>(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Contribution Agreement with the WFP for 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safety nets in the Freetown urban area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Guinea Conakry € 1,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46520" indent="-146520"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C Deleg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465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56:47Z</dcterms:created>
  <dc:creator>vandrjo</dc:creator>
  <dc:description/>
  <dc:language>en-US</dc:language>
  <cp:lastModifiedBy>user</cp:lastModifiedBy>
  <dcterms:modified xsi:type="dcterms:W3CDTF">2008-09-26T10:20:56Z</dcterms:modified>
  <cp:revision>408</cp:revision>
  <dc:subject/>
  <dc:title>Reference Template for    Pres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