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E69-C8EB-47E5-B5EC-1862B11C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B43-2DCE-4C0E-8B5F-8B11473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E50-5D62-4206-BE77-AF16D701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D50-FE00-44DA-B7FD-0A358C10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66D-B60B-4FB7-ACEC-71C58BC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262-73AC-43FA-B33C-0630CD92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785-67FA-4ED8-87DE-FC132F06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B27-8761-4769-BB5D-555A7F3D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40F-5AE7-4E61-9C7F-BBAE3F1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886-2231-4E03-85AD-F821097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E42-C7DB-4B79-B562-9FA3791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E59-762E-4E9D-B228-92E166B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156-6D5F-498B-81D1-C98EF590EA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uvernance et sécurité alimen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éments pratiques à partir du cas mauritan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amey - 24 septembr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85080" cy="460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8764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 d’analyse gouvernance: situation d’équi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932360" y="2852640"/>
            <a:ext cx="576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789360"/>
            <a:ext cx="1657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549360"/>
            <a:ext cx="2232000" cy="3384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voi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781360"/>
            <a:ext cx="2016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mm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1844640"/>
            <a:ext cx="1871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cur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3141720"/>
            <a:ext cx="1729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i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29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386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378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93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508640"/>
            <a:ext cx="1223640" cy="127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tier1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4508640"/>
            <a:ext cx="1224000" cy="127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tier 2/im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5734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5734080"/>
            <a:ext cx="107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653000"/>
            <a:ext cx="9144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93372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378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3573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86064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sations de contrôle et ré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0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349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357720"/>
            <a:ext cx="1954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 d’analyse gouvernance: Maurit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66760" y="1216080"/>
            <a:ext cx="110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4842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06064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205000"/>
            <a:ext cx="64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213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86064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393372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429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3213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357336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3789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386064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3429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3645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4653000"/>
            <a:ext cx="9144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4653000"/>
            <a:ext cx="9144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360" y="2059920"/>
            <a:ext cx="720720" cy="73080"/>
          </a:xfrm>
          <a:custGeom>
            <a:avLst/>
            <a:gdLst>
              <a:gd name="textAreaLeft" fmla="*/ 0 w 720720"/>
              <a:gd name="textAreaRight" fmla="*/ 721080 w 720720"/>
              <a:gd name="textAreaTop" fmla="*/ -360 h 73080"/>
              <a:gd name="textAreaBottom" fmla="*/ 73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8135400">
            <a:off x="7164000" y="764640"/>
            <a:ext cx="1800360" cy="648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793200">
            <a:off x="1096200" y="5464800"/>
            <a:ext cx="976320" cy="21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005600">
            <a:off x="3954240" y="4147920"/>
            <a:ext cx="2089080" cy="477720"/>
          </a:xfrm>
          <a:prstGeom prst="leftRightArrow">
            <a:avLst>
              <a:gd name="adj1" fmla="val 50000"/>
              <a:gd name="adj2" fmla="val 870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497600">
            <a:off x="7020000" y="2637000"/>
            <a:ext cx="503280" cy="1439640"/>
          </a:xfrm>
          <a:prstGeom prst="upDownArrow">
            <a:avLst>
              <a:gd name="adj1" fmla="val 50000"/>
              <a:gd name="adj2" fmla="val 56945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9228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60200">
            <a:off x="2306160" y="2576520"/>
            <a:ext cx="792360" cy="71280"/>
          </a:xfrm>
          <a:prstGeom prst="leftRightArrow">
            <a:avLst>
              <a:gd name="adj1" fmla="val 50000"/>
              <a:gd name="adj2" fmla="val 221294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090400">
            <a:off x="1834920" y="3573000"/>
            <a:ext cx="792000" cy="71640"/>
          </a:xfrm>
          <a:prstGeom prst="leftRightArrow">
            <a:avLst>
              <a:gd name="adj1" fmla="val 50000"/>
              <a:gd name="adj2" fmla="val 220082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27000">
            <a:off x="826920" y="3141360"/>
            <a:ext cx="792000" cy="71640"/>
          </a:xfrm>
          <a:prstGeom prst="leftRightArrow">
            <a:avLst>
              <a:gd name="adj1" fmla="val 50000"/>
              <a:gd name="adj2" fmla="val 220082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880200">
            <a:off x="5631480" y="5464800"/>
            <a:ext cx="976320" cy="21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86064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édération boulan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292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335772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édération détaill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5805360"/>
            <a:ext cx="12970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260280"/>
            <a:ext cx="12970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5877000"/>
            <a:ext cx="129708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s Ara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 d’analyse: Articulation des intérê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politique: collusion privé/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ne « stratégique » de la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ème de pilotage de réaction aux crises juge et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urnisseurs de services: système monopol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de contrôle et balance: marginal ou aux or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régulation au service des con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dditions des comptes: système anihi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ventions PTF mal coor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ition: Check-list cohérence contexte/opé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125360"/>
          <a:ext cx="8229600" cy="578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5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politique/gou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politiques sectorielles et CSLP concertées et publ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librer les axes d’intervention:  Accent sur org. de ré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érence pol d’appui et instr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gration NSA dans programmation 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gration dans engagements gouvernance 10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D, ou négo. art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es bailleurs de fo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stratégique et opérationne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age de l’analyse gou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artition des tâ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com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gner la libéralisation/régulation des pratiques monopolis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gration dans eng. Gouvernance (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 d’accompagnement (exemple PACS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e contre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velopper capacités lobbying/organis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velopper info et diffusion de l’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 de renforcement des capacités (ex. PASOC). Subventions 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25:07Z</dcterms:created>
  <dc:creator>Anne</dc:creator>
  <dc:description/>
  <dc:language>en-US</dc:language>
  <cp:lastModifiedBy>auriane</cp:lastModifiedBy>
  <dcterms:modified xsi:type="dcterms:W3CDTF">2008-09-26T15:55:19Z</dcterms:modified>
  <cp:revision>9</cp:revision>
  <dc:subject/>
  <dc:title>Diapositive 1</dc:title>
</cp:coreProperties>
</file>