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B5238-1D6D-4427-B978-1470410CD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0116A-0FAB-4505-B7E6-07537246B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4308A-5FF9-46FA-8857-DA1A8B730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F58F4-D30D-40C0-9CAF-1D961C95C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44587-6478-4D48-BEF3-8E3EF315E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C80D6-D9ED-42A0-99FA-0112FA4C1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1C866-B8DB-4279-B18B-2DF2C82A8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1FE4D-51F4-461C-8D92-0A57D8651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F02B4-23C8-4F9E-9CF8-E31576DFE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B1FC8-124A-45B0-9311-4F745D704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77587-C9C4-4458-BDCB-2D9DB8888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84F3B-EE70-49A5-9086-8FFC20BD8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2CE1F-462C-4594-92EA-958AA543789D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uvernance et sécurité alimentai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éments pratiques à partir du cas mauritani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amey - 24 septembre 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258920" y="1484280"/>
            <a:ext cx="6985080" cy="46087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987640" y="2205000"/>
            <a:ext cx="4392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ille d’analyse gouvernance: situation d’équilib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932360" y="2852640"/>
            <a:ext cx="576360" cy="1440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59280" y="3789360"/>
            <a:ext cx="1657080" cy="576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219640" y="549360"/>
            <a:ext cx="2232000" cy="338436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uvoir cen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916360" y="2781360"/>
            <a:ext cx="2016000" cy="936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ommateu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rba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227640" y="1844640"/>
            <a:ext cx="1871640" cy="1008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issari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écurité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menta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227640" y="3141720"/>
            <a:ext cx="1729080" cy="1008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onim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812000" y="299736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667640" y="386064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012000" y="378936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877080" y="3933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140360" y="4508640"/>
            <a:ext cx="1223640" cy="12747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notier1/im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411280" y="4508640"/>
            <a:ext cx="1224000" cy="12747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notier 2/impor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987640" y="5734080"/>
            <a:ext cx="1224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c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00720" y="5734080"/>
            <a:ext cx="107928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c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940360" y="4653000"/>
            <a:ext cx="914400" cy="28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c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067280" y="4076640"/>
            <a:ext cx="14292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348000" y="3933720"/>
            <a:ext cx="142920" cy="14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332000" y="3789360"/>
            <a:ext cx="14436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258920" y="3573360"/>
            <a:ext cx="14436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900000" y="3860640"/>
            <a:ext cx="1511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rganisations de contrôle et régul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403280" y="2060640"/>
            <a:ext cx="216000" cy="21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763640" y="2349360"/>
            <a:ext cx="216000" cy="21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763640" y="1989000"/>
            <a:ext cx="216000" cy="21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003640" y="3357720"/>
            <a:ext cx="19548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ille d’analyse gouvernance: Mauritan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166760" y="1216080"/>
            <a:ext cx="1101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971640" y="1484280"/>
            <a:ext cx="151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es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643280" y="2060640"/>
            <a:ext cx="57636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95640" y="2205000"/>
            <a:ext cx="647640" cy="36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én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635280" y="4076640"/>
            <a:ext cx="14292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492360" y="4076640"/>
            <a:ext cx="14292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492360" y="4005360"/>
            <a:ext cx="14292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51280" y="4076640"/>
            <a:ext cx="14292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67280" y="4005360"/>
            <a:ext cx="14292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003640" y="3213000"/>
            <a:ext cx="142920" cy="14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284720" y="4005360"/>
            <a:ext cx="14292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51280" y="3860640"/>
            <a:ext cx="142920" cy="14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635280" y="3933720"/>
            <a:ext cx="142920" cy="14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148360" y="3429000"/>
            <a:ext cx="14292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219640" y="3213000"/>
            <a:ext cx="142920" cy="14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076720" y="3573360"/>
            <a:ext cx="142920" cy="14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148360" y="3789360"/>
            <a:ext cx="14292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003640" y="3860640"/>
            <a:ext cx="142920" cy="14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148360" y="4005360"/>
            <a:ext cx="14292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219640" y="3429000"/>
            <a:ext cx="14292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19640" y="3645000"/>
            <a:ext cx="14292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948360" y="4653000"/>
            <a:ext cx="914400" cy="28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c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956720" y="4653000"/>
            <a:ext cx="914400" cy="28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c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68360" y="2059920"/>
            <a:ext cx="720720" cy="73080"/>
          </a:xfrm>
          <a:custGeom>
            <a:avLst/>
            <a:gdLst>
              <a:gd name="textAreaLeft" fmla="*/ 0 w 720720"/>
              <a:gd name="textAreaRight" fmla="*/ 721080 w 720720"/>
              <a:gd name="textAreaTop" fmla="*/ -360 h 73080"/>
              <a:gd name="textAreaBottom" fmla="*/ 73080 h 73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640" bIns="26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8135400">
            <a:off x="7164000" y="764640"/>
            <a:ext cx="1800360" cy="648000"/>
          </a:xfrm>
          <a:custGeom>
            <a:avLst/>
            <a:gdLst>
              <a:gd name="textAreaLeft" fmla="*/ 0 w 1800360"/>
              <a:gd name="textAreaRight" fmla="*/ 1800720 w 1800360"/>
              <a:gd name="textAreaTop" fmla="*/ 0 h 648000"/>
              <a:gd name="textAreaBottom" fmla="*/ 648000 h 6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18793200">
            <a:off x="1096200" y="5464800"/>
            <a:ext cx="976320" cy="216000"/>
          </a:xfrm>
          <a:custGeom>
            <a:avLst/>
            <a:gdLst>
              <a:gd name="textAreaLeft" fmla="*/ 0 w 976320"/>
              <a:gd name="textAreaRight" fmla="*/ 976680 w 97632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rot="19005600">
            <a:off x="3954240" y="4147920"/>
            <a:ext cx="2089080" cy="477720"/>
          </a:xfrm>
          <a:prstGeom prst="leftRightArrow">
            <a:avLst>
              <a:gd name="adj1" fmla="val 50000"/>
              <a:gd name="adj2" fmla="val 87055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rot="19497600">
            <a:off x="7020000" y="2637000"/>
            <a:ext cx="503280" cy="1439640"/>
          </a:xfrm>
          <a:prstGeom prst="upDownArrow">
            <a:avLst>
              <a:gd name="adj1" fmla="val 50000"/>
              <a:gd name="adj2" fmla="val 56945"/>
            </a:avLst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859280" y="2492280"/>
            <a:ext cx="792360" cy="216000"/>
          </a:xfrm>
          <a:prstGeom prst="leftRightArrow">
            <a:avLst>
              <a:gd name="adj1" fmla="val 50000"/>
              <a:gd name="adj2" fmla="val 73027"/>
            </a:avLst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rot="1960200">
            <a:off x="2306160" y="2576520"/>
            <a:ext cx="792360" cy="71280"/>
          </a:xfrm>
          <a:prstGeom prst="leftRightArrow">
            <a:avLst>
              <a:gd name="adj1" fmla="val 50000"/>
              <a:gd name="adj2" fmla="val 221294"/>
            </a:avLst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rot="20090400">
            <a:off x="1834920" y="3573000"/>
            <a:ext cx="792000" cy="71640"/>
          </a:xfrm>
          <a:prstGeom prst="leftRightArrow">
            <a:avLst>
              <a:gd name="adj1" fmla="val 50000"/>
              <a:gd name="adj2" fmla="val 220082"/>
            </a:avLst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rot="17427000">
            <a:off x="826920" y="3141360"/>
            <a:ext cx="792000" cy="71640"/>
          </a:xfrm>
          <a:prstGeom prst="leftRightArrow">
            <a:avLst>
              <a:gd name="adj1" fmla="val 50000"/>
              <a:gd name="adj2" fmla="val 220082"/>
            </a:avLst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rot="18880200">
            <a:off x="5631480" y="5464800"/>
            <a:ext cx="976320" cy="215640"/>
          </a:xfrm>
          <a:custGeom>
            <a:avLst/>
            <a:gdLst>
              <a:gd name="textAreaLeft" fmla="*/ 0 w 976320"/>
              <a:gd name="textAreaRight" fmla="*/ 976680 w 976320"/>
              <a:gd name="textAreaTop" fmla="*/ 0 h 215640"/>
              <a:gd name="textAreaBottom" fmla="*/ 216000 h 21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556000" y="3860640"/>
            <a:ext cx="136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édération boulang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708360" y="4292640"/>
            <a:ext cx="14292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500720" y="3357720"/>
            <a:ext cx="136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édération détailla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79280" y="5805360"/>
            <a:ext cx="1297080" cy="792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451640" y="260280"/>
            <a:ext cx="1297080" cy="792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076720" y="5877000"/>
            <a:ext cx="1297080" cy="792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nds Arab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ille d’analyse: Articulation des intérê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Système politique: collusion privé/publ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igne « stratégique » de la 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Système de pilotage de réaction aux crises juge et part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Fournisseurs de services: système monopolist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Système de contrôle et balance: marginal ou aux ord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as de régulation au service des conso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Redditions des comptes: système anihil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Interventions PTF mal coordonné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osition: Check-list cohérence contexte/opér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457200" y="1125360"/>
          <a:ext cx="8229600" cy="578340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95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ystème politique/gouvernan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éfinition politiques sectorielles et CSLP concertées et publiqu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quilibrer les axes d’intervention:  Accent sur org. de régul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8b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hérence pol d’appui et instrumen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égration NSA dans programmation P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égration dans engagements gouvernance 10</a:t>
                      </a:r>
                      <a:r>
                        <a:rPr b="0" lang="fr-FR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ème</a:t>
                      </a: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FED, ou négo. art.9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ystème des bailleurs de fond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ordination stratégique et opérationnell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8b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age de l’analyse gouvernan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épartition des tâch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6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ystème commerci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ompagner la libéralisation/régulation des pratiques monopolistiqu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8b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égration dans eng. Gouvernance (comm.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ons d’accompagnement (exemple PACSEP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ystème de contrebalan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évelopper capacités lobbying/organis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évelopper info et diffusion de l’inform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0e8b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ons de renforcement des capacités (ex. PASOC). Subventions O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4T11:25:07Z</dcterms:created>
  <dc:creator>Anne</dc:creator>
  <dc:description/>
  <dc:language>en-US</dc:language>
  <cp:lastModifiedBy>auriane</cp:lastModifiedBy>
  <dcterms:modified xsi:type="dcterms:W3CDTF">2008-09-26T15:55:19Z</dcterms:modified>
  <cp:revision>9</cp:revision>
  <dc:subject/>
  <dc:title>Diapositive 1</dc:title>
</cp:coreProperties>
</file>