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88A3-6050-46B5-9430-7C33DB462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2BC3-DCF6-4917-9C37-FAFC47976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9F2F6-E8E8-47A6-BA1A-B0B0F6F9C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2BF97-B756-4E43-BE3D-BC8A337B11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0E282-1C9B-4EAD-B224-C61DF49048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F4FC-FC42-48A8-AA0E-C9B947CF2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63D84-7472-4D92-B38C-D6BF4E8EC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FE81A-C7A0-4D5C-B4BC-18206F22D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689D-1D58-4720-ADF4-5A71926DAA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9374-9716-4212-A334-C466376232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231F-5723-42BC-BA0D-688D0248E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5A9B4-5CAB-4A4E-91FB-C1F8C16B1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56360" y="6248520"/>
            <a:ext cx="50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68360" y="6308280"/>
            <a:ext cx="468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amey – Séminaire régional – Septembre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48360" y="6237360"/>
            <a:ext cx="1295640" cy="431640"/>
          </a:xfrm>
          <a:prstGeom prst="rect">
            <a:avLst/>
          </a:prstGeom>
          <a:solidFill>
            <a:srgbClr val="b3a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5000"/>
              </a:lnSpc>
              <a:spcBef>
                <a:spcPts val="1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uropeA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Réseau Opérationnel de Sécurité Alimentaire - RO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nctionnement, bilan et persp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FB19-87F7-4949-BFEA-F4F1084000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971640" y="1052640"/>
            <a:ext cx="7057080" cy="720360"/>
            <a:chOff x="971640" y="1052640"/>
            <a:chExt cx="7057080" cy="720360"/>
          </a:xfrm>
        </p:grpSpPr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4958280" y="1052640"/>
              <a:ext cx="3070440" cy="7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971640" y="1052640"/>
              <a:ext cx="3986640" cy="72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468360" y="1989000"/>
            <a:ext cx="525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a hausse des prix alimentai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242100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es causes de la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malnutri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 les types d’action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321300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es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transferts sociau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concepts, mise en œuvre et imp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16360" y="242100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es actions à privilégier dans la lutte contre la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malnutr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3213000"/>
            <a:ext cx="4176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es pré-requis et le pas de temps nécessaires à la mise en place des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transferts socia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443700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5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es profils de la sécurité alimentaire dans les pays du Sah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436572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7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e choix et l’utilisation des indicateurs dans les programmes et interventions de 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5445000"/>
            <a:ext cx="86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8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e lien entre l’urgence, la réhabilitation et le développement (EN/F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2781360"/>
            <a:ext cx="289080" cy="216000"/>
          </a:xfrm>
          <a:prstGeom prst="rightArrow">
            <a:avLst>
              <a:gd name="adj1" fmla="val 50000"/>
              <a:gd name="adj2" fmla="val 33458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B1D42-7AC0-4E69-B4BA-75135FF338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10920" y="1773360"/>
            <a:ext cx="8064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mentation des dossiers théma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s techniques de la plateforme actuelle (ressources documentai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boration d’un bulletin de veil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orisation des fonds documentaires (liens directs vers les documents disponibles) : Premier numéro sur les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ransferts soci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ille documentaire (hausse des prix, nouvelles publications, communiqu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916280"/>
            <a:ext cx="806436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116000" y="907920"/>
            <a:ext cx="6911640" cy="792360"/>
            <a:chOff x="1116000" y="907920"/>
            <a:chExt cx="6911640" cy="792360"/>
          </a:xfrm>
        </p:grpSpPr>
        <p:pic>
          <p:nvPicPr>
            <p:cNvPr id="74" name="" descr=""/>
            <p:cNvPicPr/>
            <p:nvPr/>
          </p:nvPicPr>
          <p:blipFill>
            <a:blip r:embed="rId2"/>
            <a:srcRect l="0" t="0" r="0" b="63307"/>
            <a:stretch/>
          </p:blipFill>
          <p:spPr>
            <a:xfrm>
              <a:off x="1116000" y="907920"/>
              <a:ext cx="419868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rcRect l="0" t="33741" r="0" b="0"/>
            <a:stretch/>
          </p:blipFill>
          <p:spPr>
            <a:xfrm>
              <a:off x="5014800" y="1052640"/>
              <a:ext cx="301284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2BC7-3407-459B-A62D-18C42B65F8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Les outils interactifs de R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lancement des forums de discuss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montée d’expériences sur les actions de lutte contre la malnutrition soutenues par la 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se en discussion de la note interservices de la CE sur les réponses à apporter face à la hausse des prix aliment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scussion sur les transferts soci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limites techniques qui ne favorisent pas l’interactivité du réseau (forum de discussion et wi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daptation de l’initiative pour contourner les problème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se en place de nouvelles modalités de sollicitation des membres (utilisation des messageries profess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78337-7BD6-43E5-821D-73B14B8B8F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Le développement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’une nouvelle platefor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69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essources documentaires en ligne (alimentation décentralisée, lettre de diffusion, des liens vers des ressources hébergées dans d’autres sites, un moteur de recher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outils interactifs (forum de discussion et wiki) pouvant être limités à un groupe restreint des participants et selon les beso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choix techniques mieux adaptés et peu coût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5CE57-FB43-4C2F-BD52-064468E11C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Les leçons pour la s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20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olider les activités menées (Zoom de ROSA, bulletins de veille, fonds documentai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’appuyer sur les chantiers de réflexion en cours (séminaires nutrition et transferts socia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forcer la mobilisation des particip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x des thèmes de travail en fonction des bes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licitations individualisées des membres sur leurs thèmes de spéc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lairage « extérieur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es de travail à dimensions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17908-DE08-4201-BCDD-38E728AFB2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Les leçons pour la s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3516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éliorer l’articulation avec d’autres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ter de solliciter les participants sur les mêmes thématiques, au même moment (actualité liée à la hausse des prix alimentai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forcer les liens avec les DG ECHO et DEV et avec les délé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culer les différentes initiatives et réflexions en cours au sein de la 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 synergies à trouver via le R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29381-CF07-4959-A182-2003E24FF5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our que ROSA fonction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064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 les outils permettant le travail en rés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ibilité des outils mis à dis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pagnement de l’équipe d’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 les activités permettant de faire vivre le rés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sur les activités mises e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des nouveaux besoins (thèmes de travail, activités à prévoir, pistes de réflexion pour susciter les déb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tution d’une communauté de travail (ouverture du réseau, groupes de travail restre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ppropriation du réseau par ses mem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8F1F-D1D2-4FCB-8553-6F106972A7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ésentation de l’initi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8064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in du Résal (Réseau Européen de Sécurité Alimentaire) en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 réunion régionale en réunion régionale de 2002 à 2007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=&gt; demande récurrente pour un nouveau Rés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OSA : lancement d’une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phase pilot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en février 2008 en s’appuyant sur une interface inter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EE3D-D366-48BF-83E6-55E076B2B9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ésentation de l’initi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i partici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85 participants, essentiellement de la 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V, EuropeAid, ECHO &amp; représentations, D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quinzaine de partenaires rapproch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enaires institutionn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cher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erts dans le domaine de la sécurité alimentaire (nutrition, transferts sociau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CC9C-0A51-4E6C-8140-42C6117F73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Objecti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79930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éer d’un référentiel commun sur la sécurité alimen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e à niveau sur certaines thém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er la circulation de l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thèque partagée (site coopéra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&gt;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vir le travail quotidien des membres de la communau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0AA2-D17C-4892-8BCB-02AB2FB887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Objecti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9912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forcer les échanges et la coordination 1) entre siège et terrains et 2) entre ter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age des points de v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ntée d’expériences &amp; capit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richir la réflexion de la CE et améliorer ses pratiques et poli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cc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réer une 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communauté de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63A2-9920-46C6-9271-9489416F2B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5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5FA82-8E8F-4402-9058-80F7630BB1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5141-D592-4A79-B236-63993888C5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Les chantiers de ROSA en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79930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mentation des prix alimentaires et ses implications sur la sécurité alimen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utte contre la malnutr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ferts sociaux et accès à l’al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urs de sécurité alimentaire et systèmes d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 thématiques transversales (LRRD, négociations commerciales, gouvernance et sécurité alimentai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F407-CA8A-40D7-9368-A47F63C73D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964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Les activités men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e en place de plusieurs types d’activités en lien avec les chantiers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Zoom de ROSA : Outil privilégié pour poser les problématiques et amorcer les déb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fonds documentaires (la Veille de ROSA) : Centraliser les documents sur les différentes thématiques abord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forums de discussion : Mettre en débat de questions spécifiques et faire remonter des informations/expé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ui au travail de réflexion sur les transferts sociaux et la malnutrition (en amont et en aval des séminai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RPCA, Paris av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B989-351E-45BF-B36A-26CCDCB5D1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8:04:36Z</dcterms:created>
  <dc:creator>Bénédicte HERMELIN</dc:creator>
  <dc:description/>
  <dc:language>en-US</dc:language>
  <cp:lastModifiedBy> </cp:lastModifiedBy>
  <dcterms:modified xsi:type="dcterms:W3CDTF">2008-09-26T10:00:00Z</dcterms:modified>
  <cp:revision>308</cp:revision>
  <dc:subject/>
  <dc:title>Impact of export support measures on food aid and food security</dc:title>
</cp:coreProperties>
</file>