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wmf" ContentType="image/x-wmf"/>
  <Override PartName="/ppt/media/image6.png" ContentType="image/png"/>
  <Override PartName="/ppt/media/image11.png" ContentType="image/png"/>
  <Override PartName="/ppt/media/image12.jpeg" ContentType="image/jpeg"/>
  <Override PartName="/ppt/media/image1.jpeg" ContentType="image/jpeg"/>
  <Override PartName="/ppt/media/image7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5a67"/>
                </a:solidFill>
                <a:latin typeface="Verdana"/>
              </a:rPr>
              <a:t>Click to move the slide</a:t>
            </a:r>
            <a:endParaRPr b="1" lang="en-US" sz="2400" spc="-1" strike="noStrike">
              <a:solidFill>
                <a:srgbClr val="405a67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3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164ED-5A06-4507-94E8-B7F8217565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1DCE3-6BF4-486C-AA6C-69DB118016D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B7BD9-013B-4E4A-A248-C4685F7A61E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B7954D-DD62-4551-9CB4-31CBB4EA3D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539280"/>
            <a:ext cx="777384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5a67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3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828600"/>
            <a:ext cx="7773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214B45-4F73-415F-A609-C2E7098615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539280"/>
            <a:ext cx="777384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5a67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379332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379332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828600"/>
            <a:ext cx="379332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9200" y="3828600"/>
            <a:ext cx="379332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343C5F-604A-4C2F-84A3-45D315950D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539280"/>
            <a:ext cx="777384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5a67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25030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4520" y="1599840"/>
            <a:ext cx="25030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2880" y="1599840"/>
            <a:ext cx="25030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828600"/>
            <a:ext cx="25030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4520" y="3828600"/>
            <a:ext cx="25030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2880" y="3828600"/>
            <a:ext cx="25030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1663F8-CF68-44D6-8B72-155633C42A3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539280"/>
            <a:ext cx="777384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5a67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599840"/>
            <a:ext cx="7773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539280"/>
            <a:ext cx="777384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5a67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3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539280"/>
            <a:ext cx="777384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5a67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379332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379332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9280"/>
            <a:ext cx="777384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5a67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539280"/>
            <a:ext cx="7773840" cy="450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539280"/>
            <a:ext cx="777384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5a67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379332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379332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3828600"/>
            <a:ext cx="379332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9280"/>
            <a:ext cx="777384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5a67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599840"/>
            <a:ext cx="7773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D49946-A6FE-4C92-9620-3908804F64F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539280"/>
            <a:ext cx="777384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5a67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379332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379332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9200" y="3828600"/>
            <a:ext cx="379332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539280"/>
            <a:ext cx="777384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5a67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379332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379332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3828600"/>
            <a:ext cx="7773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9280"/>
            <a:ext cx="777384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5a67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3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3828600"/>
            <a:ext cx="7773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539280"/>
            <a:ext cx="777384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5a67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379332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379332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3828600"/>
            <a:ext cx="379332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9200" y="3828600"/>
            <a:ext cx="379332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539280"/>
            <a:ext cx="777384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5a67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25030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4520" y="1599840"/>
            <a:ext cx="25030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2880" y="1599840"/>
            <a:ext cx="25030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3828600"/>
            <a:ext cx="25030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4520" y="3828600"/>
            <a:ext cx="25030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2880" y="3828600"/>
            <a:ext cx="25030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9280"/>
            <a:ext cx="777384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5a67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3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B92CD2-A446-4631-97B3-3424E1F551E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539280"/>
            <a:ext cx="777384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5a67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379332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379332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E482F9-B6A7-4EA3-8771-959C0F82BB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9280"/>
            <a:ext cx="777384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5a67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CA224F-9354-44CB-ADB2-B8B071DCE74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539280"/>
            <a:ext cx="7773840" cy="450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F0A7E6-7676-4FD5-B46B-FD6607286BD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539280"/>
            <a:ext cx="777384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5a67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379332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379332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828600"/>
            <a:ext cx="379332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5CAF64-0D38-4B5E-9951-D35084C632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539280"/>
            <a:ext cx="777384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5a67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379332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379332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9200" y="3828600"/>
            <a:ext cx="379332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6C573E-E3A5-4AB7-8F67-EB94E428CEC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539280"/>
            <a:ext cx="777384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5a67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379332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379332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828600"/>
            <a:ext cx="7773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12D006-F111-4AAD-A30F-E8C15190188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48" descr=""/>
          <p:cNvPicPr/>
          <p:nvPr/>
        </p:nvPicPr>
        <p:blipFill>
          <a:blip r:embed="rId2"/>
          <a:stretch/>
        </p:blipFill>
        <p:spPr>
          <a:xfrm>
            <a:off x="-1440" y="6678720"/>
            <a:ext cx="9150120" cy="182520"/>
          </a:xfrm>
          <a:prstGeom prst="rect">
            <a:avLst/>
          </a:prstGeom>
          <a:ln w="0">
            <a:noFill/>
          </a:ln>
        </p:spPr>
      </p:pic>
      <p:pic>
        <p:nvPicPr>
          <p:cNvPr id="1" name="Picture 42" descr=""/>
          <p:cNvPicPr/>
          <p:nvPr/>
        </p:nvPicPr>
        <p:blipFill>
          <a:blip r:embed="rId3"/>
          <a:stretch/>
        </p:blipFill>
        <p:spPr>
          <a:xfrm>
            <a:off x="4572000" y="0"/>
            <a:ext cx="4572000" cy="3987720"/>
          </a:xfrm>
          <a:prstGeom prst="rect">
            <a:avLst/>
          </a:prstGeom>
          <a:ln w="0">
            <a:noFill/>
          </a:ln>
        </p:spPr>
      </p:pic>
      <p:pic>
        <p:nvPicPr>
          <p:cNvPr id="2" name="Picture 41" descr=""/>
          <p:cNvPicPr/>
          <p:nvPr/>
        </p:nvPicPr>
        <p:blipFill>
          <a:blip r:embed="rId4"/>
          <a:stretch/>
        </p:blipFill>
        <p:spPr>
          <a:xfrm>
            <a:off x="7873920" y="5932440"/>
            <a:ext cx="1054080" cy="696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539280"/>
            <a:ext cx="777384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5a67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405a67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5800" y="1599840"/>
            <a:ext cx="7773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85800" y="6397200"/>
            <a:ext cx="1905120" cy="3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91564-2052-4488-AD81-1DBA018506A2}" type="slidenum">
              <a:rPr b="0" lang="en-US" sz="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Text Box 47"/>
          <p:cNvSpPr/>
          <p:nvPr/>
        </p:nvSpPr>
        <p:spPr>
          <a:xfrm>
            <a:off x="2895480" y="621828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3" descr=""/>
          <p:cNvPicPr/>
          <p:nvPr/>
        </p:nvPicPr>
        <p:blipFill>
          <a:blip r:embed="rId2"/>
          <a:stretch/>
        </p:blipFill>
        <p:spPr>
          <a:xfrm>
            <a:off x="4011480" y="0"/>
            <a:ext cx="5132520" cy="44766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41" descr=""/>
          <p:cNvPicPr/>
          <p:nvPr/>
        </p:nvPicPr>
        <p:blipFill>
          <a:blip r:embed="rId3"/>
          <a:stretch/>
        </p:blipFill>
        <p:spPr>
          <a:xfrm>
            <a:off x="685800" y="3124080"/>
            <a:ext cx="1828800" cy="154944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539280"/>
            <a:ext cx="777384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5a67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405a67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1599840"/>
            <a:ext cx="7773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895120" y="1828800"/>
            <a:ext cx="5410440" cy="105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05a67"/>
                </a:solidFill>
                <a:latin typeface="Verdana"/>
              </a:rPr>
              <a:t>High global food prices: impacts and responses in southern Africa</a:t>
            </a:r>
            <a:endParaRPr b="1" lang="en-US" sz="2400" spc="-1" strike="noStrike">
              <a:solidFill>
                <a:srgbClr val="405a67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066320" y="4876920"/>
            <a:ext cx="771372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bac543"/>
                </a:solidFill>
                <a:latin typeface="Verdana"/>
              </a:rPr>
              <a:t>Mrs. Josee Koch - Policy and Knowledge Advise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bac543"/>
                </a:solidFill>
                <a:latin typeface="Verdana"/>
              </a:rPr>
              <a:t>EC Food Security Seminar 3-7 Novembe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bac543"/>
                </a:solidFill>
                <a:latin typeface="Verdana"/>
              </a:rPr>
              <a:t>Maputo Mozambiqu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Rectangle 4"/>
          <p:cNvSpPr/>
          <p:nvPr/>
        </p:nvSpPr>
        <p:spPr>
          <a:xfrm>
            <a:off x="395280" y="714240"/>
            <a:ext cx="381960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25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Title 2"/>
          <p:cNvSpPr/>
          <p:nvPr/>
        </p:nvSpPr>
        <p:spPr>
          <a:xfrm>
            <a:off x="3071880" y="4305240"/>
            <a:ext cx="54100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539280"/>
            <a:ext cx="777384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05a67"/>
                </a:solidFill>
                <a:latin typeface="Verdana"/>
              </a:rPr>
              <a:t>Impacts and responses in southern Africa</a:t>
            </a:r>
            <a:endParaRPr b="1" lang="en-US" sz="2400" spc="-1" strike="noStrike">
              <a:solidFill>
                <a:srgbClr val="405a67"/>
              </a:solidFill>
              <a:latin typeface="Verdana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85800" y="1142640"/>
            <a:ext cx="7773840" cy="50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8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Verdana"/>
              </a:rPr>
              <a:t>Malawi</a:t>
            </a:r>
            <a:r>
              <a:rPr b="0" lang="en-GB" sz="2000" spc="-1" strike="noStrike">
                <a:solidFill>
                  <a:srgbClr val="008000"/>
                </a:solidFill>
                <a:latin typeface="Verdan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008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8000"/>
                </a:solidFill>
                <a:latin typeface="Verdana"/>
              </a:rPr>
              <a:t>generally food secure after 3 years of above average harvests, boosted by ongoing input subsidy programm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008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8000"/>
                </a:solidFill>
                <a:latin typeface="Verdana"/>
              </a:rPr>
              <a:t>but pockets of food insecurity where 2008 harvests poor and prices rising steeply for market-dependent household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008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8000"/>
                </a:solidFill>
                <a:latin typeface="Verdana"/>
              </a:rPr>
              <a:t>steep maize price hikes from Apr’08 due to trader speculation and uncertainly about harvest – eased by GoM ban on large-scale private trade in Aug’08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008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8000"/>
                </a:solidFill>
                <a:latin typeface="Verdana"/>
              </a:rPr>
              <a:t>GoM also imposed an export ban in Apr’08 and a maximum selling price of MK52/kg – large traders may have to sell at a los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8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Verdana"/>
              </a:rPr>
              <a:t>Mozambique</a:t>
            </a:r>
            <a:r>
              <a:rPr b="0" lang="en-GB" sz="2000" spc="-1" strike="noStrike">
                <a:solidFill>
                  <a:srgbClr val="008000"/>
                </a:solidFill>
                <a:latin typeface="Verdan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008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8000"/>
                </a:solidFill>
                <a:latin typeface="Verdana"/>
              </a:rPr>
              <a:t>with high transportation costs and lack of govt. food reserves, prices above seasonal average in Maputo, Beira, Nampula and where crops hit by flood (centre) and drought (north &amp; south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008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8000"/>
                </a:solidFill>
                <a:latin typeface="Verdana"/>
              </a:rPr>
              <a:t>prices reportedly inflated by WFP local purchase contracts in plac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008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8000"/>
                </a:solidFill>
                <a:latin typeface="Verdana"/>
              </a:rPr>
              <a:t>MozVAC: 300,000 need immediate assistance, 250,000 more food insecure; chronic malnutrition &amp; stunting very high in north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008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8000"/>
                </a:solidFill>
                <a:latin typeface="Verdana"/>
              </a:rPr>
              <a:t>informal traders hit by Malawi import ba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8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008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8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8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685800" y="6397560"/>
            <a:ext cx="19051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F9F7A-D65D-451D-88C1-A866A536C4E2}" type="slidenum">
              <a:rPr b="0" lang="en-US" sz="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539280"/>
            <a:ext cx="777384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05a67"/>
                </a:solidFill>
                <a:latin typeface="Verdana"/>
              </a:rPr>
              <a:t>Impacts and responses in southern Africa</a:t>
            </a:r>
            <a:endParaRPr b="1" lang="en-US" sz="2400" spc="-1" strike="noStrike">
              <a:solidFill>
                <a:srgbClr val="405a67"/>
              </a:solidFill>
              <a:latin typeface="Verdana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1142640"/>
            <a:ext cx="7773840" cy="50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8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Verdana"/>
              </a:rPr>
              <a:t>Swazilan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008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8000"/>
                </a:solidFill>
                <a:latin typeface="Verdana"/>
              </a:rPr>
              <a:t>Food prices remain high in rural and urban area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008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8000"/>
                </a:solidFill>
                <a:latin typeface="Verdana"/>
              </a:rPr>
              <a:t>Swazi VAC: 290,000 in rural areas facing food deficit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008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8000"/>
                </a:solidFill>
                <a:latin typeface="Verdana"/>
              </a:rPr>
              <a:t>People with HIV/AIDS in Aug’08 demonstrations to call on govt. to improve humanitarian support – broadened to pro-democracy protests in Sep’08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8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Verdana"/>
              </a:rPr>
              <a:t>Zambi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008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8000"/>
                </a:solidFill>
                <a:latin typeface="Verdana"/>
              </a:rPr>
              <a:t>Most areas generally food secure, but maize prices above seasonal average and rising since July following doubts about size of harvest and Malawi and Tanzania export ban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008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8000"/>
                </a:solidFill>
                <a:latin typeface="Verdana"/>
              </a:rPr>
              <a:t>445,000 people need help in southern districts, affected by floods and heavy rai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008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8000"/>
                </a:solidFill>
                <a:latin typeface="Verdana"/>
              </a:rPr>
              <a:t>GoZ raised maize producer price from US$8 to US$14 per 50kg bag in July ‘08; export controls in plac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008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8000"/>
                </a:solidFill>
                <a:latin typeface="Verdana"/>
              </a:rPr>
              <a:t>traders want to import maize but fear GoZ release of reserve stocks at low pric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008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8000"/>
                </a:solidFill>
                <a:latin typeface="Verdana"/>
              </a:rPr>
              <a:t>FMD-related livestock movement ban in Southern &amp; Eastern Provinces since early 2008 prevents stock sales as coping mechanism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008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008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8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8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685800" y="6397560"/>
            <a:ext cx="19051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8C0F9-2931-4A98-BE6B-BC6C6DD89C72}" type="slidenum">
              <a:rPr b="0" lang="en-US" sz="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539280"/>
            <a:ext cx="777384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05a67"/>
                </a:solidFill>
                <a:latin typeface="Verdana"/>
              </a:rPr>
              <a:t>Impacts and responses in southern Africa</a:t>
            </a:r>
            <a:endParaRPr b="1" lang="en-US" sz="2400" spc="-1" strike="noStrike">
              <a:solidFill>
                <a:srgbClr val="405a67"/>
              </a:solidFill>
              <a:latin typeface="Verdana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685800" y="1143000"/>
            <a:ext cx="7773840" cy="32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8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Verdana"/>
              </a:rPr>
              <a:t>Zimbabw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008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8000"/>
                </a:solidFill>
                <a:latin typeface="Verdana"/>
              </a:rPr>
              <a:t>High regional food and fuel prices exacerbate an already inadequate efforts to meet the large national maize deficit through import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008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8000"/>
                </a:solidFill>
                <a:latin typeface="Verdana"/>
              </a:rPr>
              <a:t>with slow progress on imports, urban maize prices rose from US$0.14/kg in May to US$0.46/kg in Sept’08, and further rises are expected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008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8000"/>
                </a:solidFill>
                <a:latin typeface="Verdana"/>
              </a:rPr>
              <a:t>following 2008 main harvest 50% below 5-year average, over 5m expected to need assistance by Jan’09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008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8000"/>
                </a:solidFill>
                <a:latin typeface="Verdana"/>
              </a:rPr>
              <a:t>humanitarian operations now resumed following ban on NGO activities over election period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008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008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8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8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685800" y="6397560"/>
            <a:ext cx="19051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8D53A-99C2-4252-99AA-B36E80ACE044}" type="slidenum">
              <a:rPr b="0" lang="en-US" sz="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539280"/>
            <a:ext cx="7773840" cy="8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05a67"/>
                </a:solidFill>
                <a:latin typeface="Verdana"/>
              </a:rPr>
              <a:t>Prospects: back to the old crisis – only worse this time?</a:t>
            </a:r>
            <a:endParaRPr b="1" lang="en-US" sz="2400" spc="-1" strike="noStrike">
              <a:solidFill>
                <a:srgbClr val="405a67"/>
              </a:solidFill>
              <a:latin typeface="Verdana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714240" y="1571400"/>
            <a:ext cx="75009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8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8000"/>
                </a:solidFill>
                <a:latin typeface="Verdana"/>
              </a:rPr>
              <a:t>FAO: ‘financial crash could worsen the food crisis’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008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8000"/>
                </a:solidFill>
                <a:latin typeface="Verdana"/>
              </a:rPr>
              <a:t>reduced aid for agriculture? (US has already done this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008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8000"/>
                </a:solidFill>
                <a:latin typeface="Verdana"/>
              </a:rPr>
              <a:t>less support for social protection?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008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8000"/>
                </a:solidFill>
                <a:latin typeface="Verdana"/>
              </a:rPr>
              <a:t>more protectionist tendencies?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008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8000"/>
                </a:solidFill>
                <a:latin typeface="Verdana"/>
              </a:rPr>
              <a:t>other possible macro effects: reduced inward investment, tighter fiscal constraints, falling commodity export revenues (e.g. Zambia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8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8000"/>
                </a:solidFill>
                <a:latin typeface="Verdana"/>
              </a:rPr>
              <a:t>Danger that if food prices return to long term trend, the ‘global food crisis’ will be considered ‘over’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008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8000"/>
                </a:solidFill>
                <a:latin typeface="Verdana"/>
              </a:rPr>
              <a:t>will the CFA be put on the back burner &amp; its ‘building longer-term resilience’ objective quietly forgotten?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8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8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685800" y="6397560"/>
            <a:ext cx="19051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8CC95-501A-45E1-9445-383855826ACA}" type="slidenum">
              <a:rPr b="0" lang="en-US" sz="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539280"/>
            <a:ext cx="777384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05a67"/>
                </a:solidFill>
                <a:latin typeface="Verdana"/>
              </a:rPr>
              <a:t>Southern Africa: what more should be done? </a:t>
            </a:r>
            <a:endParaRPr b="1" lang="en-US" sz="2400" spc="-1" strike="noStrike">
              <a:solidFill>
                <a:srgbClr val="405a67"/>
              </a:solidFill>
              <a:latin typeface="Verdana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655200" y="1143000"/>
            <a:ext cx="77742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8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8000"/>
                </a:solidFill>
                <a:latin typeface="Verdana"/>
              </a:rPr>
              <a:t>Take short term action to limit local food price hik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8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8000"/>
                </a:solidFill>
                <a:latin typeface="Verdana"/>
              </a:rPr>
              <a:t>Match social transfer instruments to market conditions, using cash where possib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8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8000"/>
                </a:solidFill>
                <a:latin typeface="Verdana"/>
              </a:rPr>
              <a:t>Link cash transfer levels to prices of food and other necessiti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8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8000"/>
                </a:solidFill>
                <a:latin typeface="Verdana"/>
              </a:rPr>
              <a:t>Step up efforts to secure access to food, employment and social protection as a righ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8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8000"/>
                </a:solidFill>
                <a:latin typeface="Verdana"/>
              </a:rPr>
              <a:t>Design longer term action to reduce regional price volatility, investing in agriculture and marke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8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8000"/>
                </a:solidFill>
                <a:latin typeface="Verdana"/>
              </a:rPr>
              <a:t>“</a:t>
            </a:r>
            <a:r>
              <a:rPr b="0" lang="en-GB" sz="2000" spc="-1" strike="noStrike">
                <a:solidFill>
                  <a:srgbClr val="008000"/>
                </a:solidFill>
                <a:latin typeface="Verdana"/>
              </a:rPr>
              <a:t>The best cure for high prices is high prices” can apply to local as well as international producer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008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8000"/>
                </a:solidFill>
                <a:latin typeface="Verdana"/>
              </a:rPr>
              <a:t>but this requires better market infrastructure and information, broadened access to land and inputs, more effective research &amp; extension, action to curb seasonal hunger, and a fair global trading system!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685800" y="6397560"/>
            <a:ext cx="19051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A8182-1580-4682-B9B6-68BAF9CD4173}" type="slidenum">
              <a:rPr b="0" lang="en-US" sz="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2" descr=""/>
          <p:cNvPicPr/>
          <p:nvPr/>
        </p:nvPicPr>
        <p:blipFill>
          <a:blip r:embed="rId1"/>
          <a:stretch/>
        </p:blipFill>
        <p:spPr>
          <a:xfrm>
            <a:off x="0" y="5576760"/>
            <a:ext cx="9150480" cy="1825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3" descr=""/>
          <p:cNvPicPr/>
          <p:nvPr/>
        </p:nvPicPr>
        <p:blipFill>
          <a:blip r:embed="rId2"/>
          <a:stretch/>
        </p:blipFill>
        <p:spPr>
          <a:xfrm>
            <a:off x="3181320" y="755640"/>
            <a:ext cx="4280040" cy="27986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4" descr=""/>
          <p:cNvPicPr/>
          <p:nvPr/>
        </p:nvPicPr>
        <p:blipFill>
          <a:blip r:embed="rId3"/>
          <a:stretch/>
        </p:blipFill>
        <p:spPr>
          <a:xfrm>
            <a:off x="2171880" y="4389480"/>
            <a:ext cx="4800600" cy="83808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5" descr=""/>
          <p:cNvPicPr/>
          <p:nvPr/>
        </p:nvPicPr>
        <p:blipFill>
          <a:blip r:embed="rId4"/>
          <a:srcRect l="0" t="0" r="16294" b="0"/>
          <a:stretch/>
        </p:blipFill>
        <p:spPr>
          <a:xfrm>
            <a:off x="2000160" y="5981760"/>
            <a:ext cx="5139000" cy="571320"/>
          </a:xfrm>
          <a:prstGeom prst="rect">
            <a:avLst/>
          </a:prstGeom>
          <a:ln w="0">
            <a:noFill/>
          </a:ln>
        </p:spPr>
      </p:pic>
      <p:sp>
        <p:nvSpPr>
          <p:cNvPr id="150" name="Text Box 6"/>
          <p:cNvSpPr/>
          <p:nvPr/>
        </p:nvSpPr>
        <p:spPr>
          <a:xfrm>
            <a:off x="714240" y="569880"/>
            <a:ext cx="328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5a67"/>
                </a:solidFill>
                <a:latin typeface="Verdana"/>
              </a:rPr>
              <a:t>www.wahenga.ne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539280"/>
            <a:ext cx="777384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05a67"/>
                </a:solidFill>
                <a:latin typeface="Verdana"/>
              </a:rPr>
              <a:t>Exercise</a:t>
            </a:r>
            <a:endParaRPr b="1" lang="en-US" sz="2400" spc="-1" strike="noStrike">
              <a:solidFill>
                <a:srgbClr val="405a67"/>
              </a:solidFill>
              <a:latin typeface="Verdana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655200" y="1143000"/>
            <a:ext cx="77742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008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8000"/>
                </a:solidFill>
                <a:latin typeface="Verdana"/>
              </a:rPr>
              <a:t>Special Task Force to curb the High Food Pric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spcBef>
                <a:spcPts val="499"/>
              </a:spcBef>
              <a:buClr>
                <a:srgbClr val="008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8000"/>
                </a:solidFill>
                <a:latin typeface="Verdana"/>
              </a:rPr>
              <a:t>Zambia, Malawi and Mozambiqu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499"/>
              </a:spcBef>
              <a:buClr>
                <a:srgbClr val="008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499"/>
              </a:spcBef>
              <a:buClr>
                <a:srgbClr val="008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8000"/>
                </a:solidFill>
                <a:latin typeface="Verdana"/>
              </a:rPr>
              <a:t>Read the background inform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499"/>
              </a:spcBef>
              <a:buClr>
                <a:srgbClr val="008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8000"/>
                </a:solidFill>
                <a:latin typeface="Verdana"/>
              </a:rPr>
              <a:t>Discuss and make a proposal to Cabine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spcBef>
                <a:spcPts val="499"/>
              </a:spcBef>
              <a:buClr>
                <a:srgbClr val="008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8000"/>
                </a:solidFill>
                <a:latin typeface="Verdana"/>
              </a:rPr>
              <a:t>Short Term Act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spcBef>
                <a:spcPts val="499"/>
              </a:spcBef>
              <a:buClr>
                <a:srgbClr val="008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8000"/>
                </a:solidFill>
                <a:latin typeface="Verdana"/>
              </a:rPr>
              <a:t>Long Term Act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spcBef>
                <a:spcPts val="499"/>
              </a:spcBef>
              <a:buClr>
                <a:srgbClr val="008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499"/>
              </a:spcBef>
              <a:buClr>
                <a:srgbClr val="008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8000"/>
                </a:solidFill>
                <a:latin typeface="Verdana"/>
              </a:rPr>
              <a:t>Present the proposal briefly and also the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spcBef>
                <a:spcPts val="499"/>
              </a:spcBef>
              <a:buClr>
                <a:srgbClr val="008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8000"/>
                </a:solidFill>
                <a:latin typeface="Verdana"/>
              </a:rPr>
              <a:t>Possible implications for neighbouring countri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spcBef>
                <a:spcPts val="499"/>
              </a:spcBef>
              <a:buClr>
                <a:srgbClr val="008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8000"/>
                </a:solidFill>
                <a:latin typeface="Verdana"/>
              </a:rPr>
              <a:t>Estimated impact on State budge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spcBef>
                <a:spcPts val="499"/>
              </a:spcBef>
              <a:buClr>
                <a:srgbClr val="008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8000"/>
                </a:solidFill>
                <a:latin typeface="Verdana"/>
              </a:rPr>
              <a:t>Role(s) of the main stakeholders involved; Gov’t, NGOs, Civil Society, Donors, U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spcBef>
                <a:spcPts val="499"/>
              </a:spcBef>
              <a:buClr>
                <a:srgbClr val="008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8000"/>
                </a:solidFill>
                <a:latin typeface="Verdana"/>
              </a:rPr>
              <a:t>First steps of the Action Plan for Implemen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685800" y="6397560"/>
            <a:ext cx="19051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FD0FD-A46D-4642-A3B7-CD0CDBF3CFAF}" type="slidenum">
              <a:rPr b="0" lang="en-US" sz="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539280"/>
            <a:ext cx="777384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05a67"/>
                </a:solidFill>
                <a:latin typeface="Verdana"/>
              </a:rPr>
              <a:t>The ‘global food crisis’</a:t>
            </a:r>
            <a:endParaRPr b="1" lang="en-US" sz="2400" spc="-1" strike="noStrike">
              <a:solidFill>
                <a:srgbClr val="405a67"/>
              </a:solidFill>
              <a:latin typeface="Verdana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571320" y="1356840"/>
            <a:ext cx="4214520" cy="50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8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8000"/>
                </a:solidFill>
                <a:latin typeface="Verdana"/>
              </a:rPr>
              <a:t>After 30-year decline, global food prices soared from 2005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008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8000"/>
                </a:solidFill>
                <a:latin typeface="Verdana"/>
              </a:rPr>
              <a:t>but nothing like the 1970s!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8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8000"/>
                </a:solidFill>
                <a:latin typeface="Verdana"/>
              </a:rPr>
              <a:t>Immediate cause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008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8000"/>
                </a:solidFill>
                <a:latin typeface="Verdana"/>
              </a:rPr>
              <a:t>Poor harvests (esp. wheat in Australia, Russia, Ukraine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008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8000"/>
                </a:solidFill>
                <a:latin typeface="Verdana"/>
              </a:rPr>
              <a:t>Sharp oil &amp; fertiliser price ris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008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8000"/>
                </a:solidFill>
                <a:latin typeface="Verdana"/>
              </a:rPr>
              <a:t>Diversion of food to biofuel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8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8000"/>
                </a:solidFill>
                <a:latin typeface="Verdana"/>
              </a:rPr>
              <a:t>Longer term caus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008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8000"/>
                </a:solidFill>
                <a:latin typeface="Verdana"/>
              </a:rPr>
              <a:t>Demand growth (Asian feed use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008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8000"/>
                </a:solidFill>
                <a:latin typeface="Verdana"/>
              </a:rPr>
              <a:t>Run-down of stocks since 2000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008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8000"/>
                </a:solidFill>
                <a:latin typeface="Verdana"/>
              </a:rPr>
              <a:t>Trade agreement failures (Doha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008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8000"/>
                </a:solidFill>
                <a:latin typeface="Verdana"/>
              </a:rPr>
              <a:t>Declining agricultural investmen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008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8000"/>
                </a:solidFill>
                <a:latin typeface="Verdana"/>
              </a:rPr>
              <a:t>Climate change, soil fertility loss, water scarcity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008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8000"/>
                </a:solidFill>
                <a:latin typeface="Verdana"/>
              </a:rPr>
              <a:t>Falling per capita cereal output since mid-1980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008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008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Slide Number Placeholder 3"/>
          <p:cNvSpPr/>
          <p:nvPr/>
        </p:nvSpPr>
        <p:spPr>
          <a:xfrm>
            <a:off x="685800" y="6397560"/>
            <a:ext cx="19051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57D9E-DD69-42D2-884C-2CAF4203611C}" type="slidenum">
              <a:rPr b="0" lang="en-US" sz="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7" name="Object 3" descr=""/>
          <p:cNvPicPr/>
          <p:nvPr/>
        </p:nvPicPr>
        <p:blipFill>
          <a:blip r:embed="rId1"/>
          <a:stretch/>
        </p:blipFill>
        <p:spPr>
          <a:xfrm>
            <a:off x="4857840" y="1714680"/>
            <a:ext cx="4071960" cy="38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539280"/>
            <a:ext cx="777384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05a67"/>
                </a:solidFill>
                <a:latin typeface="Verdana"/>
              </a:rPr>
              <a:t>Worldwide impacts</a:t>
            </a:r>
            <a:endParaRPr b="1" lang="en-US" sz="2400" spc="-1" strike="noStrike">
              <a:solidFill>
                <a:srgbClr val="405a67"/>
              </a:solidFill>
              <a:latin typeface="Verdana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1599840"/>
            <a:ext cx="80294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8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8000"/>
                </a:solidFill>
                <a:latin typeface="Verdana"/>
              </a:rPr>
              <a:t>Most serious impacts on low-income food deficit countries and poor, market dependent households (esp. urban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8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8000"/>
                </a:solidFill>
                <a:latin typeface="Verdana"/>
              </a:rPr>
              <a:t>Widespread food riots and heightened political instability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8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8000"/>
                </a:solidFill>
                <a:latin typeface="Verdana"/>
              </a:rPr>
              <a:t>Burkina Faso, Cameroon, Cote d’Ivoire, Egypt, Guinea, Haiti, Mauritania, Mexico, Morocco, Nepal, Senegal, Uzbekistan, Yemen etc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8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8000"/>
                </a:solidFill>
                <a:latin typeface="Verdana"/>
              </a:rPr>
              <a:t>Export restrictions and speculation make matters wors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8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8000"/>
                </a:solidFill>
                <a:latin typeface="Verdana"/>
              </a:rPr>
              <a:t>World Bank: price rises will increase inequality and could push 100m more people into poverty, 30m in Afric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8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8000"/>
                </a:solidFill>
                <a:latin typeface="Verdana"/>
              </a:rPr>
              <a:t>UN: crisis has set back MDG1 progress by 7 year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8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8000"/>
                </a:solidFill>
                <a:latin typeface="Verdana"/>
              </a:rPr>
              <a:t>WFP: ‘perfect storm’ of rising food &amp; fuel prices doubled cost of food aid operations by Feb. 2008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8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8000"/>
                </a:solidFill>
                <a:latin typeface="Verdana"/>
              </a:rPr>
              <a:t>FAO: food price rises will add 75m to global malnourish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Slide Number Placeholder 3"/>
          <p:cNvSpPr/>
          <p:nvPr/>
        </p:nvSpPr>
        <p:spPr>
          <a:xfrm>
            <a:off x="685800" y="6397560"/>
            <a:ext cx="19051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2FB32-0C57-4BA7-9AED-E675B46A3AAB}" type="slidenum">
              <a:rPr b="0" lang="en-US" sz="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539280"/>
            <a:ext cx="7773840" cy="8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05a67"/>
                </a:solidFill>
                <a:latin typeface="Verdana"/>
              </a:rPr>
              <a:t>Global and regional responses</a:t>
            </a:r>
            <a:endParaRPr b="1" lang="en-US" sz="2400" spc="-1" strike="noStrike">
              <a:solidFill>
                <a:srgbClr val="405a67"/>
              </a:solidFill>
              <a:latin typeface="Verdana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685800" y="1214280"/>
            <a:ext cx="7773840" cy="52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8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Verdana"/>
              </a:rPr>
              <a:t>WFP</a:t>
            </a:r>
            <a:r>
              <a:rPr b="0" lang="en-GB" sz="2000" spc="-1" strike="noStrike">
                <a:solidFill>
                  <a:srgbClr val="008000"/>
                </a:solidFill>
                <a:latin typeface="Verdana"/>
              </a:rPr>
              <a:t> appealed for additional US$750m to meet rising costs – met by May ‘08 (US$500m from Saudi Arabia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8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Verdana"/>
              </a:rPr>
              <a:t>FAO</a:t>
            </a:r>
            <a:r>
              <a:rPr b="0" lang="en-GB" sz="2000" spc="-1" strike="noStrike">
                <a:solidFill>
                  <a:srgbClr val="008000"/>
                </a:solidFill>
                <a:latin typeface="Verdana"/>
              </a:rPr>
              <a:t> Initiative on Soaring Food Prices appealed for US$1.7b for seeds, fertilizer, animal feed, farm tool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008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8000"/>
                </a:solidFill>
                <a:latin typeface="Verdana"/>
              </a:rPr>
              <a:t>only US$100m pledged so fa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8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Verdana"/>
              </a:rPr>
              <a:t>World Bank</a:t>
            </a:r>
            <a:r>
              <a:rPr b="0" lang="en-GB" sz="2000" spc="-1" strike="noStrike">
                <a:solidFill>
                  <a:srgbClr val="008000"/>
                </a:solidFill>
                <a:latin typeface="Verdana"/>
              </a:rPr>
              <a:t>: Global Food Crisis Rapid Response Program - US$130m for social protection &amp; farm inpu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8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Verdana"/>
              </a:rPr>
              <a:t>African Union</a:t>
            </a:r>
            <a:r>
              <a:rPr b="0" lang="en-GB" sz="2000" spc="-1" strike="noStrike">
                <a:solidFill>
                  <a:srgbClr val="008000"/>
                </a:solidFill>
                <a:latin typeface="Verdana"/>
              </a:rPr>
              <a:t> called for more help to cope with impac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8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Verdana"/>
              </a:rPr>
              <a:t>NEPAD</a:t>
            </a:r>
            <a:r>
              <a:rPr b="0" lang="en-GB" sz="2000" spc="-1" strike="noStrike">
                <a:solidFill>
                  <a:srgbClr val="008000"/>
                </a:solidFill>
                <a:latin typeface="Verdana"/>
              </a:rPr>
              <a:t> called for a renewed focus on agricultur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08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Verdana"/>
              </a:rPr>
              <a:t>IFPRI </a:t>
            </a:r>
            <a:r>
              <a:rPr b="0" lang="en-GB" sz="2000" spc="-1" strike="noStrike">
                <a:solidFill>
                  <a:srgbClr val="008000"/>
                </a:solidFill>
                <a:latin typeface="Verdana"/>
              </a:rPr>
              <a:t>8-point plan: </a:t>
            </a:r>
            <a:r>
              <a:rPr b="0" lang="en-GB" sz="1800" spc="-1" strike="noStrike">
                <a:solidFill>
                  <a:srgbClr val="008000"/>
                </a:solidFill>
                <a:latin typeface="Verdana"/>
              </a:rPr>
              <a:t>expand relief, end export bans, fast impact food production, change biofuel policies, market calming measures, social protection, agric. investment, complete Doh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8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Verdana"/>
              </a:rPr>
              <a:t>UN/IFI</a:t>
            </a:r>
            <a:r>
              <a:rPr b="0" lang="en-GB" sz="2000" spc="-1" strike="noStrike">
                <a:solidFill>
                  <a:srgbClr val="008000"/>
                </a:solidFill>
                <a:latin typeface="Verdana"/>
              </a:rPr>
              <a:t> High Level Task Force formed - established "Comprehensive Framework for Action” (CFA) in July ‘08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008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8000"/>
                </a:solidFill>
                <a:latin typeface="Verdana"/>
              </a:rPr>
              <a:t>meeting immediate needs of the vulnerabl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008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8000"/>
                </a:solidFill>
                <a:latin typeface="Verdana"/>
              </a:rPr>
              <a:t>building longer term resilience……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008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008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8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8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Slide Number Placeholder 3"/>
          <p:cNvSpPr/>
          <p:nvPr/>
        </p:nvSpPr>
        <p:spPr>
          <a:xfrm>
            <a:off x="685800" y="6397560"/>
            <a:ext cx="19051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3A8DD-007D-453F-9B1B-297C70A306AE}" type="slidenum">
              <a:rPr b="0" lang="en-US" sz="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539280"/>
            <a:ext cx="777384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05a67"/>
                </a:solidFill>
                <a:latin typeface="Verdana"/>
              </a:rPr>
              <a:t>Comprehensive Framework for Action – objectives &amp; outcomes</a:t>
            </a:r>
            <a:endParaRPr b="1" lang="en-US" sz="2400" spc="-1" strike="noStrike">
              <a:solidFill>
                <a:srgbClr val="405a67"/>
              </a:solidFill>
              <a:latin typeface="Verdana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685800" y="6397560"/>
            <a:ext cx="19051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37546-3FFE-44B0-913F-1FE0EAD0224C}" type="slidenum">
              <a:rPr b="0" lang="en-US" sz="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6" name="Picture 2" descr=""/>
          <p:cNvPicPr/>
          <p:nvPr/>
        </p:nvPicPr>
        <p:blipFill>
          <a:blip r:embed="rId1"/>
          <a:stretch/>
        </p:blipFill>
        <p:spPr>
          <a:xfrm>
            <a:off x="689040" y="1600200"/>
            <a:ext cx="776772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42600" y="539640"/>
            <a:ext cx="8001000" cy="9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05a67"/>
                </a:solidFill>
                <a:latin typeface="Verdana"/>
              </a:rPr>
              <a:t>Crisis over? </a:t>
            </a:r>
            <a:endParaRPr b="1" lang="en-US" sz="2400" spc="-1" strike="noStrike">
              <a:solidFill>
                <a:srgbClr val="405a67"/>
              </a:solidFill>
              <a:latin typeface="Verdana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642960" y="1071720"/>
            <a:ext cx="3929040" cy="50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8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8000"/>
                </a:solidFill>
                <a:latin typeface="Verdana"/>
              </a:rPr>
              <a:t>Widespread view that high food prices were here to st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8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8000"/>
                </a:solidFill>
                <a:latin typeface="Verdana"/>
              </a:rPr>
              <a:t>…</a:t>
            </a:r>
            <a:r>
              <a:rPr b="0" lang="en-GB" sz="2000" spc="-1" strike="noStrike">
                <a:solidFill>
                  <a:srgbClr val="008000"/>
                </a:solidFill>
                <a:latin typeface="Verdana"/>
              </a:rPr>
              <a:t>yet grain prices falling back sharply since mid-2008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008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8000"/>
                </a:solidFill>
                <a:latin typeface="Verdana"/>
              </a:rPr>
              <a:t>record world harvest with bumper crops in EU, US (maize), SE Asia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008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8000"/>
                </a:solidFill>
                <a:latin typeface="Verdana"/>
              </a:rPr>
              <a:t>…</a:t>
            </a:r>
            <a:r>
              <a:rPr b="0" lang="en-GB" sz="1600" spc="-1" strike="noStrike">
                <a:solidFill>
                  <a:srgbClr val="008000"/>
                </a:solidFill>
                <a:latin typeface="Verdana"/>
              </a:rPr>
              <a:t>partly due to increased plantings in response to high pric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008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8000"/>
                </a:solidFill>
                <a:latin typeface="Verdana"/>
              </a:rPr>
              <a:t>curbing of biofuel use hastened by dramatic oil price declin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008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8000"/>
                </a:solidFill>
                <a:latin typeface="Verdana"/>
              </a:rPr>
              <a:t>8% rise in cereal stocks levels expected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Slide Number Placeholder 3"/>
          <p:cNvSpPr/>
          <p:nvPr/>
        </p:nvSpPr>
        <p:spPr>
          <a:xfrm>
            <a:off x="685800" y="6397560"/>
            <a:ext cx="19051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56F1C-587C-45D5-9A50-717A0B53B0CD}" type="slidenum">
              <a:rPr b="0" lang="en-US" sz="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0" name="Group 8"/>
          <p:cNvGrpSpPr/>
          <p:nvPr/>
        </p:nvGrpSpPr>
        <p:grpSpPr>
          <a:xfrm>
            <a:off x="4643280" y="3786120"/>
            <a:ext cx="3857760" cy="2265480"/>
            <a:chOff x="4643280" y="3786120"/>
            <a:chExt cx="3857760" cy="2265480"/>
          </a:xfrm>
        </p:grpSpPr>
        <p:pic>
          <p:nvPicPr>
            <p:cNvPr id="111" name="Picture 2" descr="http://markets.ft.com/cgi-bin/upload.dll/file.png?z0185100azfa9d533bc29d4c909cc0311dedc1501c"/>
            <p:cNvPicPr/>
            <p:nvPr/>
          </p:nvPicPr>
          <p:blipFill>
            <a:blip r:embed="rId1"/>
            <a:stretch/>
          </p:blipFill>
          <p:spPr>
            <a:xfrm>
              <a:off x="4643280" y="3786120"/>
              <a:ext cx="3857760" cy="2265480"/>
            </a:xfrm>
            <a:prstGeom prst="rect">
              <a:avLst/>
            </a:prstGeom>
            <a:ln w="9360">
              <a:solidFill>
                <a:srgbClr val="008000"/>
              </a:solidFill>
              <a:miter/>
            </a:ln>
          </p:spPr>
        </p:pic>
        <p:sp>
          <p:nvSpPr>
            <p:cNvPr id="112" name="TextBox 6"/>
            <p:cNvSpPr/>
            <p:nvPr/>
          </p:nvSpPr>
          <p:spPr>
            <a:xfrm>
              <a:off x="5214600" y="3908160"/>
              <a:ext cx="32148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imes New Roman"/>
                </a:rPr>
                <a:t>Crude oil price, Jan’07 – Oct’08  (US$/barrel)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Times New Roman"/>
                </a:rPr>
                <a:t>Source: www.markets.ft.com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3" name="Group 9"/>
          <p:cNvGrpSpPr/>
          <p:nvPr/>
        </p:nvGrpSpPr>
        <p:grpSpPr>
          <a:xfrm>
            <a:off x="4643280" y="928800"/>
            <a:ext cx="3857760" cy="2786040"/>
            <a:chOff x="4643280" y="928800"/>
            <a:chExt cx="3857760" cy="2786040"/>
          </a:xfrm>
        </p:grpSpPr>
        <p:pic>
          <p:nvPicPr>
            <p:cNvPr id="114" name="Picture 2" descr="http://www.fao.org/docrep/011/ai473e/ai473e01.jpg"/>
            <p:cNvPicPr/>
            <p:nvPr/>
          </p:nvPicPr>
          <p:blipFill>
            <a:blip r:embed="rId2"/>
            <a:stretch/>
          </p:blipFill>
          <p:spPr>
            <a:xfrm>
              <a:off x="4643280" y="928800"/>
              <a:ext cx="3857760" cy="278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TextBox 7"/>
            <p:cNvSpPr/>
            <p:nvPr/>
          </p:nvSpPr>
          <p:spPr>
            <a:xfrm>
              <a:off x="7215120" y="1285920"/>
              <a:ext cx="12859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Times New Roman"/>
                </a:rPr>
                <a:t>Source: FAO-GIEWS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356760"/>
            <a:ext cx="7773840" cy="7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05a67"/>
                </a:solidFill>
                <a:latin typeface="Verdana"/>
              </a:rPr>
              <a:t>Food price trends in southern Africa</a:t>
            </a:r>
            <a:endParaRPr b="1" lang="en-US" sz="2400" spc="-1" strike="noStrike">
              <a:solidFill>
                <a:srgbClr val="405a67"/>
              </a:solidFill>
              <a:latin typeface="Verdana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99680" y="1233000"/>
            <a:ext cx="3429000" cy="441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8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8000"/>
                </a:solidFill>
                <a:latin typeface="Verdana"/>
              </a:rPr>
              <a:t>Food prices also rose in southern Afric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47640" indent="-285840">
              <a:spcBef>
                <a:spcPts val="400"/>
              </a:spcBef>
              <a:buClr>
                <a:srgbClr val="008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8000"/>
                </a:solidFill>
                <a:latin typeface="Verdana"/>
              </a:rPr>
              <a:t>RSA maize &amp; wheat prices climb with poor 2005/06 &amp; 2006/07 harvest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47640" indent="-285840">
              <a:spcBef>
                <a:spcPts val="400"/>
              </a:spcBef>
              <a:buClr>
                <a:srgbClr val="008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8000"/>
                </a:solidFill>
                <a:latin typeface="Verdana"/>
              </a:rPr>
              <a:t>… </a:t>
            </a:r>
            <a:r>
              <a:rPr b="0" lang="en-GB" sz="1600" spc="-1" strike="noStrike">
                <a:solidFill>
                  <a:srgbClr val="008000"/>
                </a:solidFill>
                <a:latin typeface="Verdana"/>
              </a:rPr>
              <a:t>affecting Lesotho, Namibia &amp; Swaziland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47640" indent="-285840">
              <a:spcBef>
                <a:spcPts val="400"/>
              </a:spcBef>
              <a:buClr>
                <a:srgbClr val="008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8000"/>
                </a:solidFill>
                <a:latin typeface="Verdana"/>
              </a:rPr>
              <a:t>Malawi, Zambia: domestic factors more important (esp. seasonal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47640" indent="-285840">
              <a:spcBef>
                <a:spcPts val="400"/>
              </a:spcBef>
              <a:buClr>
                <a:srgbClr val="008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8000"/>
                </a:solidFill>
                <a:latin typeface="Verdana"/>
              </a:rPr>
              <a:t>Tanzania, Mozambique: marked urban price ris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8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8000"/>
                </a:solidFill>
                <a:latin typeface="Verdana"/>
              </a:rPr>
              <a:t>But price rises less significant than globally or in east Africa/Hor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47640" indent="-285840">
              <a:spcBef>
                <a:spcPts val="499"/>
              </a:spcBef>
              <a:buClr>
                <a:srgbClr val="008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685800" y="6397560"/>
            <a:ext cx="19051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62524-57FA-488A-9DF2-C19B107836F8}" type="slidenum">
              <a:rPr b="0" lang="en-US" sz="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9" name="Group 13" descr=""/>
          <p:cNvPicPr/>
          <p:nvPr/>
        </p:nvPicPr>
        <p:blipFill>
          <a:blip r:embed="rId1"/>
          <a:stretch/>
        </p:blipFill>
        <p:spPr>
          <a:xfrm>
            <a:off x="4011480" y="1420920"/>
            <a:ext cx="4851360" cy="39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lide Number Placeholder 3"/>
          <p:cNvSpPr/>
          <p:nvPr/>
        </p:nvSpPr>
        <p:spPr>
          <a:xfrm>
            <a:off x="685800" y="6397560"/>
            <a:ext cx="19051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676E7-646F-40B8-B680-E5AC1E3A0F1D}" type="slidenum">
              <a:rPr b="0" lang="en-US" sz="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1" name="Picture 7" descr=""/>
          <p:cNvPicPr/>
          <p:nvPr/>
        </p:nvPicPr>
        <p:blipFill>
          <a:blip r:embed="rId1"/>
          <a:stretch/>
        </p:blipFill>
        <p:spPr>
          <a:xfrm>
            <a:off x="4714920" y="1643040"/>
            <a:ext cx="3857760" cy="2766960"/>
          </a:xfrm>
          <a:prstGeom prst="rect">
            <a:avLst/>
          </a:prstGeom>
          <a:ln w="9360">
            <a:solidFill>
              <a:srgbClr val="008000"/>
            </a:solidFill>
            <a:miter/>
          </a:ln>
        </p:spPr>
      </p:pic>
      <p:sp>
        <p:nvSpPr>
          <p:cNvPr id="122" name=""/>
          <p:cNvSpPr txBox="1"/>
          <p:nvPr/>
        </p:nvSpPr>
        <p:spPr>
          <a:xfrm>
            <a:off x="642960" y="1357200"/>
            <a:ext cx="4000320" cy="150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8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8000"/>
                </a:solidFill>
                <a:latin typeface="Verdana"/>
              </a:rPr>
              <a:t>So far, few signs that food prices are falling in the region…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356760"/>
            <a:ext cx="7773840" cy="7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05a67"/>
                </a:solidFill>
                <a:latin typeface="Verdana"/>
              </a:rPr>
              <a:t>Food price trends in southern Africa</a:t>
            </a:r>
            <a:endParaRPr b="1" lang="en-US" sz="2400" spc="-1" strike="noStrike">
              <a:solidFill>
                <a:srgbClr val="405a67"/>
              </a:solidFill>
              <a:latin typeface="Verdana"/>
            </a:endParaRPr>
          </a:p>
        </p:txBody>
      </p:sp>
      <p:sp>
        <p:nvSpPr>
          <p:cNvPr id="124" name="Content Placeholder 2"/>
          <p:cNvSpPr/>
          <p:nvPr/>
        </p:nvSpPr>
        <p:spPr>
          <a:xfrm>
            <a:off x="5000760" y="4786200"/>
            <a:ext cx="371448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2509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8000"/>
                </a:solidFill>
                <a:latin typeface="Verdana"/>
              </a:rPr>
              <a:t>…</a:t>
            </a:r>
            <a:r>
              <a:rPr b="0" lang="en-GB" sz="2000" spc="-1" strike="noStrike">
                <a:solidFill>
                  <a:srgbClr val="008000"/>
                </a:solidFill>
                <a:latin typeface="Verdana"/>
              </a:rPr>
              <a:t>with partial exception of RSA where 2008 harvests were goo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5" name="Group 13"/>
          <p:cNvGrpSpPr/>
          <p:nvPr/>
        </p:nvGrpSpPr>
        <p:grpSpPr>
          <a:xfrm>
            <a:off x="642960" y="2571840"/>
            <a:ext cx="3857760" cy="3214440"/>
            <a:chOff x="642960" y="2571840"/>
            <a:chExt cx="3857760" cy="3214440"/>
          </a:xfrm>
        </p:grpSpPr>
        <p:pic>
          <p:nvPicPr>
            <p:cNvPr id="126" name="Picture 6" descr="1"/>
            <p:cNvPicPr/>
            <p:nvPr/>
          </p:nvPicPr>
          <p:blipFill>
            <a:blip r:embed="rId2"/>
            <a:stretch/>
          </p:blipFill>
          <p:spPr>
            <a:xfrm>
              <a:off x="642960" y="2571840"/>
              <a:ext cx="3857760" cy="321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TextBox 11"/>
            <p:cNvSpPr/>
            <p:nvPr/>
          </p:nvSpPr>
          <p:spPr>
            <a:xfrm>
              <a:off x="3143520" y="3214800"/>
              <a:ext cx="12859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Times New Roman"/>
                </a:rPr>
                <a:t>Source: FAO-GIEWS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539280"/>
            <a:ext cx="777384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05a67"/>
                </a:solidFill>
                <a:latin typeface="Verdana"/>
              </a:rPr>
              <a:t>Impacts and responses in southern Africa</a:t>
            </a:r>
            <a:endParaRPr b="1" lang="en-US" sz="2400" spc="-1" strike="noStrike">
              <a:solidFill>
                <a:srgbClr val="405a67"/>
              </a:solidFill>
              <a:latin typeface="Verdana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1214280"/>
            <a:ext cx="7773840" cy="50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8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8000"/>
                </a:solidFill>
                <a:latin typeface="Verdana"/>
              </a:rPr>
              <a:t>A record regional 2008 cereal harvest has helped – though this mainly due to RSA outpu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8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8000"/>
                </a:solidFill>
                <a:latin typeface="Verdana"/>
              </a:rPr>
              <a:t>But for poor market-dependent households, food price rises compounded a ‘perfect storm’ that already exist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008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8000"/>
                </a:solidFill>
                <a:latin typeface="Verdana"/>
              </a:rPr>
              <a:t>deepening poverty and vulnerability to shocks, HIV/AIDS and rising dependency ratios, seasonal food deficits and hunger, lack of access to farm inputs, inadequate social services etc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8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8000"/>
                </a:solidFill>
                <a:latin typeface="Verdana"/>
              </a:rPr>
              <a:t>Throughout Africa, food aid remains the primary respons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8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Verdana"/>
              </a:rPr>
              <a:t>Lesotho</a:t>
            </a:r>
            <a:r>
              <a:rPr b="0" lang="en-GB" sz="2000" spc="-1" strike="noStrike">
                <a:solidFill>
                  <a:srgbClr val="008000"/>
                </a:solidFill>
                <a:latin typeface="Verdan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008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8000"/>
                </a:solidFill>
                <a:latin typeface="Verdana"/>
              </a:rPr>
              <a:t>2008 maize &amp; sorghum harvests much reduced by adverse weathe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008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8000"/>
                </a:solidFill>
                <a:latin typeface="Verdana"/>
              </a:rPr>
              <a:t>food insecurity deepened by food &amp; fuel price rises, esp. in Peri-Urban Livelihood zone, but pension recipient households cushioned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008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8000"/>
                </a:solidFill>
                <a:latin typeface="Verdana"/>
              </a:rPr>
              <a:t>chronic malnutrition/stunting rates high (45-50%) in mountain area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008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8000"/>
                </a:solidFill>
                <a:latin typeface="Verdana"/>
              </a:rPr>
              <a:t>GoL planning a 20% subsidy on maizemeal, beans and milk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008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8000"/>
                </a:solidFill>
                <a:latin typeface="Verdana"/>
              </a:rPr>
              <a:t>WFP plans to expand feeding programmes – 52,000 new beneficiaries in 2008, 110,000 in 2009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008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008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008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8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8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685800" y="6397560"/>
            <a:ext cx="19051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BDF8D-C5A3-436F-B07B-E0AB08A9955F}" type="slidenum">
              <a:rPr b="0" lang="en-US" sz="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4T07:31:47Z</dcterms:created>
  <dc:creator>Philip White</dc:creator>
  <dc:description/>
  <dc:language>en-US</dc:language>
  <cp:lastModifiedBy>Administrator</cp:lastModifiedBy>
  <dcterms:modified xsi:type="dcterms:W3CDTF">2008-11-03T09:04:56Z</dcterms:modified>
  <cp:revision>292</cp:revision>
  <dc:subject/>
  <dc:title>PowerPoint Presentation</dc:title>
</cp:coreProperties>
</file>