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7117-3D47-4B0E-9C73-EE14DB5C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EBDE-09E9-4C22-B107-D7FAF19E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5B5D-5D1A-4ED7-A316-09FF5D57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8D5-F578-497B-A86E-1075784B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3585-1591-452A-BEFD-580E4D72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474A-5700-44BE-AB79-4EDE600D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E24F-284A-47A2-A7CA-D010936F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C302-EB87-419E-8D17-94998F2B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07FC-7677-46CC-8E10-56CE2DB0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D4AD-9285-4BD7-B1AD-345B24DC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7768-7576-41D9-B73A-C05893DC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40C1-CCDC-424F-A969-98B3E066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AF91-0847-42C5-81F3-F4C9D18E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DEB4-10D8-4820-B329-93EAA995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276F-FEA4-497A-A558-1F2DCFF6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E3E1-6F3D-4ECB-BDF2-9F79645C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1BEC-8B3D-419C-8A59-DE3E5826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6587-0331-401F-A052-336D30C1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9FF9-D01F-4EEA-A95B-591329EB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3026-3BE0-4180-89E5-48748919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E56B-8DF0-425E-BD27-7BFCF086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8932-2AF5-450E-B5EA-680D7920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E83D-6D78-454E-B9F9-102EDF42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481F-E019-4E35-8747-7670B71A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" name="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8280360" y="0"/>
            <a:ext cx="863640" cy="6858000"/>
            <a:chOff x="8280360" y="0"/>
            <a:chExt cx="863640" cy="6858000"/>
          </a:xfrm>
        </p:grpSpPr>
        <p:sp>
          <p:nvSpPr>
            <p:cNvPr id="10" name=""/>
            <p:cNvSpPr/>
            <p:nvPr/>
          </p:nvSpPr>
          <p:spPr>
            <a:xfrm>
              <a:off x="87692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" name=""/>
            <p:cNvGrpSpPr/>
            <p:nvPr/>
          </p:nvGrpSpPr>
          <p:grpSpPr>
            <a:xfrm>
              <a:off x="8280360" y="682560"/>
              <a:ext cx="863640" cy="1224000"/>
              <a:chOff x="8280360" y="682560"/>
              <a:chExt cx="863640" cy="1224000"/>
            </a:xfrm>
          </p:grpSpPr>
          <p:sp>
            <p:nvSpPr>
              <p:cNvPr id="12" name=""/>
              <p:cNvSpPr/>
              <p:nvPr/>
            </p:nvSpPr>
            <p:spPr>
              <a:xfrm>
                <a:off x="8280360" y="1619280"/>
                <a:ext cx="86364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280360" y="1150920"/>
                <a:ext cx="86364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280360" y="682560"/>
                <a:ext cx="86364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" name="" descr=""/>
          <p:cNvPicPr/>
          <p:nvPr/>
        </p:nvPicPr>
        <p:blipFill>
          <a:blip r:embed="rId2"/>
          <a:srcRect l="0" t="0" r="0" b="42182"/>
          <a:stretch/>
        </p:blipFill>
        <p:spPr>
          <a:xfrm>
            <a:off x="7257960" y="5897520"/>
            <a:ext cx="1067040" cy="73980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5"/>
          <p:cNvSpPr>
            <a:spLocks noGrp="1"/>
          </p:cNvSpPr>
          <p:nvPr>
            <p:ph type="sldNum" idx="3"/>
          </p:nvPr>
        </p:nvSpPr>
        <p:spPr>
          <a:xfrm>
            <a:off x="8767440" y="6443640"/>
            <a:ext cx="3762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aa1f1d"/>
                </a:solidFill>
                <a:latin typeface="Arial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4460-1F31-4E82-BB58-135F5EFC4FD9}" type="slidenum">
              <a:rPr b="0" lang="en-GB" sz="1000" spc="-1" strike="noStrike">
                <a:solidFill>
                  <a:srgbClr val="aa1f1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307040" y="62272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428400" y="6232680"/>
            <a:ext cx="28954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58" name="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8280360" y="0"/>
            <a:ext cx="863640" cy="6858000"/>
            <a:chOff x="8280360" y="0"/>
            <a:chExt cx="863640" cy="6858000"/>
          </a:xfrm>
        </p:grpSpPr>
        <p:sp>
          <p:nvSpPr>
            <p:cNvPr id="63" name=""/>
            <p:cNvSpPr/>
            <p:nvPr/>
          </p:nvSpPr>
          <p:spPr>
            <a:xfrm>
              <a:off x="87692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8280360" y="682560"/>
              <a:ext cx="863640" cy="1224000"/>
              <a:chOff x="8280360" y="682560"/>
              <a:chExt cx="863640" cy="1224000"/>
            </a:xfrm>
          </p:grpSpPr>
          <p:sp>
            <p:nvSpPr>
              <p:cNvPr id="65" name=""/>
              <p:cNvSpPr/>
              <p:nvPr/>
            </p:nvSpPr>
            <p:spPr>
              <a:xfrm>
                <a:off x="8280360" y="1619280"/>
                <a:ext cx="86364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280360" y="1150920"/>
                <a:ext cx="86364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280360" y="682560"/>
                <a:ext cx="86364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8767440" y="6443640"/>
            <a:ext cx="3762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aa1f1d"/>
                </a:solidFill>
                <a:latin typeface="Arial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786C-F455-411F-A410-684A8B386B1F}" type="slidenum">
              <a:rPr b="0" lang="en-GB" sz="1000" spc="-1" strike="noStrike">
                <a:solidFill>
                  <a:srgbClr val="aa1f1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2536920"/>
            <a:ext cx="7632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aa1f1d"/>
                </a:solidFill>
                <a:latin typeface="Verdana"/>
              </a:rPr>
              <a:t>Elements for an EC response to  soaring food pr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69228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od Security Semina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puto, 3-7 Novem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3120" y="6049800"/>
            <a:ext cx="1595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dceff0"/>
                </a:solidFill>
                <a:latin typeface="Arial"/>
              </a:rPr>
              <a:t>AIDCO - E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18AF-7308-42A9-8A63-54B7196628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a1f1d"/>
                </a:solidFill>
                <a:latin typeface="Verdana"/>
              </a:rPr>
              <a:t>EC response: DEV non-paper</a:t>
            </a:r>
            <a:endParaRPr b="1" lang="en-US" sz="28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49080"/>
            <a:ext cx="72262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poses an EU response strategy with aim to significantly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educe the negative effects of the food price ris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n the poorest consumers in developing countries, while at the same time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couraging a positive supply respons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rom farmers in these countri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hort, medium and long term actions, including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1397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200"/>
              </a:lnSpc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hor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humanitarian response, financing of consumer basic needs, policy dialogu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ts val="1397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200"/>
              </a:lnSpc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um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expansion of safety nets, rapid provision agricultural inpu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ts val="1397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200"/>
              </a:lnSpc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o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agricultural investments, rural infrastructure, sustainable safety nets, risk manage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6DB1-0290-4E5D-9934-1020CAC78A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a1f1d"/>
                </a:solidFill>
                <a:latin typeface="Verdana"/>
              </a:rPr>
              <a:t>Budget Support</a:t>
            </a:r>
            <a:endParaRPr b="1" lang="en-US" sz="28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360" y="1562040"/>
            <a:ext cx="79372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2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dicator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18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2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nditionalities? (with support from EWS-FSI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18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2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rban areas likely to benefit more directly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18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2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dvantag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: speed, ownership and harmonisation, dialogue on priorities, positive impact on balance of payments + tax reduction, although not well targeted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1397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551960" indent="-221400">
              <a:lnSpc>
                <a:spcPts val="2200"/>
              </a:lnSpc>
              <a:buClr>
                <a:srgbClr val="ffffff"/>
              </a:buClr>
              <a:buSzPct val="6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pport positive policy measures, not damaging on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551960" indent="0">
              <a:lnSpc>
                <a:spcPts val="1397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551960" indent="-221400">
              <a:lnSpc>
                <a:spcPts val="2200"/>
              </a:lnSpc>
              <a:buClr>
                <a:srgbClr val="ffffff"/>
              </a:buClr>
              <a:buSzPct val="6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eed for structural reforms (trade, land, inputs supply chain…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551960" indent="0">
              <a:lnSpc>
                <a:spcPts val="1397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551960" indent="-221400">
              <a:lnSpc>
                <a:spcPts val="2200"/>
              </a:lnSpc>
              <a:buClr>
                <a:srgbClr val="ffffff"/>
              </a:buClr>
              <a:buSzPct val="6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crease coherence, e.g. between support to local food products and imports subsid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495360" y="4094280"/>
            <a:ext cx="14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BE" sz="2000" spc="-1" strike="noStrike">
                <a:solidFill>
                  <a:srgbClr val="ffffff"/>
                </a:solidFill>
                <a:latin typeface="Arial"/>
              </a:rPr>
              <a:t>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4A2C-3ADF-44F9-BE6C-9F4496BD93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a1f1d"/>
                </a:solidFill>
                <a:latin typeface="Verdana"/>
              </a:rPr>
              <a:t>Social Transfers</a:t>
            </a:r>
            <a:endParaRPr b="1" lang="en-US" sz="28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82400" y="1600200"/>
            <a:ext cx="740412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Protect, Preserve, Promo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2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Cash for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2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Reverse the three levels for a better linkage with potential increase of agricultural productiv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18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.g. works for land reclamation, refores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ts val="18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argeting most vulnerable groups (part-time work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0C08-F89D-4137-BBF4-8CAE081068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a1f1d"/>
                </a:solidFill>
                <a:latin typeface="Verdana"/>
              </a:rPr>
              <a:t>Agriculture - Rural Development</a:t>
            </a:r>
            <a:endParaRPr b="1" lang="en-US" sz="28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3424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Tailored to national / regional / local nee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2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Focus on countries / regions with real potential for increasing productivity and/or local produ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2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Land tenure and land reclamation issu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2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Need to involve farmers’ organisations</a:t>
            </a:r>
            <a:br>
              <a:rPr sz="2000"/>
            </a:b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(taking into account implementation issues: direct contracting, waivers for crisis situations…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C57A-FEDD-4DB2-9CF4-EEDBA7B426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a1f1d"/>
                </a:solidFill>
                <a:latin typeface="Verdana"/>
              </a:rPr>
              <a:t>Humanitarian Assistance</a:t>
            </a:r>
            <a:endParaRPr b="1" lang="en-US" sz="28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4228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Upfront mobilisation of resour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dditional allocation of € 100 million for food assistance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€ 323 million for 2008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o cover additional costs related to increase in food prices (and transport cost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Working through International Organisations and NG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8A38-E01D-4AB3-8777-A2B0F8C8DC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a1f1d"/>
                </a:solidFill>
                <a:latin typeface="Verdana"/>
              </a:rPr>
              <a:t>Instruments – FSTP 2008</a:t>
            </a:r>
            <a:endParaRPr b="1" lang="en-US" sz="28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2968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599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irst response from Development Co-operation instruments through reallocation of FSTP 2008 AAP funds (€ 50 million) from component 2 to component 4 (LRRD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599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ocated to 12 priority countries (6 ACP and 6 non-ACP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verag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fety nets / social transf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gricultural production meas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ct val="9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CI Committee in July - Commission Decision in Augus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5F82-6152-4A19-B2F9-899C8BE718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a1f1d"/>
                </a:solidFill>
                <a:latin typeface="Verdana"/>
              </a:rPr>
              <a:t>Instruments – EDF 10 B-Envelope</a:t>
            </a:r>
            <a:endParaRPr b="1" lang="en-US" sz="28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74280"/>
            <a:ext cx="742968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p to Euro 200 million additional allocation from the reser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30 beneficiary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ighly vulnera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it by food price increases (Balance of Payments impa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inly used for “fiscal compensation” and urban safety ne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dget support or project support (range of possible ac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DF Committee of 24 September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ommission Decision in the course of Octob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569B-D3C8-43BB-BBAF-529DE1F8F2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a1f1d"/>
                </a:solidFill>
                <a:latin typeface="Verdana"/>
              </a:rPr>
              <a:t>Instruments – Food Facility?</a:t>
            </a:r>
            <a:endParaRPr b="1" lang="en-US" sz="28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49080"/>
            <a:ext cx="71755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C proposal for a new Regulation, adopted by Commission on 18 Jul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18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o-decision procedu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18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Parliament: MEP Mitchell Report with amendments voted on 7 October - final version on 14 Octob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18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iscussions ongoing in Council (CODEV, COMBUD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18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Main issue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ts val="2999"/>
              </a:lnSpc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udget Head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ts val="2398"/>
              </a:lnSpc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itolo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ts val="2398"/>
              </a:lnSpc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lementing Organisa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ts val="2398"/>
              </a:lnSpc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A07B-3C75-4775-B43C-6206B9C76E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a1f1d"/>
                </a:solidFill>
                <a:latin typeface="Verdana"/>
              </a:rPr>
              <a:t>Food Facility – Aim and Features</a:t>
            </a:r>
            <a:endParaRPr b="1" lang="en-US" sz="28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49080"/>
            <a:ext cx="71755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8920" indent="-17892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C proposal aims at providing 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pid and direct respon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the high food prices in developing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8920" indent="0">
              <a:lnSpc>
                <a:spcPts val="18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8920" indent="-17892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rt and mid-ter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n-between emergency and long-term development coope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8920" indent="0">
              <a:lnSpc>
                <a:spcPts val="18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8920" indent="-17892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-bou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operational for two years (2009 and 2010), using 2008 and 2009 budget commitm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8920" indent="0">
              <a:lnSpc>
                <a:spcPts val="18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8920" indent="-17892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 on agricultural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ly respon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in some countries safety nets (preferably maintaining productive capaciti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8920" indent="0">
              <a:lnSpc>
                <a:spcPts val="18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8920" indent="-17892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reements with International or Regional Organis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8920" indent="0">
              <a:lnSpc>
                <a:spcPts val="18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8920" indent="-17892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bill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8920" indent="0">
              <a:lnSpc>
                <a:spcPts val="18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5D56-FBAA-44AC-AB5F-C8BB0A6501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9800" y="477360"/>
            <a:ext cx="708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a1f1d"/>
                </a:solidFill>
                <a:latin typeface="Verdana"/>
              </a:rPr>
              <a:t>Proposed amendments to</a:t>
            </a:r>
            <a:br>
              <a:rPr sz="2800"/>
            </a:br>
            <a:r>
              <a:rPr b="1" lang="fr-FR" sz="2800" spc="-1" strike="noStrike">
                <a:solidFill>
                  <a:srgbClr val="aa1f1d"/>
                </a:solidFill>
                <a:latin typeface="Verdana"/>
              </a:rPr>
              <a:t>Food Facility</a:t>
            </a:r>
            <a:endParaRPr b="1" lang="en-US" sz="28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92160"/>
            <a:ext cx="7785000" cy="37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71720" indent="-171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Heading 2 to be replaced by Heading 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1720" indent="0">
              <a:lnSpc>
                <a:spcPts val="18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1720" indent="-171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Increasing implementation time (3 years?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1720" indent="0">
              <a:lnSpc>
                <a:spcPts val="18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1720" indent="-171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Enlarged list of eligible organisations and mechanis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1720" indent="0">
              <a:lnSpc>
                <a:spcPts val="18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1720" indent="-171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Widening the scope to other activities (micro-credit…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1720" indent="0">
              <a:lnSpc>
                <a:spcPts val="18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1720" indent="-171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Is there a need to re-assess needs (opportunities / risks) and to re-identify projects / programmes accordingly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1720" indent="0">
              <a:lnSpc>
                <a:spcPts val="18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1720" indent="-171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Plan B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DB92-653A-4F9D-AEB6-D9E5D37190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6840" y="1379160"/>
            <a:ext cx="68072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bbe0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be0e3"/>
                </a:solidFill>
                <a:latin typeface="Verdana"/>
              </a:rPr>
              <a:t>Sett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od Prices Developm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litical Backgroun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ts val="22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bbe0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be0e3"/>
                </a:solidFill>
                <a:latin typeface="Verdana"/>
              </a:rPr>
              <a:t>EC Respon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munication COM (2008) 321 - 20.05.2008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veloping Countries: DG DEV Non-Pap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Thematic are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ts val="22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bbe0e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be0e3"/>
                </a:solidFill>
                <a:latin typeface="Verdana"/>
              </a:rPr>
              <a:t>Response Instrum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umanitarian Instru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ST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DF 10 – B-envelop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od Facil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260280"/>
            <a:ext cx="5918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a1f1d"/>
                </a:solidFill>
                <a:latin typeface="Verdana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FC2-E7AE-487C-9E4B-6C720FA712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9800" y="477360"/>
            <a:ext cx="708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a1f1d"/>
                </a:solidFill>
                <a:latin typeface="Verdana"/>
              </a:rPr>
              <a:t>Food Facility</a:t>
            </a:r>
            <a:br>
              <a:rPr sz="2800"/>
            </a:br>
            <a:r>
              <a:rPr b="1" lang="fr-FR" sz="2800" spc="-1" strike="noStrike">
                <a:solidFill>
                  <a:srgbClr val="aa1f1d"/>
                </a:solidFill>
                <a:latin typeface="Verdana"/>
              </a:rPr>
              <a:t>Indicative Time Schedule</a:t>
            </a:r>
            <a:endParaRPr b="1" lang="en-US" sz="28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91800"/>
            <a:ext cx="723888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444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ssumes successful discussions in EP-Council-COM in weeks to co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 November: EP-Council-COM tripartite negoti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18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tember - December: technical preparations (task forc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18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ember: adoption of Regulation by co-legislators, entry into force Regul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18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 December: implementing Commission Decis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2009: contracting and start implementation of first meas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590400" y="1925640"/>
            <a:ext cx="649440" cy="431640"/>
          </a:xfrm>
          <a:prstGeom prst="rightArrow">
            <a:avLst>
              <a:gd name="adj1" fmla="val 50000"/>
              <a:gd name="adj2" fmla="val 376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0A25-16BB-4C9A-A4AB-63E09BB063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1557000"/>
            <a:ext cx="765828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9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here has been a significant increase in commodities prices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...although international prices of wheat are now going down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(+/- acute for different products - imported / local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uld be positive for some categories of rural population (depending on their role in the production / trade chai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enerally negative impact for urban areas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(recent uprisings not always linked only to food pric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mplications of this « silent Tsunami » not well known (insufficiently monitored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60280"/>
            <a:ext cx="5753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a1f1d"/>
                </a:solidFill>
                <a:latin typeface="Verdana"/>
              </a:rPr>
              <a:t>Food Prices Develop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9D65-B0C2-41BF-9794-6D8D144BCE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516720" y="189000"/>
            <a:ext cx="23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Times New Roman"/>
              </a:rPr>
              <a:t>Source: FAO, 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570E-644D-4CE9-876E-125E5CF94E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160" y="6540480"/>
            <a:ext cx="17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Source: FAO,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E332-4C47-4FAF-B155-F8B41CB005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60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07960" y="92700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Arial"/>
              </a:rPr>
              <a:t>Chicago Wheat prices July 2006 -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19840" y="4572000"/>
            <a:ext cx="179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Arial"/>
              </a:rPr>
              <a:t>Closing 31.10.08:</a:t>
            </a:r>
            <a:br>
              <a:rPr sz="1400"/>
            </a:br>
            <a:r>
              <a:rPr b="1" lang="fr-BE" sz="1400" spc="-1" strike="noStrike">
                <a:solidFill>
                  <a:srgbClr val="000000"/>
                </a:solidFill>
                <a:latin typeface="Arial"/>
              </a:rPr>
              <a:t>530.50 US$/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7724-F20D-49D1-B475-5FBABB965A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65786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 HLTF on Food Prices</a:t>
            </a:r>
            <a:br>
              <a:rPr sz="24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or: John Holmes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puty Coordinator: David Nabarr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O Conference 3-5 Ju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Commission’s Communication 20 M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P Resolution 22 M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ncil Conclusions 20 Ju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8 Leaders 7-9 July Hokkai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 GA, 22-25 Se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260280"/>
            <a:ext cx="5753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a1f1d"/>
                </a:solidFill>
                <a:latin typeface="Verdana"/>
              </a:rPr>
              <a:t>Political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1240-36A3-46AE-8732-BAEB8B5440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a1f1d"/>
                </a:solidFill>
                <a:latin typeface="Verdana"/>
              </a:rPr>
              <a:t>Main elements for a response</a:t>
            </a:r>
            <a:endParaRPr b="1" lang="en-US" sz="28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74280"/>
            <a:ext cx="75438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9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Response should be tailored to country nee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19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19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Are we talking about a crisis or a trend 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19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19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hould we target urban or rural areas 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19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Communication 321 and EC non-paper identified main directions for actio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599"/>
              </a:lnSpc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hort, medium, long te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599"/>
              </a:lnSpc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Humanitarian assista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599"/>
              </a:lnSpc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udget suppor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599"/>
              </a:lnSpc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ocial transf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599"/>
              </a:lnSpc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griculture /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19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19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Further studies: speculation, biofue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D9C9-2181-49CC-9323-A46134EC6D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a1f1d"/>
                </a:solidFill>
                <a:latin typeface="Verdana"/>
              </a:rPr>
              <a:t>EC response: COM 321</a:t>
            </a:r>
            <a:endParaRPr b="1" lang="en-US" sz="28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36840"/>
            <a:ext cx="754380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8920" indent="-178920">
              <a:lnSpc>
                <a:spcPts val="23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Tackling the challenge of rising food prices. Directions for EU action’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89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8920" indent="-178920">
              <a:lnSpc>
                <a:spcPct val="8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Causes, prospects and impacts (EU and global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89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8920" indent="-178920">
              <a:lnSpc>
                <a:spcPct val="8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Elements for EU respons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ions to mitigate the effects of price increases in the short-medium term (intra-EU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ions to enhance agricultural supply in the long term (intra-EU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ts val="1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ions to address the crisis at international level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lnSpc>
                <a:spcPts val="2599"/>
              </a:lnSpc>
              <a:buClr>
                <a:srgbClr val="ffffff"/>
              </a:buClr>
              <a:buSzPct val="6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TO DDA conclu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lnSpc>
                <a:spcPts val="2599"/>
              </a:lnSpc>
              <a:buClr>
                <a:srgbClr val="ffffff"/>
              </a:buClr>
              <a:buSzPct val="6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cale up humanitarian contribu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lnSpc>
                <a:spcPts val="2599"/>
              </a:lnSpc>
              <a:buClr>
                <a:srgbClr val="ffffff"/>
              </a:buClr>
              <a:buSzPct val="6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viding development suppor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DFFA-1FDB-49CB-AD8E-AFD5F1E617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0:28:12Z</dcterms:created>
  <dc:creator>user</dc:creator>
  <dc:description/>
  <dc:language>en-US</dc:language>
  <cp:lastModifiedBy>aidcoadmin</cp:lastModifiedBy>
  <dcterms:modified xsi:type="dcterms:W3CDTF">2008-11-04T12:34:43Z</dcterms:modified>
  <cp:revision>18</cp:revision>
  <dc:subject/>
  <dc:title>Diapositive 1</dc:title>
</cp:coreProperties>
</file>