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354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35080" y="0"/>
            <a:ext cx="293508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116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05720"/>
            <a:ext cx="2935440" cy="495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35080" y="9405720"/>
            <a:ext cx="2935080" cy="495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FA46A-11B2-4A6A-BE68-5B92D3FD5E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911160" y="743040"/>
            <a:ext cx="4951440" cy="3713040"/>
          </a:xfrm>
          <a:prstGeom prst="rect">
            <a:avLst/>
          </a:prstGeom>
          <a:ln w="0">
            <a:noFill/>
          </a:ln>
        </p:spPr>
      </p:sp>
      <p:sp>
        <p:nvSpPr>
          <p:cNvPr id="72"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lcome to all of you. I notice that the room is full, sorry if you sacrified your lunch cause of us. I also notice that women are overepresented, that will again support a cliché that women are more concerned by social issues, maybe they are more encline to make a meal ju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 remenber one day we organised a seminar in Ukraine between the Ministry of Social protection of Ukraine and Azerbaijan. All the civil servant from Ukraine were female when all the civil servant from Azerbaijan were male. So there is no social atavism at least a cultural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external cooperation infopoint is a contact point between Europaid and external participants and a place for dialogue on what the AIDCO as an operational directorate is working on. I recognize some familiar faces from colleagues from different other un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y name is Philippe Bertrand, I am working for the unit E6 Natural resources and in particular in the Food Security related areas including social protection and budgetary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one hour infopoint conference follows a 4 days seminar which has been held in Brussels on the same topic last month organized by our unit AIDCO E6. Title was: </a:t>
            </a:r>
            <a:r>
              <a:rPr b="0" lang="fr-BE" sz="800" spc="-1" strike="noStrike">
                <a:solidFill>
                  <a:srgbClr val="ffff00"/>
                </a:solidFill>
                <a:latin typeface="Arial"/>
              </a:rPr>
              <a:t>Entitlement and Access to Food : systems of social transfers to fight extreme poverty</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was the first ever seminar devoted to Access to food and social transfers covering different programmes from basic cash transfer to complex reform of social assistance. More than 20 Delegations of the EC attended to the semi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urpose of this seminar was to better understand the logic behind the idea of social redistribution through the component Access to Food and precise the modalities of its implementation in sound programme/budgetary based approach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911160" y="743040"/>
            <a:ext cx="4951440" cy="3713040"/>
          </a:xfrm>
          <a:prstGeom prst="rect">
            <a:avLst/>
          </a:prstGeom>
          <a:ln w="0">
            <a:noFill/>
          </a:ln>
        </p:spPr>
      </p:sp>
      <p:sp>
        <p:nvSpPr>
          <p:cNvPr id="74"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One hour, including discussion, is short to cover such an area. We haven’t the pretension to be exhaustive and I will focus on two main poi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Rehabilitate Access to Food and promote social transfers approach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time had come to rehabilitate access to food as part of a strategy which appropriately balances availability, access and use according to </a:t>
            </a:r>
            <a:r>
              <a:rPr b="0" lang="fr-FR" sz="1200" spc="-1" strike="noStrike">
                <a:solidFill>
                  <a:srgbClr val="000000"/>
                </a:solidFill>
                <a:latin typeface="Arial"/>
              </a:rPr>
              <a:t>Council Regulation (EC) No. 1292/96 which defines the current legal framework of the European Commission’s food security program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ccess to food is a pillar of Food Security which an important component but which has been left out from the Food Security Strategy last years. It is not reflected within the Food Security Thematic Programme The idea is rehabilitate this approach focusing on the demand side pespective and household income level of interven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n important part of the poorest household budget is devoted to food b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2. Effectiveness of social transfers? Sometimes social transfers is controversial. There is a misconception that it is bad for business and its affordability and cost effectiveness are questionn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3. How to implement it? EC and Bengladesh and Ethiopia but also transition countries (Kyrgyzstan, Georgia, Armenia, Azerbaijan, tajikistan, Moldova,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911160" y="743040"/>
            <a:ext cx="4951440" cy="3713040"/>
          </a:xfrm>
          <a:prstGeom prst="rect">
            <a:avLst/>
          </a:prstGeom>
          <a:ln w="0">
            <a:noFill/>
          </a:ln>
        </p:spPr>
      </p:sp>
      <p:sp>
        <p:nvSpPr>
          <p:cNvPr id="76" name="PlaceHolder 2"/>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Over the last two decades, however, the concept of social transfers has evolved from a protective mechanism for use in short-term emergencies to an instrument that can be used for promoting the reduction of poverty. There is a clear evolution in the definition of the WB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0CF48-24A0-477B-A128-8EAA8361E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C94A3-28ED-48C1-9F95-AE26323BD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5603D-1D6D-4D39-A384-C7F680F67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167B6-F4C5-4427-B14D-6D2C6DDC6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AC7F1-1081-4AFC-BD15-F87264832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76185-87D8-4DA4-800E-142F71125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2D4BA-B602-44F4-B334-473BD3EC4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9B832-A20A-45CE-91E2-477613EDC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A58BB-C147-476F-B0F3-12591114F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75C6C-D088-4C98-B9B5-799BCF357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BC1D5-E753-4B39-823B-4AEFC4199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F1DD3-7B40-4FD9-8572-E93CB9ACF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E933-AC9C-4B25-B4B0-B45331F53D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49" name=""/>
          <p:cNvGrpSpPr/>
          <p:nvPr/>
        </p:nvGrpSpPr>
        <p:grpSpPr>
          <a:xfrm>
            <a:off x="0" y="0"/>
            <a:ext cx="9143640" cy="6858000"/>
            <a:chOff x="0" y="0"/>
            <a:chExt cx="9143640" cy="6858000"/>
          </a:xfrm>
        </p:grpSpPr>
        <p:grpSp>
          <p:nvGrpSpPr>
            <p:cNvPr id="50" name=""/>
            <p:cNvGrpSpPr/>
            <p:nvPr/>
          </p:nvGrpSpPr>
          <p:grpSpPr>
            <a:xfrm>
              <a:off x="7918560" y="0"/>
              <a:ext cx="1225080" cy="6858000"/>
              <a:chOff x="7918560" y="0"/>
              <a:chExt cx="1225080" cy="6858000"/>
            </a:xfrm>
          </p:grpSpPr>
          <p:grpSp>
            <p:nvGrpSpPr>
              <p:cNvPr id="51" name=""/>
              <p:cNvGrpSpPr/>
              <p:nvPr/>
            </p:nvGrpSpPr>
            <p:grpSpPr>
              <a:xfrm>
                <a:off x="8305560" y="0"/>
                <a:ext cx="838080" cy="6858000"/>
                <a:chOff x="8305560" y="0"/>
                <a:chExt cx="838080" cy="6858000"/>
              </a:xfrm>
            </p:grpSpPr>
            <p:sp>
              <p:nvSpPr>
                <p:cNvPr id="52" name=""/>
                <p:cNvSpPr/>
                <p:nvPr/>
              </p:nvSpPr>
              <p:spPr>
                <a:xfrm>
                  <a:off x="8776800" y="0"/>
                  <a:ext cx="360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1"/>
                <a:stretch/>
              </p:blipFill>
              <p:spPr>
                <a:xfrm>
                  <a:off x="8305560" y="701640"/>
                  <a:ext cx="838080" cy="1206360"/>
                </a:xfrm>
                <a:prstGeom prst="rect">
                  <a:avLst/>
                </a:prstGeom>
                <a:ln w="0">
                  <a:noFill/>
                </a:ln>
              </p:spPr>
            </p:pic>
          </p:grpSp>
          <p:pic>
            <p:nvPicPr>
              <p:cNvPr id="54" name="" descr=""/>
              <p:cNvPicPr/>
              <p:nvPr/>
            </p:nvPicPr>
            <p:blipFill>
              <a:blip r:embed="rId2"/>
              <a:stretch/>
            </p:blipFill>
            <p:spPr>
              <a:xfrm>
                <a:off x="7918560" y="6477120"/>
                <a:ext cx="733320" cy="172800"/>
              </a:xfrm>
              <a:prstGeom prst="rect">
                <a:avLst/>
              </a:prstGeom>
              <a:ln w="0">
                <a:noFill/>
              </a:ln>
            </p:spPr>
          </p:pic>
        </p:grpSp>
        <p:pic>
          <p:nvPicPr>
            <p:cNvPr id="55" name="" descr=""/>
            <p:cNvPicPr/>
            <p:nvPr/>
          </p:nvPicPr>
          <p:blipFill>
            <a:blip r:embed="rId3"/>
            <a:stretch/>
          </p:blipFill>
          <p:spPr>
            <a:xfrm>
              <a:off x="0" y="0"/>
              <a:ext cx="1309680" cy="1581120"/>
            </a:xfrm>
            <a:prstGeom prst="rect">
              <a:avLst/>
            </a:prstGeom>
            <a:ln w="0">
              <a:noFill/>
            </a:ln>
          </p:spPr>
        </p:pic>
      </p:grpSp>
      <p:sp>
        <p:nvSpPr>
          <p:cNvPr id="56" name=""/>
          <p:cNvSpPr/>
          <p:nvPr/>
        </p:nvSpPr>
        <p:spPr>
          <a:xfrm>
            <a:off x="3059280" y="5373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763640" y="1989000"/>
            <a:ext cx="500400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Objectives of the semin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Arial"/>
              </a:rPr>
              <a:t>Philippe Bertran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Arial"/>
              </a:rPr>
              <a:t>EC AIDCO E6</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1692360" y="404640"/>
            <a:ext cx="5327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Arial"/>
              </a:rPr>
              <a:t>Regional Food Security Semina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00"/>
                </a:solidFill>
                <a:latin typeface="Arial"/>
              </a:rPr>
              <a:t>Dhaka 2009</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Europaid</a:t>
            </a:r>
            <a:br>
              <a:rPr sz="3200"/>
            </a:br>
            <a:r>
              <a:rPr b="0" lang="fr-BE" sz="3200" spc="-1" strike="noStrike">
                <a:solidFill>
                  <a:srgbClr val="ffff00"/>
                </a:solidFill>
                <a:latin typeface="Arial"/>
              </a:rPr>
              <a:t>Operational Directorate E: Quality Support</a:t>
            </a:r>
            <a:r>
              <a:rPr b="0" lang="fr-BE" sz="3600" spc="-1" strike="noStrike">
                <a:solidFill>
                  <a:srgbClr val="ffff00"/>
                </a:solidFill>
                <a:latin typeface="Arial"/>
              </a:rPr>
              <a:t> </a:t>
            </a:r>
            <a:endParaRPr b="0" lang="en-US" sz="36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Operational guidance: Concept note, Reference documents, Guidelin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Quality Support Services: QSG,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Seminars: Regional, Thematic, Headquar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Support on demand (identification mi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AIDCO E6: Natural Ressources</a:t>
            </a:r>
            <a:endParaRPr b="0" lang="en-US" sz="3200" spc="-1" strike="noStrike">
              <a:solidFill>
                <a:srgbClr val="000000"/>
              </a:solidFill>
              <a:latin typeface="Arial"/>
            </a:endParaRPr>
          </a:p>
        </p:txBody>
      </p:sp>
      <p:sp>
        <p:nvSpPr>
          <p:cNvPr id="62" name="PlaceHolder 2"/>
          <p:cNvSpPr>
            <a:spLocks noGrp="1"/>
          </p:cNvSpPr>
          <p:nvPr>
            <p:ph/>
          </p:nvPr>
        </p:nvSpPr>
        <p:spPr>
          <a:xfrm>
            <a:off x="457200" y="1485720"/>
            <a:ext cx="8229600" cy="4679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3 sectors: Rural Development, Food Security, Environme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Food Security Thematic Programme (FSTP): regional vocation + budget line (Cf. AIDCO F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Food Security: national vocation reflected in the Country Strategy Pap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Times New Roman"/>
              </a:rPr>
              <a:t>Outline of the seminar</a:t>
            </a:r>
            <a:endParaRPr b="0" lang="en-US" sz="3200" spc="-1" strike="noStrike">
              <a:solidFill>
                <a:srgbClr val="000000"/>
              </a:solidFill>
              <a:latin typeface="Arial"/>
            </a:endParaRPr>
          </a:p>
        </p:txBody>
      </p:sp>
      <p:sp>
        <p:nvSpPr>
          <p:cNvPr id="64"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First Regional Seminar in As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32 participants from Delegations, Headquarter, International organisations, external participants (Local expert, local agencies, etc.)</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6 Delegations represente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Reply to particular demand from the Deleg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Arial"/>
              </a:rPr>
              <a:t>Objectives</a:t>
            </a:r>
            <a:endParaRPr b="0" lang="en-US" sz="3200" spc="-1" strike="noStrike">
              <a:solidFill>
                <a:srgbClr val="000000"/>
              </a:solidFill>
              <a:latin typeface="Arial"/>
            </a:endParaRPr>
          </a:p>
        </p:txBody>
      </p:sp>
      <p:sp>
        <p:nvSpPr>
          <p:cNvPr id="66"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fontScale="98000"/>
          </a:bodyPr>
          <a:p>
            <a:pPr marL="646920" indent="-646920">
              <a:lnSpc>
                <a:spcPct val="8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Arial"/>
              </a:rPr>
              <a:t>1. Update on EU and EC response concerning the Soaring Food Prices. </a:t>
            </a:r>
            <a:endParaRPr b="0" lang="en-US" sz="2600" spc="-1" strike="noStrike">
              <a:solidFill>
                <a:srgbClr val="000000"/>
              </a:solidFill>
              <a:latin typeface="Arial"/>
            </a:endParaRPr>
          </a:p>
          <a:p>
            <a:pPr marL="6469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46920" indent="-646920">
              <a:lnSpc>
                <a:spcPct val="8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Arial"/>
              </a:rPr>
              <a:t>2. Analysis of the impact of the responses to volatility food prices on ongoing programming and formulation exercise and reflection on implementation modalities, and partners.</a:t>
            </a:r>
            <a:endParaRPr b="0" lang="en-US" sz="2600" spc="-1" strike="noStrike">
              <a:solidFill>
                <a:srgbClr val="000000"/>
              </a:solidFill>
              <a:latin typeface="Arial"/>
            </a:endParaRPr>
          </a:p>
          <a:p>
            <a:pPr marL="6469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46920" indent="-646920">
              <a:lnSpc>
                <a:spcPct val="8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00"/>
                </a:solidFill>
                <a:latin typeface="Arial"/>
              </a:rPr>
              <a:t>3. Presentation and debate around main conclusions and recommendations of the thematic seminar organised in Brussels in 2008 on the theme: "Entitlement and access to food: social transfers systems to fight against extreme poverty". </a:t>
            </a:r>
            <a:endParaRPr b="0" lang="en-US" sz="2600" spc="-1" strike="noStrike">
              <a:solidFill>
                <a:srgbClr val="000000"/>
              </a:solidFill>
              <a:latin typeface="Arial"/>
            </a:endParaRPr>
          </a:p>
          <a:p>
            <a:pPr marL="6469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46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46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4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46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00"/>
                </a:solidFill>
                <a:latin typeface="Arial"/>
              </a:rPr>
              <a:t>Objectives (2)</a:t>
            </a:r>
            <a:endParaRPr b="0" lang="en-US" sz="2800" spc="-1" strike="noStrike">
              <a:solidFill>
                <a:srgbClr val="000000"/>
              </a:solidFill>
              <a:latin typeface="Arial"/>
            </a:endParaRPr>
          </a:p>
        </p:txBody>
      </p:sp>
      <p:sp>
        <p:nvSpPr>
          <p:cNvPr id="68" name="PlaceHolder 2"/>
          <p:cNvSpPr>
            <a:spLocks noGrp="1"/>
          </p:cNvSpPr>
          <p:nvPr>
            <p:ph/>
          </p:nvPr>
        </p:nvSpPr>
        <p:spPr>
          <a:xfrm>
            <a:off x="468360" y="1052640"/>
            <a:ext cx="8229600" cy="5472000"/>
          </a:xfrm>
          <a:prstGeom prst="rect">
            <a:avLst/>
          </a:prstGeom>
          <a:noFill/>
          <a:ln w="0">
            <a:noFill/>
          </a:ln>
        </p:spPr>
        <p:txBody>
          <a:bodyPr lIns="90000" rIns="90000" tIns="46800" bIns="46800" anchor="t">
            <a:normAutofit/>
          </a:bodyPr>
          <a:p>
            <a:pPr marL="577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7800" indent="-577800">
              <a:lnSpc>
                <a:spcPct val="80000"/>
              </a:lnSpc>
              <a:spcBef>
                <a:spcPts val="5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00"/>
                </a:solidFill>
                <a:latin typeface="Arial"/>
              </a:rPr>
              <a:t>4. Presentation and debates around the main conclusions and recommendations of the thematic seminar organised by E6 in Brussels from 7 to 8 May 2008 on the theme: "Enhancing EC’s contribution to address child and maternal undernutrition and its causes". The AIDCO E6 concept note on Nutrition will be presented during the seminar.</a:t>
            </a:r>
            <a:endParaRPr b="0" lang="en-US" sz="2300" spc="-1" strike="noStrike">
              <a:solidFill>
                <a:srgbClr val="000000"/>
              </a:solidFill>
              <a:latin typeface="Arial"/>
            </a:endParaRPr>
          </a:p>
          <a:p>
            <a:pPr marL="5778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77800" indent="-577800">
              <a:lnSpc>
                <a:spcPct val="80000"/>
              </a:lnSpc>
              <a:spcBef>
                <a:spcPts val="5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00"/>
                </a:solidFill>
                <a:latin typeface="Arial"/>
              </a:rPr>
              <a:t>5. Food Security and Budgetary Support approach.</a:t>
            </a:r>
            <a:endParaRPr b="0" lang="en-US" sz="2300" spc="-1" strike="noStrike">
              <a:solidFill>
                <a:srgbClr val="000000"/>
              </a:solidFill>
              <a:latin typeface="Arial"/>
            </a:endParaRPr>
          </a:p>
          <a:p>
            <a:pPr marL="577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77800" indent="-577800">
              <a:lnSpc>
                <a:spcPct val="80000"/>
              </a:lnSpc>
              <a:spcBef>
                <a:spcPts val="5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00"/>
                </a:solidFill>
                <a:latin typeface="Arial"/>
              </a:rPr>
              <a:t>6. Discussion about mid-term review of CSPs and mainstreaming of food security in national programmes.</a:t>
            </a:r>
            <a:endParaRPr b="0" lang="en-US" sz="2300" spc="-1" strike="noStrike">
              <a:solidFill>
                <a:srgbClr val="000000"/>
              </a:solidFill>
              <a:latin typeface="Arial"/>
            </a:endParaRPr>
          </a:p>
          <a:p>
            <a:pPr marL="577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77800" indent="-577800">
              <a:lnSpc>
                <a:spcPct val="80000"/>
              </a:lnSpc>
              <a:spcBef>
                <a:spcPts val="5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00"/>
                </a:solidFill>
                <a:latin typeface="Arial"/>
              </a:rPr>
              <a:t>7. Discussion about support expected by Delegations (networking, practical guides, indicators, training, ROSA, etc.). </a:t>
            </a:r>
            <a:endParaRPr b="0" lang="en-US" sz="2300" spc="-1" strike="noStrike">
              <a:solidFill>
                <a:srgbClr val="000000"/>
              </a:solidFill>
              <a:latin typeface="Arial"/>
            </a:endParaRPr>
          </a:p>
          <a:p>
            <a:pPr marL="577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77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7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00"/>
                </a:solidFill>
                <a:latin typeface="Times New Roman"/>
              </a:rPr>
              <a:t>Workshop</a:t>
            </a:r>
            <a:endParaRPr b="0" lang="en-US" sz="32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2 sessions devoted to the workshop with the preparation of  3 thematic groups, followed by a present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Example of themes to be discussed: Rising prices/food facility, Access/social transfers, Use/nutrition, CSP, 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1:26:00Z</dcterms:created>
  <dc:creator>bagurlc</dc:creator>
  <dc:description/>
  <dc:language>en-US</dc:language>
  <cp:lastModifiedBy>bertrpi</cp:lastModifiedBy>
  <dcterms:modified xsi:type="dcterms:W3CDTF">2009-04-26T11:58:19Z</dcterms:modified>
  <cp:revision>518</cp:revision>
  <dc:subject/>
  <dc:title>EuropeAid reorganisation</dc:title>
</cp:coreProperties>
</file>