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0.wmf" ContentType="image/x-wmf"/>
  <Override PartName="/ppt/media/image2.png" ContentType="image/png"/>
  <Override PartName="/ppt/media/image13.wmf" ContentType="image/x-wmf"/>
  <Override PartName="/ppt/media/image8.jpeg" ContentType="image/jpeg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19.jpeg" ContentType="image/jpeg"/>
  <Override PartName="/ppt/media/image6.wmf" ContentType="image/x-wmf"/>
  <Override PartName="/ppt/media/image7.png" ContentType="image/png"/>
  <Override PartName="/ppt/media/image15.wmf" ContentType="image/x-wmf"/>
  <Override PartName="/ppt/media/image11.wmf" ContentType="image/x-wmf"/>
  <Override PartName="/ppt/media/image3.png" ContentType="image/png"/>
  <Override PartName="/ppt/media/image9.png" ContentType="image/pn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525DDD-E321-4219-B7A3-6C571745E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4D60F8-9152-4069-B07B-6736C9A77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90196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39480" y="3328560"/>
            <a:ext cx="681660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Chairman, Honorable Minister, respected Special Guests and Excellencies, ladies and gentl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MO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duty is to present and overview of the NPFCSP, this will be followed by a more detailed presentation of its main activities through 2 presentation that will be given during the technical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B275C3-34B5-432B-8386-CCD0B4EB3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79B23A-0339-44B4-9C64-069B8124C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F0674F-0554-458D-AFFE-84A382673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3855DF-E7A6-4C9B-B917-40CA149E9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E02B79-2109-44B8-88DC-53EFA288A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264FA6-3351-4FF7-B99B-03ACA192C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9799-0444-40BF-932A-4F0124E5A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20E6A0-638B-4019-BBAF-8FB719ED6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41D696-56BA-4BA4-A325-A151AC256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38400" y="3328560"/>
            <a:ext cx="68198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B71D28-5F29-4390-BC84-D537334D1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F4930A-E237-43B9-85E2-5072AA665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38DB97-C960-49BA-81C7-FB1F61F31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32F81F-E471-4105-8BDA-411F3DE6F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457C82-6C0E-4C6F-9A96-82BAFE60A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9C3C4B-9AA6-4CDE-B193-C89AB3756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F61E49-0CC0-4B37-8C5A-D32BE6437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ABC111-408D-4803-8B96-A98049F22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E59F-6088-44CD-BF7A-975C90EB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53BA-72DB-48F9-A4BE-8B40F528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B3E-351B-4239-ACB4-DA6CC95C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4CD-C03D-4016-96C6-C5553AE3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3F1-12FC-45B0-9EF6-7A32DF83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EDF-476F-4B53-B5BC-CCE0CF2E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138-ABAF-43BC-B476-223C96F6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9F3-26A8-4471-88B0-837A5245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27B-1886-4135-8D2F-424549F0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0379-0DD1-45F2-B696-82603157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EB0-4E75-488F-9F15-40AFE3D9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235-28EA-4AFB-8907-B4B88DE1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09BA-E152-423D-A1C5-0C364441C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520" y="553896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Ciro Fiorillo, CTA, FAO-NFPC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7 April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0" y="3352680"/>
            <a:ext cx="9144000" cy="16765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ood Prices Volatility: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lobal causes, local issues and policy respo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80880" y="152280"/>
            <a:ext cx="8478720" cy="1066680"/>
            <a:chOff x="380880" y="152280"/>
            <a:chExt cx="8478720" cy="1066680"/>
          </a:xfrm>
        </p:grpSpPr>
        <p:pic>
          <p:nvPicPr>
            <p:cNvPr id="51" name="Picture 5" descr=""/>
            <p:cNvPicPr/>
            <p:nvPr/>
          </p:nvPicPr>
          <p:blipFill>
            <a:blip r:embed="rId1"/>
            <a:srcRect l="17147" t="21850" r="20173" b="11811"/>
            <a:stretch/>
          </p:blipFill>
          <p:spPr>
            <a:xfrm>
              <a:off x="380880" y="195480"/>
              <a:ext cx="1047600" cy="10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6" descr="banner_en"/>
            <p:cNvPicPr/>
            <p:nvPr/>
          </p:nvPicPr>
          <p:blipFill>
            <a:blip r:embed="rId2"/>
            <a:srcRect l="2366" t="-2980" r="40615" b="0"/>
            <a:stretch/>
          </p:blipFill>
          <p:spPr>
            <a:xfrm>
              <a:off x="4228920" y="356040"/>
              <a:ext cx="3384720" cy="59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7" descr="Faologo"/>
            <p:cNvPicPr/>
            <p:nvPr/>
          </p:nvPicPr>
          <p:blipFill>
            <a:blip r:embed="rId3"/>
            <a:stretch/>
          </p:blipFill>
          <p:spPr>
            <a:xfrm>
              <a:off x="7829280" y="152280"/>
              <a:ext cx="10303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8" descr="˦°"/>
            <p:cNvPicPr/>
            <p:nvPr/>
          </p:nvPicPr>
          <p:blipFill>
            <a:blip r:embed="rId4"/>
            <a:srcRect l="13030" t="16036" r="3596" b="9932"/>
            <a:stretch/>
          </p:blipFill>
          <p:spPr>
            <a:xfrm>
              <a:off x="1523880" y="293040"/>
              <a:ext cx="2548080" cy="7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AutoShape 9"/>
          <p:cNvSpPr/>
          <p:nvPr/>
        </p:nvSpPr>
        <p:spPr>
          <a:xfrm>
            <a:off x="228600" y="1295280"/>
            <a:ext cx="8610480" cy="457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National Food Policy Capacity Strengthen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logo"/>
          <p:cNvPicPr/>
          <p:nvPr/>
        </p:nvPicPr>
        <p:blipFill>
          <a:blip r:embed="rId5"/>
          <a:stretch/>
        </p:blipFill>
        <p:spPr>
          <a:xfrm>
            <a:off x="3581280" y="1828800"/>
            <a:ext cx="175284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-428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mpact on production: Rice in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0" y="58428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The food system proved resilient to floods, cyclone thanks to an exceptional responsiveness of farmers to the high food pr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BORO +18.7%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 AUS + 25.2%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AMAN + 18.1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915400" cy="48448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95"/>
          <p:cNvSpPr/>
          <p:nvPr/>
        </p:nvSpPr>
        <p:spPr>
          <a:xfrm>
            <a:off x="0" y="6624720"/>
            <a:ext cx="88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B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676520" y="2133720"/>
            <a:ext cx="4267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verage growth rate (between 2000-01 and 2006-07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0" y="60948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ice imports and pr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6553080"/>
            <a:ext cx="893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s: Dhaka price: DAM; Imports : DG Food; Indian price: Ministry of Consumer Aff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52280" y="6138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Private impor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played a fundamental role in ensuring adequate supply, but have almost stoppe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ue to Indian trade restr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Public impor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creased substantially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hanks to deal with Indi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which was however only slowly implemented.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id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 incresed, but remaine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r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"/>
          <p:cNvPicPr/>
          <p:nvPr/>
        </p:nvPicPr>
        <p:blipFill>
          <a:blip r:embed="rId1"/>
          <a:stretch/>
        </p:blipFill>
        <p:spPr>
          <a:xfrm>
            <a:off x="0" y="1836720"/>
            <a:ext cx="9144000" cy="4791240"/>
          </a:xfrm>
          <a:prstGeom prst="rect">
            <a:avLst/>
          </a:prstGeom>
          <a:ln w="0">
            <a:noFill/>
          </a:ln>
        </p:spPr>
      </p:pic>
      <p:sp>
        <p:nvSpPr>
          <p:cNvPr id="116" name="Line 5"/>
          <p:cNvSpPr/>
          <p:nvPr/>
        </p:nvSpPr>
        <p:spPr>
          <a:xfrm>
            <a:off x="0" y="53352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0" y="6553080"/>
            <a:ext cx="68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PCSP estimates based on BB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10960" y="838080"/>
            <a:ext cx="844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ks to record Boro harvest and impor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ilability exceeded utilization by over 2.0 M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2" descr=""/>
          <p:cNvPicPr/>
          <p:nvPr/>
        </p:nvPicPr>
        <p:blipFill>
          <a:blip r:embed="rId1"/>
          <a:stretch/>
        </p:blipFill>
        <p:spPr>
          <a:xfrm>
            <a:off x="270000" y="2054160"/>
            <a:ext cx="8369280" cy="4270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0" y="0"/>
            <a:ext cx="8534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ice Supply-Utilization Balance 2007-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0" y="68580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255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ice Supply-Utilization Balance 2008-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92"/>
          <p:cNvSpPr/>
          <p:nvPr/>
        </p:nvSpPr>
        <p:spPr>
          <a:xfrm>
            <a:off x="0" y="3429000"/>
            <a:ext cx="9144000" cy="13716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95"/>
          <p:cNvSpPr/>
          <p:nvPr/>
        </p:nvSpPr>
        <p:spPr>
          <a:xfrm>
            <a:off x="0" y="5943600"/>
            <a:ext cx="883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1 – “optimistic“ (Aus: BBS official figure; Amon: BBS estimate; Boro: BBS revised target; Imports: actual as of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ar (577 TMT) + NFPCSP estimates for the rest of the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07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2 – “conservative” (Aus: BBS official figure; Aman: BBS estimate; Boro: DAE revised target growth rate on 07/08 applied to actual 07/08 BBS; Imports: actual as of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 + estimates for the rest of the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10"/>
          <p:cNvSpPr/>
          <p:nvPr/>
        </p:nvSpPr>
        <p:spPr>
          <a:xfrm>
            <a:off x="152280" y="6778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results and prospects: even under a pessimistic scenario, FY 2008/09 projected to end with a further substantial stock 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128" name="Line 5"/>
          <p:cNvSpPr/>
          <p:nvPr/>
        </p:nvSpPr>
        <p:spPr>
          <a:xfrm>
            <a:off x="0" y="60948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Key policy respon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1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ff"/>
                </a:solidFill>
                <a:latin typeface="Arial"/>
              </a:rPr>
              <a:t>Short term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expansion of the SSN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(budget +48% or 0.8 Billion US$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1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Scaling up the food based safety nets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budget +46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1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 new, cash based SSN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-days Employment Generation Program is the largest one 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3 B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Short ter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 acti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upport to boost produ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1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ertilizer availability secur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1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novative subsidy on fuel for irrig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1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High procurment pr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1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Public stock was also used to send signals to the marke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onger ter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 approval of th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Plan of Action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 implementing the National Food Poli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0" y="83808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ice &amp; wheat: closing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public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-76320" y="609480"/>
            <a:ext cx="929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ord level for rice, as result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bstantially higher domestic procurement and public impor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er opening stocks AND LIMITED DISTRIBUTION in 2007/08 but also in 2008/09 (compared to targ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4920" y="6629400"/>
            <a:ext cx="407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MISM DG Food As of 19-Apt-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4" descr=""/>
          <p:cNvPicPr/>
          <p:nvPr/>
        </p:nvPicPr>
        <p:blipFill>
          <a:blip r:embed="rId1"/>
          <a:stretch/>
        </p:blipFill>
        <p:spPr>
          <a:xfrm>
            <a:off x="-76320" y="1981080"/>
            <a:ext cx="9236160" cy="4724640"/>
          </a:xfrm>
          <a:prstGeom prst="rect">
            <a:avLst/>
          </a:prstGeom>
          <a:ln w="0">
            <a:noFill/>
          </a:ln>
        </p:spPr>
      </p:pic>
      <p:sp>
        <p:nvSpPr>
          <p:cNvPr id="136" name="Line 5"/>
          <p:cNvSpPr/>
          <p:nvPr/>
        </p:nvSpPr>
        <p:spPr>
          <a:xfrm>
            <a:off x="0" y="60948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0"/>
            <a:ext cx="896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od Based safety n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0" y="662940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FPMU, MoFDM. As of 16-Apr-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0" y="7160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ff"/>
                </a:solidFill>
                <a:latin typeface="Arial"/>
              </a:rPr>
              <a:t>In 2007/08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expansion of distribution limited by avail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ff"/>
                </a:solidFill>
                <a:latin typeface="Arial"/>
              </a:rPr>
              <a:t>In 2008/09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expansion less than planned (+35%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Food distribution + 22.5%: </a:t>
            </a:r>
            <a:r>
              <a:rPr b="1" lang="it-IT" sz="2200" spc="-1" strike="noStrike">
                <a:solidFill>
                  <a:srgbClr val="0000ff"/>
                </a:solidFill>
                <a:latin typeface="Arial"/>
              </a:rPr>
              <a:t>noticeable low demand for 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cquisitions +55.3% (in line with original pl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0" y="76212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100 Day Employment Generation Program</a:t>
            </a: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 twin-track respons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the soaring food price situation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: providing relief while building infrastructures for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2 million peop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get 100 days work for 100 Tk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20 billion taka allocated for 2008/09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the implementation during the 2 lean periods (Sep-Nov, Mar-A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econd phase has been suspend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less than 50% funds disbur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0" y="68580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228600" y="4425840"/>
            <a:ext cx="8915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67%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benefits captured by the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overty outreach comparab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similar SS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BUT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st above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37%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aptured by the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xtre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Less effectiv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reaching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xtre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-162000" y="3722760"/>
            <a:ext cx="94489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ff3300"/>
                </a:solidFill>
                <a:latin typeface="Arial"/>
              </a:rPr>
              <a:t>Beneficiary selection/ targeting effectivene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0" y="430056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152280" y="4876920"/>
            <a:ext cx="1143000" cy="380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152280" y="5715000"/>
            <a:ext cx="1143000" cy="380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00 Day EGP: main weakn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0" y="52848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90000"/>
              </a:lnSpc>
              <a:spcAft>
                <a:spcPts val="1199"/>
              </a:spcAft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Lack of  adequate preparation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ue to urgency to sta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orks identification, selection and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 inconsistencies between objectives and design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ome irregularities and leak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onitoring and grievance redressal can be reinfor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0" y="533520"/>
            <a:ext cx="6629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0" y="3448080"/>
            <a:ext cx="9144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90000"/>
              </a:lnSpc>
              <a:spcAft>
                <a:spcPts val="1199"/>
              </a:spcAft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Substantial number of female beneficiaries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(28%) in spite of low wages, challenging work conditions and no “gender quot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Aft>
                <a:spcPts val="1199"/>
              </a:spcAft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Overall positive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erception of </a:t>
            </a: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initial  impacts by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eneficiary</a:t>
            </a: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: responded to real needs; effective in protecting vulnerable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ong term impacts: asset creation, organic fertilizers promo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cash-based nature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eans tha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Can flexibly be scaled up and dow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cording to the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Larger second round effects from cash injection into the rural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00 Day EGP: main streng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0" y="3429000"/>
            <a:ext cx="6629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2971800" y="60721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National Food Policy Plan of Acti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2008-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590920" y="1752480"/>
            <a:ext cx="65530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437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comprehensive </a:t>
            </a: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framework for coordinating government food security interven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compa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vailabil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equate and stable supply of safe and nutritious f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cces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d purchasing power and access to food by the poor through safety n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utri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all individuals, especially women and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52280" y="7621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roved by the inter-ministerial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od Planning and Monitoring Committee (FPMC) on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5 August 2008, </a:t>
            </a:r>
            <a:r>
              <a:rPr b="0" i="1" lang="fr-FR" sz="2400" spc="-1" strike="noStrike">
                <a:solidFill>
                  <a:srgbClr val="ff0000"/>
                </a:solidFill>
                <a:latin typeface="Arial"/>
              </a:rPr>
              <a:t>prov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0" y="685800"/>
            <a:ext cx="6629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2539800" cy="33530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0" y="5486400"/>
            <a:ext cx="89917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)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A reference to align development support to GoB priorities (in the spirit of the Paris Declaration on aid effectivenes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stent with the PRSP and other relevant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food price volatility: fact and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in Banglad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GD government policy responses to soaring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merging threats to foo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76320" y="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 PoA: Highlights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800600" y="2057400"/>
            <a:ext cx="350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28600" y="685800"/>
            <a:ext cx="8763120" cy="61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2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areas of intervention and </a:t>
            </a: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314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ac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mproving productivity and efficiency of domestic foo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duction and trade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search and extension, inputs, water management, credit &amp; insurance, market infrastructure, marketing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educ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ulnerability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o shocks and promote vulnerable people’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cess to food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Early Warning, price support and stabilization, public stock managemen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isaster Management, PFDS, safety nets, income generation, MSMEs development, skills developmen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ustain programs for improv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tritio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Food supplementation and fortification, nutrition education, food safety, women and children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0" y="609480"/>
            <a:ext cx="6629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271440" y="1406520"/>
            <a:ext cx="8263080" cy="52992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0" y="6629400"/>
            <a:ext cx="5556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0" y="-52560"/>
            <a:ext cx="91440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merging threats to food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Domestic production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 far responded to planting decisions based on high prices, but it 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is likely to decline in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914400" y="17524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average retail price (coarse r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2819520" y="5181480"/>
            <a:ext cx="4647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2009 on January 2007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27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2009 on March 2008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28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 flipV="1">
            <a:off x="0" y="609480"/>
            <a:ext cx="8001000" cy="5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228600" y="76320"/>
            <a:ext cx="8915400" cy="66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merging threats to food secur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ice vola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Price volatility damages both 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consumers and 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Low world food pric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ood for consumers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declining profitability likely to hav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gative effec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on level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reduced global production likely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rive world prices up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mpetitiveness of domestic production declines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as lower world fuel/fertilizer prices cannot be fully reflected domestically due to subsi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lobal economic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Reduced exports and remittances affect Banglades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come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employme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sca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Lower economic grow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creases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0" y="743040"/>
            <a:ext cx="7848720" cy="19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457200" y="2286000"/>
            <a:ext cx="990720" cy="4572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457200" y="3657600"/>
            <a:ext cx="990720" cy="4572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8"/>
          <p:cNvSpPr/>
          <p:nvPr/>
        </p:nvSpPr>
        <p:spPr>
          <a:xfrm>
            <a:off x="457200" y="2971800"/>
            <a:ext cx="990720" cy="4572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le of agriculture for food security in B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tors of economic grow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Banglades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o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ed industry (gar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mittan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migrant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gricul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relate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focus o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gricultural grow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cause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key role f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vailabil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upplier of food)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c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ource of livelihood, employment and growth)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utr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diversified production for a balanced di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-po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benefits of growth are better distribu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alan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ur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rb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as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During global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nancial cri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act 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abiliz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it is less dependent on foreign deman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0" y="762120"/>
            <a:ext cx="8763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7"/>
          <p:cNvSpPr/>
          <p:nvPr/>
        </p:nvSpPr>
        <p:spPr>
          <a:xfrm>
            <a:off x="0" y="763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gricultural growth for FS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 Ke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0" y="1084320"/>
            <a:ext cx="9144000" cy="51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tensific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stain rice production to release land and water needed for diversifying. Requires a technological breakthrough, timely access to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versific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elerate rural development, growth  and diversification of  supply and consumption. Requires enhanced farmers’ integration into the market (credit, marketing, farmers’ coordination, market regulation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stainability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ve and expand the natural resource base (land and water). Requires investments, regulations, and new technologies that are affordable and encourage environment friendly farming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silienc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stand natural calamities and climate change (early warning systems, adaptation, infrastructur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 flipH="1">
            <a:off x="-360" y="685800"/>
            <a:ext cx="8534520" cy="46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676160" y="2027160"/>
            <a:ext cx="56386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HANKS 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ood prices: long run global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2860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icultural commodity price spikes are common, b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ually limited to few commod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fo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hor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an low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1766880"/>
            <a:ext cx="1371600" cy="366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 flipV="1">
            <a:off x="0" y="633240"/>
            <a:ext cx="8610480" cy="52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2"/>
          <p:cNvSpPr/>
          <p:nvPr/>
        </p:nvSpPr>
        <p:spPr>
          <a:xfrm>
            <a:off x="1907640" y="1905120"/>
            <a:ext cx="56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LY FOOD PRICE INDICES (2002-2004=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ore recent trends in cereal p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152280" y="739800"/>
            <a:ext cx="85345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prices have declined since mid 200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now close to the pre-price hike levels for maize and wheat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ut substantially above for 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61920" y="1932120"/>
            <a:ext cx="4800600" cy="4717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0" y="66294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F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RiExpPr_0309"/>
          <p:cNvPicPr/>
          <p:nvPr/>
        </p:nvPicPr>
        <p:blipFill>
          <a:blip r:embed="rId2"/>
          <a:stretch/>
        </p:blipFill>
        <p:spPr>
          <a:xfrm>
            <a:off x="4911840" y="1957320"/>
            <a:ext cx="4155840" cy="4672080"/>
          </a:xfrm>
          <a:prstGeom prst="rect">
            <a:avLst/>
          </a:prstGeom>
          <a:ln w="0">
            <a:noFill/>
          </a:ln>
        </p:spPr>
      </p:pic>
      <p:sp>
        <p:nvSpPr>
          <p:cNvPr id="70" name="Line 5"/>
          <p:cNvSpPr/>
          <p:nvPr/>
        </p:nvSpPr>
        <p:spPr>
          <a:xfrm flipV="1">
            <a:off x="0" y="633240"/>
            <a:ext cx="8610480" cy="52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371600" y="2514600"/>
            <a:ext cx="3809880" cy="26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EMAND sid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ulative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come  &amp; consumption in developing econom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o-fuels profitability &amp;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782640"/>
            <a:ext cx="861048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lobal 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economic trends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ing oil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inancial marke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US$ exchange rate, speculation on 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ici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ain producing countries and do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lobal wa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increased climatic instability and calam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181480" y="2514600"/>
            <a:ext cx="39625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UPPLY side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rvests’ fail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ction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port restri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icultural invest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0" y="-1584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eterminants of price volat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6"/>
          <p:cNvCxnSpPr/>
          <p:nvPr/>
        </p:nvCxnSpPr>
        <p:spPr>
          <a:xfrm flipH="1" flipV="1" rot="10800000">
            <a:off x="304560" y="1522800"/>
            <a:ext cx="1753200" cy="1024920"/>
          </a:xfrm>
          <a:prstGeom prst="curvedConnector5">
            <a:avLst>
              <a:gd name="adj1" fmla="val -13021"/>
              <a:gd name="adj2" fmla="val 50000"/>
              <a:gd name="adj3" fmla="val -13021"/>
            </a:avLst>
          </a:prstGeom>
          <a:ln w="127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7"/>
          <p:cNvCxnSpPr>
            <a:stCxn id="72" idx="3"/>
          </p:cNvCxnSpPr>
          <p:nvPr/>
        </p:nvCxnSpPr>
        <p:spPr>
          <a:xfrm flipH="1">
            <a:off x="8228880" y="1490400"/>
            <a:ext cx="610200" cy="1253160"/>
          </a:xfrm>
          <a:prstGeom prst="curvedConnector5">
            <a:avLst>
              <a:gd name="adj1" fmla="val -37485"/>
              <a:gd name="adj2" fmla="val 39109"/>
              <a:gd name="adj3" fmla="val -37485"/>
            </a:avLst>
          </a:prstGeom>
          <a:ln w="127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TextBox 41"/>
          <p:cNvSpPr/>
          <p:nvPr/>
        </p:nvSpPr>
        <p:spPr>
          <a:xfrm>
            <a:off x="0" y="5397480"/>
            <a:ext cx="9144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Global food stocks depletion recently reverted: sustain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re “beggar thy neighbors” policies going to l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300" spc="-1" strike="noStrike">
                <a:solidFill>
                  <a:srgbClr val="ff0000"/>
                </a:solidFill>
                <a:latin typeface="Arial"/>
                <a:ea typeface="Arial"/>
              </a:rPr>
              <a:t>Agricultural investment &amp; policies will determine future tre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4"/>
          <p:cNvSpPr/>
          <p:nvPr/>
        </p:nvSpPr>
        <p:spPr>
          <a:xfrm>
            <a:off x="0" y="2905200"/>
            <a:ext cx="13716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51"/>
          <p:cNvCxnSpPr/>
          <p:nvPr/>
        </p:nvCxnSpPr>
        <p:spPr>
          <a:xfrm flipH="1">
            <a:off x="1293480" y="2971800"/>
            <a:ext cx="2160" cy="19832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0" name="Line 5"/>
          <p:cNvSpPr/>
          <p:nvPr/>
        </p:nvSpPr>
        <p:spPr>
          <a:xfrm flipV="1">
            <a:off x="0" y="633240"/>
            <a:ext cx="8610480" cy="52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888840" y="1143000"/>
            <a:ext cx="7589880" cy="56815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762120" y="64008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F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14400"/>
            <a:ext cx="91440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Food prices IMPACTS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ON WELFA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gladesh and Vietnam, rural and urb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0" y="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Food Security in BGD: Undernourishment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ource: BBS; Absolute poor &lt; 2122 kcal/day: Hard core poor &lt; 1805 kcal/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04920" y="72720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Long term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couraging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 trend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reverted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 by 2007/08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FAO/WFP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estimate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impact of food cris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People consuming &lt; 2,122 kcal/day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+ 7.5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People consuming &lt; 1,805 kcal/day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+ 6.9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0" y="60948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1"/>
          <a:stretch/>
        </p:blipFill>
        <p:spPr>
          <a:xfrm>
            <a:off x="0" y="2311560"/>
            <a:ext cx="914400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73" descr=""/>
          <p:cNvPicPr/>
          <p:nvPr/>
        </p:nvPicPr>
        <p:blipFill>
          <a:blip r:embed="rId1"/>
          <a:stretch/>
        </p:blipFill>
        <p:spPr>
          <a:xfrm>
            <a:off x="109440" y="1676520"/>
            <a:ext cx="8882280" cy="5013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0" y="-46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Food Security: underweight and st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228600" y="65530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 data NIPORT-BDHS; Other years: HKI/IPHN-N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304920" y="60948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Arial"/>
              </a:rPr>
              <a:t>Estimated impacts of price increase from 2006 to 2008 Septembe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ff"/>
                </a:solidFill>
                <a:latin typeface="Arial"/>
              </a:rPr>
              <a:t>Wasting  (W/H)</a:t>
            </a:r>
            <a:r>
              <a:rPr b="0" lang="it-IT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+ 49.7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ff"/>
                </a:solidFill>
                <a:latin typeface="Arial"/>
              </a:rPr>
              <a:t>Underweight  (W/A)</a:t>
            </a:r>
            <a:r>
              <a:rPr b="0" lang="it-IT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+ 23.1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334120" y="13381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(BRAC-RED, 20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5"/>
          <p:cNvSpPr/>
          <p:nvPr/>
        </p:nvSpPr>
        <p:spPr>
          <a:xfrm>
            <a:off x="6477120" y="1828800"/>
            <a:ext cx="266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1"/>
          <p:cNvSpPr/>
          <p:nvPr/>
        </p:nvSpPr>
        <p:spPr>
          <a:xfrm>
            <a:off x="6781680" y="22096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715000" y="1981080"/>
          <a:ext cx="3048120" cy="1189080"/>
        </p:xfrm>
        <a:graphic>
          <a:graphicData uri="http://schemas.openxmlformats.org/drawingml/2006/table">
            <a:tbl>
              <a:tblPr/>
              <a:tblGrid>
                <a:gridCol w="2297160"/>
                <a:gridCol w="7509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tunting (H/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Underw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Line 5"/>
          <p:cNvSpPr/>
          <p:nvPr/>
        </p:nvSpPr>
        <p:spPr>
          <a:xfrm>
            <a:off x="0" y="60948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angladesh: long term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5562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6553080"/>
            <a:ext cx="8175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DAM; the prices are deflated by the general CPI obtained from BB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52280" y="838080"/>
            <a:ext cx="89154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year price decline reverted twice in less than 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Pric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volatility 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damages both produces and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800600" y="19810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e real national wholesale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1"/>
          <a:stretch/>
        </p:blipFill>
        <p:spPr>
          <a:xfrm>
            <a:off x="76320" y="1592280"/>
            <a:ext cx="9067680" cy="5037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5486400" y="22096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i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national wholesale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0" y="68580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02:58:03Z</dcterms:created>
  <dc:creator>mjacortijo</dc:creator>
  <dc:description/>
  <dc:language>en-US</dc:language>
  <cp:lastModifiedBy>owner</cp:lastModifiedBy>
  <dcterms:modified xsi:type="dcterms:W3CDTF">2009-04-13T06:54:25Z</dcterms:modified>
  <cp:revision>210</cp:revision>
  <dc:subject/>
  <dc:title>The food situation in Bangladesh</dc:title>
</cp:coreProperties>
</file>