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0.wmf" ContentType="image/x-wmf"/>
  <Override PartName="/ppt/media/image2.png" ContentType="image/png"/>
  <Override PartName="/ppt/media/image13.wmf" ContentType="image/x-wmf"/>
  <Override PartName="/ppt/media/image8.jpeg" ContentType="image/jpeg"/>
  <Override PartName="/ppt/media/image16.wmf" ContentType="image/x-wmf"/>
  <Override PartName="/ppt/media/image14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20.wmf" ContentType="image/x-wmf"/>
  <Override PartName="/ppt/media/image19.jpeg" ContentType="image/jpeg"/>
  <Override PartName="/ppt/media/image6.wmf" ContentType="image/x-wmf"/>
  <Override PartName="/ppt/media/image7.png" ContentType="image/png"/>
  <Override PartName="/ppt/media/image15.wmf" ContentType="image/x-wmf"/>
  <Override PartName="/ppt/media/image11.wmf" ContentType="image/x-wmf"/>
  <Override PartName="/ppt/media/image3.png" ContentType="image/png"/>
  <Override PartName="/ppt/media/image9.png" ContentType="image/pn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26572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95120" y="525600"/>
            <a:ext cx="3505320" cy="26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65748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265720" y="665748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5651907-5986-4D01-8697-088CA8B65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8F05EBA-BFBE-4000-B757-DD2C7E1DF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290196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239480" y="3328560"/>
            <a:ext cx="6816600" cy="3156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Chairman, Honorable Minister, respected Special Guests and Excellencies, ladies and gentle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MO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duty is to present and overview of the NPFCSP, this will be followed by a more detailed presentation of its main activities through 2 presentation that will be given during the technical s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4E73D13-15BF-46B7-841C-BC93F711D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1647935-FC68-44CF-A828-42531D205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ms-M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71194E6-6BCC-40A6-8805-BD72DBA30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ms-M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21991D0-5E07-44C2-BA5E-708785D1D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ms-M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0D1AC36-9FCB-4CBF-BC95-69A274A9F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ms-M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30FD63E-47B0-47F8-890D-270016A46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5267160" y="6659640"/>
            <a:ext cx="4029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23B0-E585-494F-B6B9-1968BBA82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413D258-4D4E-4B38-8BD6-D6DAF7863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ms-M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246C420-9BA7-4A62-B583-CA829F8C8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1238400" y="3328560"/>
            <a:ext cx="681984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5D129E4-6034-485A-A1AE-AD54E43F2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ms-M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AD9564D-A08C-4115-A898-7EB1CB1BF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ms-M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FD1F286-D0D8-415D-B11F-7C30A66B4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ms-M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32FDAE9-EB52-41BD-A2C2-B46CFAB15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ms-M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934F0CC-D96B-4498-9D19-9A210F79A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ms-M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6EBD610-4D61-43E8-91EE-028732C30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48BA773-79B3-405C-B930-476FA1F78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8F4D6B4-0045-477B-ABB6-FEF1D438C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ms-MY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ACE0-9B29-4A66-A817-C4AC0787D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0B35-496E-4BDB-B9C7-EE163998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3640-4957-4703-9320-0BB3B27A6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98DF-BCB0-43BF-AAD8-3D3296581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103A-98BE-4E7F-8AEE-FE127B7A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DEFF-8470-4EA6-968D-55549EB0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573A-0F02-4D32-AFE0-68DC0D67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E47E-60B9-4FE0-A627-29155842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D646-4C1F-47D7-AD48-FF8DCCE4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BB68-B04F-4C3C-B92C-F5DA7C0D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6701-4D07-4769-8673-E41AE86E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7511-D003-4B27-B0C7-E801505A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5241-7AB9-47E0-A8C8-B55F644BD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533520" y="5538960"/>
            <a:ext cx="8229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Ciro Fiorillo, CTA, FAO-NFPC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7 April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0" y="3352680"/>
            <a:ext cx="9144000" cy="16765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ood Prices Volatility: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global causes, local issues and policy respon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80880" y="152280"/>
            <a:ext cx="8478720" cy="1066680"/>
            <a:chOff x="380880" y="152280"/>
            <a:chExt cx="8478720" cy="1066680"/>
          </a:xfrm>
        </p:grpSpPr>
        <p:pic>
          <p:nvPicPr>
            <p:cNvPr id="51" name="Picture 5" descr=""/>
            <p:cNvPicPr/>
            <p:nvPr/>
          </p:nvPicPr>
          <p:blipFill>
            <a:blip r:embed="rId1"/>
            <a:srcRect l="17147" t="21850" r="20173" b="11811"/>
            <a:stretch/>
          </p:blipFill>
          <p:spPr>
            <a:xfrm>
              <a:off x="380880" y="195480"/>
              <a:ext cx="1047600" cy="102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6" descr="banner_en"/>
            <p:cNvPicPr/>
            <p:nvPr/>
          </p:nvPicPr>
          <p:blipFill>
            <a:blip r:embed="rId2"/>
            <a:srcRect l="2366" t="-2980" r="40615" b="0"/>
            <a:stretch/>
          </p:blipFill>
          <p:spPr>
            <a:xfrm>
              <a:off x="4228920" y="356040"/>
              <a:ext cx="3384720" cy="59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7" descr="Faologo"/>
            <p:cNvPicPr/>
            <p:nvPr/>
          </p:nvPicPr>
          <p:blipFill>
            <a:blip r:embed="rId3"/>
            <a:stretch/>
          </p:blipFill>
          <p:spPr>
            <a:xfrm>
              <a:off x="7829280" y="152280"/>
              <a:ext cx="103032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8" descr="˦°"/>
            <p:cNvPicPr/>
            <p:nvPr/>
          </p:nvPicPr>
          <p:blipFill>
            <a:blip r:embed="rId4"/>
            <a:srcRect l="13030" t="16036" r="3596" b="9932"/>
            <a:stretch/>
          </p:blipFill>
          <p:spPr>
            <a:xfrm>
              <a:off x="1523880" y="293040"/>
              <a:ext cx="2548080" cy="72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AutoShape 9"/>
          <p:cNvSpPr/>
          <p:nvPr/>
        </p:nvSpPr>
        <p:spPr>
          <a:xfrm>
            <a:off x="228600" y="1295280"/>
            <a:ext cx="8610480" cy="457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National Food Policy Capacity Strengthening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logo"/>
          <p:cNvPicPr/>
          <p:nvPr/>
        </p:nvPicPr>
        <p:blipFill>
          <a:blip r:embed="rId5"/>
          <a:stretch/>
        </p:blipFill>
        <p:spPr>
          <a:xfrm>
            <a:off x="3581280" y="1828800"/>
            <a:ext cx="175284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0" y="-4284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mpact on production: Rice in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0" y="584280"/>
            <a:ext cx="9144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ff"/>
                </a:solidFill>
                <a:latin typeface="Arial"/>
              </a:rPr>
              <a:t>The food system proved resilient to floods, cyclone thanks to an exceptional responsiveness of farmers to the high food pr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BORO +18.7% 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 AUS + 25.2%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AMAN + 18.1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8915400" cy="48448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795"/>
          <p:cNvSpPr/>
          <p:nvPr/>
        </p:nvSpPr>
        <p:spPr>
          <a:xfrm>
            <a:off x="0" y="6624720"/>
            <a:ext cx="883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B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676520" y="2133720"/>
            <a:ext cx="42670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verage growth rate (between 2000-01 and 2006-07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0" y="609480"/>
            <a:ext cx="7315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ice imports and pr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0" y="6553080"/>
            <a:ext cx="8933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s: Dhaka price: DAM; Imports : DG Food; Indian price: Ministry of Consumer Affai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52280" y="61380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Private import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played a fundamental role in ensuring adequate supply, but have almost stopped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due to Indian trade restri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Public import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ncreased substantially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thanks to deal with India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which was however only slowly implemented.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id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 incresed, but remained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ar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0" descr=""/>
          <p:cNvPicPr/>
          <p:nvPr/>
        </p:nvPicPr>
        <p:blipFill>
          <a:blip r:embed="rId1"/>
          <a:stretch/>
        </p:blipFill>
        <p:spPr>
          <a:xfrm>
            <a:off x="0" y="1836720"/>
            <a:ext cx="9144000" cy="4791240"/>
          </a:xfrm>
          <a:prstGeom prst="rect">
            <a:avLst/>
          </a:prstGeom>
          <a:ln w="0">
            <a:noFill/>
          </a:ln>
        </p:spPr>
      </p:pic>
      <p:sp>
        <p:nvSpPr>
          <p:cNvPr id="116" name="Line 5"/>
          <p:cNvSpPr/>
          <p:nvPr/>
        </p:nvSpPr>
        <p:spPr>
          <a:xfrm>
            <a:off x="0" y="533520"/>
            <a:ext cx="7315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5"/>
          <p:cNvSpPr/>
          <p:nvPr/>
        </p:nvSpPr>
        <p:spPr>
          <a:xfrm>
            <a:off x="0" y="6553080"/>
            <a:ext cx="689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FPCSP estimates based on BBS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210960" y="838080"/>
            <a:ext cx="844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nks to record Boro harvest and import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ailability exceeded utilization by over 2.0 MM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2" descr=""/>
          <p:cNvPicPr/>
          <p:nvPr/>
        </p:nvPicPr>
        <p:blipFill>
          <a:blip r:embed="rId1"/>
          <a:stretch/>
        </p:blipFill>
        <p:spPr>
          <a:xfrm>
            <a:off x="270000" y="2054160"/>
            <a:ext cx="8369280" cy="42703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"/>
          <p:cNvSpPr/>
          <p:nvPr/>
        </p:nvSpPr>
        <p:spPr>
          <a:xfrm>
            <a:off x="0" y="0"/>
            <a:ext cx="85345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ice Supply-Utilization Balance 2007-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0" y="685800"/>
            <a:ext cx="7315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25560"/>
            <a:ext cx="91440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ice Supply-Utilization Balance 2008-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792"/>
          <p:cNvSpPr/>
          <p:nvPr/>
        </p:nvSpPr>
        <p:spPr>
          <a:xfrm>
            <a:off x="0" y="3429000"/>
            <a:ext cx="9144000" cy="13716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95"/>
          <p:cNvSpPr/>
          <p:nvPr/>
        </p:nvSpPr>
        <p:spPr>
          <a:xfrm>
            <a:off x="0" y="5943600"/>
            <a:ext cx="883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enario 1 – “optimistic“ (Aus: BBS official figure; Amon: BBS estimate; Boro: BBS revised target; Imports: actual as of 3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ar (577 TMT) + NFPCSP estimates for the rest of the y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07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enario 2 – “conservative” (Aus: BBS official figure; Aman: BBS estimate; Boro: DAE revised target growth rate on 07/08 applied to actual 07/08 BBS; Imports: actual as of 3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 + estimates for the rest of the y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10"/>
          <p:cNvSpPr/>
          <p:nvPr/>
        </p:nvSpPr>
        <p:spPr>
          <a:xfrm>
            <a:off x="152280" y="677880"/>
            <a:ext cx="899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ve results and prospects: even under a pessimistic scenario, FY 2008/09 projected to end with a further substantial stock incr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0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495680"/>
          </a:xfrm>
          <a:prstGeom prst="rect">
            <a:avLst/>
          </a:prstGeom>
          <a:ln w="0">
            <a:noFill/>
          </a:ln>
        </p:spPr>
      </p:pic>
      <p:sp>
        <p:nvSpPr>
          <p:cNvPr id="128" name="Line 5"/>
          <p:cNvSpPr/>
          <p:nvPr/>
        </p:nvSpPr>
        <p:spPr>
          <a:xfrm>
            <a:off x="0" y="609480"/>
            <a:ext cx="7315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Key policy respon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1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ff"/>
                </a:solidFill>
                <a:latin typeface="Arial"/>
              </a:rPr>
              <a:t>Short term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expansion of the SSN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(budget +48% or 0.8 Billion US$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1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Scaling up the food based safety nets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(budget +46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1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 new, cash based SSNs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-days Employment Generation Program is the largest one with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.3 Billion US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 algn="just">
              <a:lnSpc>
                <a:spcPct val="11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1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Short term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: active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support to boost produc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1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ertilizer availability secur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1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novative subsidy on fuel for irrig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1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High procurment pr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1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Public stock was also used to send signals to the marke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1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Longer term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: approval of the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Plan of Action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r implementing the National Food Poli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5"/>
          <p:cNvSpPr/>
          <p:nvPr/>
        </p:nvSpPr>
        <p:spPr>
          <a:xfrm>
            <a:off x="0" y="838080"/>
            <a:ext cx="7315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Rice &amp; wheat: closing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public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sto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-76320" y="609480"/>
            <a:ext cx="9296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cord level for rice, as result of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bstantially higher domestic procurement and public impor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er opening stocks AND LIMITED DISTRIBUTION in 2007/08 but also in 2008/09 (compared to targe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34920" y="6629400"/>
            <a:ext cx="407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: MISM DG Food As of 19-Apt-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4" descr=""/>
          <p:cNvPicPr/>
          <p:nvPr/>
        </p:nvPicPr>
        <p:blipFill>
          <a:blip r:embed="rId1"/>
          <a:stretch/>
        </p:blipFill>
        <p:spPr>
          <a:xfrm>
            <a:off x="-76320" y="1981080"/>
            <a:ext cx="9236160" cy="4724640"/>
          </a:xfrm>
          <a:prstGeom prst="rect">
            <a:avLst/>
          </a:prstGeom>
          <a:ln w="0">
            <a:noFill/>
          </a:ln>
        </p:spPr>
      </p:pic>
      <p:sp>
        <p:nvSpPr>
          <p:cNvPr id="136" name="Line 5"/>
          <p:cNvSpPr/>
          <p:nvPr/>
        </p:nvSpPr>
        <p:spPr>
          <a:xfrm>
            <a:off x="0" y="609480"/>
            <a:ext cx="7315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0" y="0"/>
            <a:ext cx="896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ood Based safety n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0" y="6629400"/>
            <a:ext cx="640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FPMU, MoFDM. As of 16-Apr-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0" y="71604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0000ff"/>
                </a:solidFill>
                <a:latin typeface="Arial"/>
              </a:rPr>
              <a:t>In 2007/08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 expansion of distribution limited by avail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0000ff"/>
                </a:solidFill>
                <a:latin typeface="Arial"/>
              </a:rPr>
              <a:t>In 2008/09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expansion less than planned (+35%)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Food distribution + 22.5%: </a:t>
            </a:r>
            <a:r>
              <a:rPr b="1" lang="it-IT" sz="2200" spc="-1" strike="noStrike">
                <a:solidFill>
                  <a:srgbClr val="0000ff"/>
                </a:solidFill>
                <a:latin typeface="Arial"/>
              </a:rPr>
              <a:t>noticeable low demand for 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Acquisitions +55.3% (in line with original pla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5"/>
          <p:cNvSpPr/>
          <p:nvPr/>
        </p:nvSpPr>
        <p:spPr>
          <a:xfrm>
            <a:off x="0" y="762120"/>
            <a:ext cx="7315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9" descr="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Arial"/>
              </a:rPr>
              <a:t>100 Day Employment Generation Program</a:t>
            </a:r>
            <a:r>
              <a:rPr b="1" lang="en-US" sz="3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199"/>
              </a:spcAft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A twin-track respons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 the soaring food price situation</a:t>
            </a:r>
            <a:r>
              <a:rPr b="1" i="1" lang="en-GB" sz="2200" spc="-1" strike="noStrike">
                <a:solidFill>
                  <a:srgbClr val="000000"/>
                </a:solidFill>
                <a:latin typeface="Arial"/>
              </a:rPr>
              <a:t>: providing relief while building infrastructures for develo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2 million peopl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 get 100 days work for 100 Tk/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20 billion taka allocated for 2008/09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 the implementation during the 2 lean periods (Sep-Nov, Mar-Ap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Second phase has been suspende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(less than 50% funds disbur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90000"/>
              </a:lnSpc>
              <a:spcBef>
                <a:spcPts val="550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0" y="685800"/>
            <a:ext cx="7315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228600" y="4425840"/>
            <a:ext cx="8915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67%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f the benefits captured by the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po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Poverty outreach comparabl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 similar SS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BUT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Just above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37%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aptured by the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extrem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o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Less effectiv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reaching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extrem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-162000" y="3722760"/>
            <a:ext cx="94489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ff3300"/>
                </a:solidFill>
                <a:latin typeface="Arial"/>
              </a:rPr>
              <a:t>Beneficiary selection/ targeting effectivenes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0" y="4300560"/>
            <a:ext cx="7315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152280" y="4876920"/>
            <a:ext cx="1143000" cy="3808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152280" y="5715000"/>
            <a:ext cx="1143000" cy="3808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00 Day EGP: main weakne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0" y="52848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90000"/>
              </a:lnSpc>
              <a:spcAft>
                <a:spcPts val="1199"/>
              </a:spcAft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ff"/>
                </a:solidFill>
                <a:latin typeface="Arial"/>
              </a:rPr>
              <a:t>Lack of  adequate preparation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ue to urgency to star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Works identification, selection and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1" lang="en-GB" sz="2200" spc="-1" strike="noStrike">
                <a:solidFill>
                  <a:srgbClr val="0000ff"/>
                </a:solidFill>
                <a:latin typeface="Arial"/>
              </a:rPr>
              <a:t> inconsistencies between objectives and design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ome irregularities and leak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Monitoring and grievance redressal can be reinfor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5"/>
          <p:cNvSpPr/>
          <p:nvPr/>
        </p:nvSpPr>
        <p:spPr>
          <a:xfrm>
            <a:off x="0" y="533520"/>
            <a:ext cx="66294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0" y="3448080"/>
            <a:ext cx="91440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90000"/>
              </a:lnSpc>
              <a:spcAft>
                <a:spcPts val="1199"/>
              </a:spcAft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ff"/>
                </a:solidFill>
                <a:latin typeface="Arial"/>
              </a:rPr>
              <a:t>Substantial number of female beneficiaries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(28%) in spite of low wages, challenging work conditions and no “gender quot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Aft>
                <a:spcPts val="1199"/>
              </a:spcAft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ff"/>
                </a:solidFill>
                <a:latin typeface="Arial"/>
              </a:rPr>
              <a:t>Overall positive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perception of </a:t>
            </a:r>
            <a:r>
              <a:rPr b="1" lang="en-GB" sz="2200" spc="-1" strike="noStrike">
                <a:solidFill>
                  <a:srgbClr val="0000ff"/>
                </a:solidFill>
                <a:latin typeface="Arial"/>
              </a:rPr>
              <a:t>initial  impacts by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beneficiary</a:t>
            </a:r>
            <a:r>
              <a:rPr b="1" lang="en-GB" sz="2200" spc="-1" strike="noStrike">
                <a:solidFill>
                  <a:srgbClr val="0000ff"/>
                </a:solidFill>
                <a:latin typeface="Arial"/>
              </a:rPr>
              <a:t>: responded to real needs; effective in protecting vulnerable peo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Long term impacts: asset creation, organic fertilizers promo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Its </a:t>
            </a:r>
            <a:r>
              <a:rPr b="1" lang="en-GB" sz="2200" spc="-1" strike="noStrike">
                <a:solidFill>
                  <a:srgbClr val="0000ff"/>
                </a:solidFill>
                <a:latin typeface="Arial"/>
              </a:rPr>
              <a:t>cash-based nature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means tha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Can flexibly be scaled up and dow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ccording to the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Larger second round effects from cash injection into the rural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0" y="28954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00 Day EGP: main streng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0" y="3429000"/>
            <a:ext cx="66294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3"/>
          <p:cNvSpPr/>
          <p:nvPr/>
        </p:nvSpPr>
        <p:spPr>
          <a:xfrm>
            <a:off x="2971800" y="60721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National Food Policy Plan of Actio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2008-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2590920" y="1752480"/>
            <a:ext cx="655308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437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0" lang="en-GB" sz="2300" spc="-1" strike="noStrike">
                <a:solidFill>
                  <a:srgbClr val="0000ff"/>
                </a:solidFill>
                <a:latin typeface="Arial"/>
              </a:rPr>
              <a:t>comprehensive </a:t>
            </a:r>
            <a:r>
              <a:rPr b="0" lang="en-GB" sz="2300" spc="-1" strike="noStrike">
                <a:solidFill>
                  <a:srgbClr val="ff0000"/>
                </a:solidFill>
                <a:latin typeface="Arial"/>
              </a:rPr>
              <a:t>framework for coordinating government food security interven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compas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Availabilit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equate and stable supply of safe and nutritious fo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Access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creased purchasing power and access to food by the poor through safety n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Nutrition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or all individuals, especially women and child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152280" y="7621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roved by the inter-ministerial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ood Planning and Monitoring Committee (FPMC) on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5 August 2008, </a:t>
            </a:r>
            <a:r>
              <a:rPr b="0" i="1" lang="fr-FR" sz="2400" spc="-1" strike="noStrike">
                <a:solidFill>
                  <a:srgbClr val="ff0000"/>
                </a:solidFill>
                <a:latin typeface="Arial"/>
              </a:rPr>
              <a:t>prov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0" y="685800"/>
            <a:ext cx="66294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0" descr=""/>
          <p:cNvPicPr/>
          <p:nvPr/>
        </p:nvPicPr>
        <p:blipFill>
          <a:blip r:embed="rId1"/>
          <a:stretch/>
        </p:blipFill>
        <p:spPr>
          <a:xfrm>
            <a:off x="76320" y="1752480"/>
            <a:ext cx="2539800" cy="33530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>
            <a:off x="0" y="5486400"/>
            <a:ext cx="899172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2) </a:t>
            </a: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A reference to align development support to GoB priorities (in the spirit of the Paris Declaration on aid effectivenes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istent with the PRSP and other relevant poli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food price volatility: fact and c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security in Banglade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GD government policy responses to soaring p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merging threats to food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76320" y="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e PoA: Highlights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4800600" y="2057400"/>
            <a:ext cx="3505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228600" y="685800"/>
            <a:ext cx="8763120" cy="61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Arial"/>
              </a:rPr>
              <a:t>26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areas of intervention and </a:t>
            </a:r>
            <a:r>
              <a:rPr b="1" i="1" lang="en-US" sz="2800" spc="-1" strike="noStrike">
                <a:solidFill>
                  <a:srgbClr val="3333ff"/>
                </a:solidFill>
                <a:latin typeface="Arial"/>
              </a:rPr>
              <a:t>314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ac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Improving productivity and efficiency of domestic foo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duction and trade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Research and extension, inputs, water management, credit &amp; insurance, market infrastructure, marketing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Reduc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ulnerability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to shocks and promote vulnerable people’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cess to food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Early Warning, price support and stabilization, public stock management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Disaster Management, PFDS, safety nets, income generation, MSMEs development, skills development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ustain programs for improving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trition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Food supplementation and fortification, nutrition education, food safety, women and children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"/>
          <p:cNvSpPr/>
          <p:nvPr/>
        </p:nvSpPr>
        <p:spPr>
          <a:xfrm>
            <a:off x="0" y="609480"/>
            <a:ext cx="66294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9" descr=""/>
          <p:cNvPicPr/>
          <p:nvPr/>
        </p:nvPicPr>
        <p:blipFill>
          <a:blip r:embed="rId1"/>
          <a:stretch/>
        </p:blipFill>
        <p:spPr>
          <a:xfrm>
            <a:off x="271440" y="1406520"/>
            <a:ext cx="8263080" cy="52992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0" y="6629400"/>
            <a:ext cx="5556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MI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0" y="-52560"/>
            <a:ext cx="914400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merging threats to food secu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Domestic production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 far responded to planting decisions based on high prices, but it </a:t>
            </a: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is likely to decline in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914400" y="175248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ional average retail price (coarse r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2819520" y="5181480"/>
            <a:ext cx="4647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ch 2009 on January 2007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+27.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ch 2009 on March 2008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28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 flipV="1">
            <a:off x="0" y="609480"/>
            <a:ext cx="8001000" cy="50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7"/>
          <p:cNvSpPr/>
          <p:nvPr/>
        </p:nvSpPr>
        <p:spPr>
          <a:xfrm>
            <a:off x="228600" y="76320"/>
            <a:ext cx="8915400" cy="66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merging threats to food securit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ice vola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Price volatility damages both </a:t>
            </a: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consumers and produ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Low world food price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ood for consumers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declining profitability likely to hav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egative effect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on levels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reduced global production likely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rive world prices up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mpetitiveness of domestic production declines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as lower world fuel/fertilizer prices cannot be fully reflected domestically due to subsi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lobal economic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Reduced exports and remittances affect Banglades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come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employment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iscal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Lower economic grow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creases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5"/>
          <p:cNvSpPr/>
          <p:nvPr/>
        </p:nvSpPr>
        <p:spPr>
          <a:xfrm>
            <a:off x="0" y="743040"/>
            <a:ext cx="7848720" cy="19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7"/>
          <p:cNvSpPr/>
          <p:nvPr/>
        </p:nvSpPr>
        <p:spPr>
          <a:xfrm>
            <a:off x="457200" y="2286000"/>
            <a:ext cx="990720" cy="457200"/>
          </a:xfrm>
          <a:prstGeom prst="pi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8"/>
          <p:cNvSpPr/>
          <p:nvPr/>
        </p:nvSpPr>
        <p:spPr>
          <a:xfrm>
            <a:off x="457200" y="3657600"/>
            <a:ext cx="990720" cy="457200"/>
          </a:xfrm>
          <a:prstGeom prst="pi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8"/>
          <p:cNvSpPr/>
          <p:nvPr/>
        </p:nvSpPr>
        <p:spPr>
          <a:xfrm>
            <a:off x="457200" y="2971800"/>
            <a:ext cx="990720" cy="457200"/>
          </a:xfrm>
          <a:prstGeom prst="pi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le of agriculture for food security in B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otors of economic grow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Banglades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por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ented industry (gar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mittanc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rom migrant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gricult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related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 to focus on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gricultural grow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cause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key role fo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vailabilit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upplier of food)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cc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source of livelihood, employment and growth) an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utri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diversified production for a balanced di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o-po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benefits of growth are better distribu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alanc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ur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urb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as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During global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inancial cris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n act a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tabiliz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it is less dependent on foreign demand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5"/>
          <p:cNvSpPr/>
          <p:nvPr/>
        </p:nvSpPr>
        <p:spPr>
          <a:xfrm>
            <a:off x="0" y="762120"/>
            <a:ext cx="87631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7"/>
          <p:cNvSpPr/>
          <p:nvPr/>
        </p:nvSpPr>
        <p:spPr>
          <a:xfrm>
            <a:off x="0" y="7632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gricultural growth for FS: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4 Key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0" y="1084320"/>
            <a:ext cx="9144000" cy="51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tensificatio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stain rice production to release land and water needed for diversifying. Requires a technological breakthrough, timely access to in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iversificatio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celerate rural development, growth  and diversification of  supply and consumption. Requires enhanced farmers’ integration into the market (credit, marketing, farmers’ coordination, market regulations, etc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stainability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rve and expand the natural resource base (land and water). Requires investments, regulations, and new technologies that are affordable and encourage environment friendly farming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silienc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stand natural calamities and climate change (early warning systems, adaptation, infrastructure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5"/>
          <p:cNvSpPr/>
          <p:nvPr/>
        </p:nvSpPr>
        <p:spPr>
          <a:xfrm flipH="1">
            <a:off x="-360" y="685800"/>
            <a:ext cx="8534520" cy="46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676160" y="2027160"/>
            <a:ext cx="563868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THANKS !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ood prices: long run global persp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28600" y="6858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icultural commodity price spikes are common, b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usually limited to few commod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 for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hort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an low p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04920" y="1766880"/>
            <a:ext cx="1371600" cy="366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"/>
          <p:cNvSpPr/>
          <p:nvPr/>
        </p:nvSpPr>
        <p:spPr>
          <a:xfrm flipV="1">
            <a:off x="0" y="633240"/>
            <a:ext cx="8610480" cy="525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1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2"/>
          <p:cNvSpPr/>
          <p:nvPr/>
        </p:nvSpPr>
        <p:spPr>
          <a:xfrm>
            <a:off x="1907640" y="1905120"/>
            <a:ext cx="560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LY FOOD PRICE INDICES (2002-2004=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More recent trends in cereal p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152280" y="739800"/>
            <a:ext cx="853452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prices have declined since mid 2008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now close to the pre-price hike levels for maize and wheat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ut substantially above for 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"/>
          <p:cNvPicPr/>
          <p:nvPr/>
        </p:nvPicPr>
        <p:blipFill>
          <a:blip r:embed="rId1"/>
          <a:stretch/>
        </p:blipFill>
        <p:spPr>
          <a:xfrm>
            <a:off x="61920" y="1932120"/>
            <a:ext cx="4800600" cy="47178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8"/>
          <p:cNvSpPr/>
          <p:nvPr/>
        </p:nvSpPr>
        <p:spPr>
          <a:xfrm>
            <a:off x="0" y="662940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FA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3" descr="RiExpPr_0309"/>
          <p:cNvPicPr/>
          <p:nvPr/>
        </p:nvPicPr>
        <p:blipFill>
          <a:blip r:embed="rId2"/>
          <a:stretch/>
        </p:blipFill>
        <p:spPr>
          <a:xfrm>
            <a:off x="4911840" y="1957320"/>
            <a:ext cx="4155840" cy="4672080"/>
          </a:xfrm>
          <a:prstGeom prst="rect">
            <a:avLst/>
          </a:prstGeom>
          <a:ln w="0">
            <a:noFill/>
          </a:ln>
        </p:spPr>
      </p:pic>
      <p:sp>
        <p:nvSpPr>
          <p:cNvPr id="70" name="Line 5"/>
          <p:cNvSpPr/>
          <p:nvPr/>
        </p:nvSpPr>
        <p:spPr>
          <a:xfrm flipV="1">
            <a:off x="0" y="633240"/>
            <a:ext cx="8610480" cy="525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371600" y="2514600"/>
            <a:ext cx="3809880" cy="26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DEMAND sid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culative dem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come  &amp; consumption in developing econom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io-fuels profitability &amp; poli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228600" y="782640"/>
            <a:ext cx="8610480" cy="14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Global </a:t>
            </a:r>
            <a:r>
              <a:rPr b="1" lang="it-IT" sz="2000" spc="-1" strike="noStrike">
                <a:solidFill>
                  <a:srgbClr val="0000ff"/>
                </a:solidFill>
                <a:latin typeface="Arial"/>
              </a:rPr>
              <a:t>economic trends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cluding oil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Financial marke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US$ exchange rate, speculation on commod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olici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main producing countries and don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lobal warm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increased climatic instability and calam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181480" y="2514600"/>
            <a:ext cx="396252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UPPLY side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arvests’ fail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duction c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port restri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ricultural invest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0" y="-1584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Determinants of price volat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AutoShape 6"/>
          <p:cNvCxnSpPr/>
          <p:nvPr/>
        </p:nvCxnSpPr>
        <p:spPr>
          <a:xfrm flipH="1" flipV="1" rot="10800000">
            <a:off x="304560" y="1522800"/>
            <a:ext cx="1753200" cy="1024920"/>
          </a:xfrm>
          <a:prstGeom prst="curvedConnector5">
            <a:avLst>
              <a:gd name="adj1" fmla="val -13021"/>
              <a:gd name="adj2" fmla="val 50000"/>
              <a:gd name="adj3" fmla="val -13021"/>
            </a:avLst>
          </a:prstGeom>
          <a:ln w="127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AutoShape 7"/>
          <p:cNvCxnSpPr>
            <a:stCxn id="72" idx="3"/>
          </p:cNvCxnSpPr>
          <p:nvPr/>
        </p:nvCxnSpPr>
        <p:spPr>
          <a:xfrm flipH="1">
            <a:off x="8228880" y="1490400"/>
            <a:ext cx="610200" cy="1253160"/>
          </a:xfrm>
          <a:prstGeom prst="curvedConnector5">
            <a:avLst>
              <a:gd name="adj1" fmla="val -37485"/>
              <a:gd name="adj2" fmla="val 39109"/>
              <a:gd name="adj3" fmla="val -37485"/>
            </a:avLst>
          </a:prstGeom>
          <a:ln w="127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TextBox 41"/>
          <p:cNvSpPr/>
          <p:nvPr/>
        </p:nvSpPr>
        <p:spPr>
          <a:xfrm>
            <a:off x="0" y="5397480"/>
            <a:ext cx="91440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Global food stocks depletion recently reverted: sustaina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Are “beggar thy neighbors” policies going to la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300" spc="-1" strike="noStrike">
                <a:solidFill>
                  <a:srgbClr val="ff0000"/>
                </a:solidFill>
                <a:latin typeface="Arial"/>
                <a:ea typeface="Arial"/>
              </a:rPr>
              <a:t>Agricultural investment &amp; policies will determine future tren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4"/>
          <p:cNvSpPr/>
          <p:nvPr/>
        </p:nvSpPr>
        <p:spPr>
          <a:xfrm>
            <a:off x="0" y="2905200"/>
            <a:ext cx="13716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  <a:ea typeface="Arial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  <a:ea typeface="Arial"/>
              </a:rPr>
              <a:t>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  <a:ea typeface="Arial"/>
              </a:rPr>
              <a:t>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  <a:ea typeface="Arial"/>
              </a:rPr>
              <a:t>L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Straight Arrow Connector 51"/>
          <p:cNvCxnSpPr/>
          <p:nvPr/>
        </p:nvCxnSpPr>
        <p:spPr>
          <a:xfrm flipH="1">
            <a:off x="1293480" y="2971800"/>
            <a:ext cx="2160" cy="19832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0" name="Line 5"/>
          <p:cNvSpPr/>
          <p:nvPr/>
        </p:nvSpPr>
        <p:spPr>
          <a:xfrm flipV="1">
            <a:off x="0" y="633240"/>
            <a:ext cx="8610480" cy="525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888840" y="1143000"/>
            <a:ext cx="7589880" cy="56815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762120" y="64008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FA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0" y="14400"/>
            <a:ext cx="91440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Food prices IMPACTS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 ON WELFA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gladesh and Vietnam, rural and urb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0" y="4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Food Security in BGD: Undernourishment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0" y="65530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ource: BBS; Absolute poor &lt; 2122 kcal/day: Hard core poor &lt; 1805 kcal/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304920" y="727200"/>
            <a:ext cx="883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Long term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ncouraging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 trend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reverted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 by 2007/08 cr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FAO/WFP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estimated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impact of food crisi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People consuming &lt; 2,122 kcal/day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+ 7.5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People consuming &lt; 1,805 kcal/day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+ 6.9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"/>
          <p:cNvSpPr/>
          <p:nvPr/>
        </p:nvSpPr>
        <p:spPr>
          <a:xfrm>
            <a:off x="0" y="609480"/>
            <a:ext cx="7315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9" descr=""/>
          <p:cNvPicPr/>
          <p:nvPr/>
        </p:nvPicPr>
        <p:blipFill>
          <a:blip r:embed="rId1"/>
          <a:stretch/>
        </p:blipFill>
        <p:spPr>
          <a:xfrm>
            <a:off x="0" y="2311560"/>
            <a:ext cx="914400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73" descr=""/>
          <p:cNvPicPr/>
          <p:nvPr/>
        </p:nvPicPr>
        <p:blipFill>
          <a:blip r:embed="rId1"/>
          <a:stretch/>
        </p:blipFill>
        <p:spPr>
          <a:xfrm>
            <a:off x="109440" y="1676520"/>
            <a:ext cx="8882280" cy="5013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"/>
          <p:cNvSpPr/>
          <p:nvPr/>
        </p:nvSpPr>
        <p:spPr>
          <a:xfrm>
            <a:off x="0" y="-460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Food Security: underweight and st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9"/>
          <p:cNvSpPr/>
          <p:nvPr/>
        </p:nvSpPr>
        <p:spPr>
          <a:xfrm>
            <a:off x="228600" y="655308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 data NIPORT-BDHS; Other years: HKI/IPHN-N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304920" y="609480"/>
            <a:ext cx="883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ff"/>
                </a:solidFill>
                <a:latin typeface="Arial"/>
              </a:rPr>
              <a:t>Estimated impacts of price increase from 2006 to 2008 September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0000ff"/>
                </a:solidFill>
                <a:latin typeface="Arial"/>
              </a:rPr>
              <a:t>Wasting  (W/H)</a:t>
            </a:r>
            <a:r>
              <a:rPr b="0" lang="it-IT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ff0000"/>
                </a:solidFill>
                <a:latin typeface="Arial"/>
              </a:rPr>
              <a:t>+ 49.7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200" spc="-1" strike="noStrike">
                <a:solidFill>
                  <a:srgbClr val="0000ff"/>
                </a:solidFill>
                <a:latin typeface="Arial"/>
              </a:rPr>
              <a:t>Underweight  (W/A)</a:t>
            </a:r>
            <a:r>
              <a:rPr b="0" lang="it-IT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ff0000"/>
                </a:solidFill>
                <a:latin typeface="Arial"/>
              </a:rPr>
              <a:t>+ 23.1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5334120" y="13381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ff"/>
                </a:solidFill>
                <a:latin typeface="Arial"/>
              </a:rPr>
              <a:t>(BRAC-RED, 200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5"/>
          <p:cNvSpPr/>
          <p:nvPr/>
        </p:nvSpPr>
        <p:spPr>
          <a:xfrm>
            <a:off x="6477120" y="1828800"/>
            <a:ext cx="2666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41"/>
          <p:cNvSpPr/>
          <p:nvPr/>
        </p:nvSpPr>
        <p:spPr>
          <a:xfrm>
            <a:off x="6781680" y="220968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715000" y="1981080"/>
          <a:ext cx="3048120" cy="1189080"/>
        </p:xfrm>
        <a:graphic>
          <a:graphicData uri="http://schemas.openxmlformats.org/drawingml/2006/table">
            <a:tbl>
              <a:tblPr/>
              <a:tblGrid>
                <a:gridCol w="2297160"/>
                <a:gridCol w="75096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tunting (H/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Underwe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Line 5"/>
          <p:cNvSpPr/>
          <p:nvPr/>
        </p:nvSpPr>
        <p:spPr>
          <a:xfrm>
            <a:off x="0" y="609480"/>
            <a:ext cx="7315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angladesh: long term persp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0" y="5562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0" y="6553080"/>
            <a:ext cx="8175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DAM; the prices are deflated by the general CPI obtained from BBS.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52280" y="838080"/>
            <a:ext cx="891540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year price decline reverted twice in less than 2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Price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volatility </a:t>
            </a: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damages both produces and 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4800600" y="198108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ce real national wholesale p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"/>
          <p:cNvPicPr/>
          <p:nvPr/>
        </p:nvPicPr>
        <p:blipFill>
          <a:blip r:embed="rId1"/>
          <a:stretch/>
        </p:blipFill>
        <p:spPr>
          <a:xfrm>
            <a:off x="76320" y="1592280"/>
            <a:ext cx="9067680" cy="50371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5486400" y="220968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ic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 national wholesale p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"/>
          <p:cNvSpPr/>
          <p:nvPr/>
        </p:nvSpPr>
        <p:spPr>
          <a:xfrm>
            <a:off x="0" y="685800"/>
            <a:ext cx="7315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02:58:03Z</dcterms:created>
  <dc:creator>mjacortijo</dc:creator>
  <dc:description/>
  <dc:language>en-US</dc:language>
  <cp:lastModifiedBy>owner</cp:lastModifiedBy>
  <dcterms:modified xsi:type="dcterms:W3CDTF">2009-04-13T06:54:25Z</dcterms:modified>
  <cp:revision>210</cp:revision>
  <dc:subject/>
  <dc:title>The food situation in Bangladesh</dc:title>
</cp:coreProperties>
</file>