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1C70-9D97-4500-8735-7D567C1B017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BE6-C299-4E53-92B1-12DAB8A7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78B-9662-4C9C-BF39-63DEBF97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665-DFA8-4967-A78E-2FE6E24F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4BE-FB1D-49D8-9B93-9CB126FF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C18D-FC1F-4A99-BA31-876E3316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5429-1C6E-4579-8FA2-7BD1AC83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CE89-940F-47F6-AB07-657F5BD8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AF2D-1877-431F-AAD9-A5902FF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8051-D34B-4A76-9581-5AC8C339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E12C-CAB5-40CF-9B10-D383E149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FCE0-8272-43AB-B2E6-C9BE951E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6FA-B3C3-42DE-A43A-7882852C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E453-2DF4-4460-B5E1-FADDDF0D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6622-362B-472E-8A0D-2C161D56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62CC-AA6D-491F-B6D0-B26E7413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C4BF-C8C0-4475-ABFC-B6B62C31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BF46-00BA-46E3-8C51-11845517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336-33B2-4C48-B2E4-C21F7855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53A-0B54-47C4-BDA7-F38D2F8A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E64-17F5-4F24-A2FA-030F51E1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CF2-D38C-48C5-BA6E-B7E2A593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15E-CAC3-41DB-81E1-7F79CA9F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47C-1C21-4989-BD5F-187EFD15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9A4-9BF5-4108-B2E3-C1918D1B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05E-B7B6-4DED-B364-781DB295B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D198-0DD7-485F-AB88-CEA1A4B89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7320" y="-360"/>
            <a:ext cx="8789760" cy="11430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treme Poverty in Banglades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12193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ook Antiqua"/>
                <a:ea typeface="Arial Unicode MS"/>
              </a:rPr>
              <a:t>69 million people are hung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40-45% people live below the Food Poverty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ok Antiqua"/>
                <a:ea typeface="Arial Unicode MS"/>
              </a:rPr>
              <a:t>Spend 70 percent of their household income on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Arial Unicode MS"/>
              </a:rPr>
              <a:t>28 million people “ultra po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cc"/>
                </a:solidFill>
                <a:latin typeface="Book Antiqua"/>
                <a:ea typeface="Arial Unicode MS"/>
              </a:rPr>
              <a:t>Have no As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cc"/>
                </a:solidFill>
                <a:latin typeface="Book Antiqua"/>
                <a:ea typeface="Arial Unicode MS"/>
              </a:rPr>
              <a:t>Consume 1800 Kcl against 2100 per 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Arial Unicode MS"/>
              </a:rPr>
              <a:t>Suffer from Chronic Food in Security &amp; Malnutr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Arial Unicode MS"/>
              </a:rPr>
              <a:t>Deficit in Vit &amp; Mine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cial Development, Human Rights &amp; Legal Servic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-3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Awareness Raising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Community mobilization</a:t>
            </a:r>
            <a:r>
              <a:rPr b="1" lang="en-US" sz="32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, Social protection and Security through Gram Daridra Bimochan Committee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Confidence Building Train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Training imparted on legal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Palli Samaj/Union Samaj/Popular thea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Capacity Development of Union Parish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imes New Roman"/>
              </a:rPr>
              <a:t>Gram Daridra Bimochan Committee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04920" y="761760"/>
            <a:ext cx="84801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DBC works as social service provider to the ultra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DBC meets once a month and  creates a fund f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eatmen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inancial help for educ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istance provision during natural disasters / House construction and repai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itigation of water and sanitation problems for the Ultra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DBC will work for at least two years on behalf of the ultra poor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ssential Health C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Health Awareness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inancial Support for mild and Severe morbid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nsuring treatment through Govt / Non Govt. resource and panel D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nsuring sanitation and saf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nsuring Ante natal care, Immunization and Deworm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 of Acute Respiratory Infec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search and Advocac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6640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ar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 solid evidence of 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te robust and credible analysis of 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 urgent program needs by conducting rapid assessments of various issues of concern for effective program 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ing knowledge by conducting research on questions that transcend the programmatic aspects of CFPR and contribute towards deeper knowledge on extreme poverty, its reproduction and manifes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ocacy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Create wider awareness about the ultra poor.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bilize and motivate people within communities to act in favor of the poor and the ultra poor.</a:t>
            </a:r>
            <a:br>
              <a:rPr sz="2800"/>
            </a:br>
            <a:r>
              <a:rPr b="1" lang="en-US" sz="2800" spc="-1" strike="noStrike">
                <a:solidFill>
                  <a:srgbClr val="ff4568"/>
                </a:solidFill>
                <a:latin typeface="Times New Roman"/>
                <a:ea typeface="Times New Roman"/>
              </a:rPr>
              <a:t>Create a pro-poor environment which will enable CFPR program intervention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se awareness about the rights of poor women  and the socio political constraints they currently face</a:t>
            </a:r>
            <a:br>
              <a:rPr sz="2800"/>
            </a:b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Motivate officials, representatives, and civil society actors to ensure the poor and the ultra poor gain access to services to which they are entitled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raduation Criteri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Has at least three income 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Can afford at least two meals a 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ll school aged children of the household are attending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usehold has a sanitary lat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Household drinks saf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gardening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at available space in homestead, four fruit trees, the household grows appropriate vegetables on the roof, and household grows chilies and lem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ligible couples have adopted family planning.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Book Antiqua"/>
              </a:rPr>
              <a:t>The Graduated Ultra Poor (Phase 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 Graduated: 10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ssion: 99.8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r 9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rower 5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SB Tk: 1376,23,706  (USD: 2.009 mill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. Loan size: Tk: 5,608 ( USD 8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ase II ( 2007-201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: Specially Targeted Ultra Poor: 367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argeted Ultra Poor      : 500,00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Learning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tra poor are heterogeneous gro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tra poor households need a comprehensive package of support to lead them from ultra poverty to a much better pos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 participation/mobilization is very critical to address the needs of ultra p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ilor made health support to stop income erosion is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sive individualized interaction and regular follow-up is ess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legal and social awareness is necessary to access to resources, bargain, claim for entitlement and social jus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nership with different stakeholders such as civil society, NGOs, professionals groups, Government and local government bodies is key to sustainable behavioral chan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Book Antiqua"/>
                <a:ea typeface="Arial Unicode MS"/>
              </a:rPr>
              <a:t>Why Are they Poor ??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28560" y="1466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Extreme and Erratic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568"/>
                </a:solidFill>
                <a:latin typeface="Book Antiqua"/>
                <a:ea typeface="Arial Unicode MS"/>
              </a:rPr>
              <a:t>Frequent  Emergencies/ Natural disasters</a:t>
            </a:r>
            <a:r>
              <a:rPr b="1" lang="en-US" sz="2800" spc="-1" strike="noStrike">
                <a:solidFill>
                  <a:srgbClr val="ff4568"/>
                </a:solidFill>
                <a:latin typeface="Verdana"/>
                <a:ea typeface="Arial Unicode MS"/>
              </a:rPr>
              <a:t>/</a:t>
            </a:r>
            <a:r>
              <a:rPr b="0" lang="en-US" sz="2800" spc="-1" strike="noStrike">
                <a:solidFill>
                  <a:srgbClr val="ff4568"/>
                </a:solidFill>
                <a:latin typeface="Verdana"/>
                <a:ea typeface="Arial Unicode MS"/>
              </a:rPr>
              <a:t>Ero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Book Antiqua"/>
                <a:ea typeface="Times New Roman"/>
              </a:rPr>
              <a:t>Farmers are ejected out a livelihood on small and fragmented pl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ok Antiqua"/>
                <a:ea typeface="Times New Roman"/>
              </a:rPr>
              <a:t>Enormous population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ok Antiqua"/>
                <a:ea typeface="Times New Roman"/>
              </a:rPr>
              <a:t>Pressure on environment / 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Aggravate sit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ck of services in rural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9 percent rural households have 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llenging The Frontier of Poverty Reduction (CFPR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RAC Ultra Poor Progra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1760" y="2971440"/>
            <a:ext cx="7848360" cy="2590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ive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bring about sustainable improvements in the lives of the Specially Targeted Ultra Po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05920"/>
            <a:ext cx="762012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ecific Eligibility Criteria for Specially Targeted Ultra Po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" y="1676160"/>
            <a:ext cx="90108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usehold depends upon female domestic work or begg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s less than 10 decimals of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ale adult active members in the house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school going age have to take paid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ductive assets in the house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lection Process of TU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90080" y="1180800"/>
            <a:ext cx="8744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ruitment of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ientation on TUP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raining on PRA Techniques and Approach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on Beneficiary S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Listing of villages with high frequency of ultra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Ultra poor identification through wealth ranking exerc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erification-cross checking through door to door surv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Preliminary selection by matching selection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"/>
                <a:ea typeface="Times New Roman"/>
              </a:rPr>
              <a:t>Finalization of list through re-verification by the senior management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gram Interven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TUP 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 D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et Transfer (Tk: 10,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ip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ff Ratio: 1: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Subs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UP 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E D 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sset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(Tk. 6,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tip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taff Ratio: 1:1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Health Subs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1371600"/>
            <a:ext cx="4572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Health Subsid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</a:rPr>
              <a:t>SD Suppor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6094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568"/>
                </a:solidFill>
                <a:latin typeface="Times New Roman"/>
              </a:rPr>
              <a:t>OTUP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oft Lo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Stip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ff Ratio 1: 2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Subs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S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OTUP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E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oan from BRAC M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Times New Roman"/>
              </a:rPr>
              <a:t>Staff Ratio 1: 3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alth Subs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gram Compon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Investment Program (SI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ion of Enterp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prise Development  Training 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fres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Participants each batc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6 days course depending on Enterprise category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 members receive hands on training for 24 month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Economic Development through Asset Transfer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sset procurement / House extensi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sset transfer / Technical suppor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f00ff"/>
                </a:solidFill>
                <a:latin typeface="Arial Narrow"/>
                <a:ea typeface="Times New Roman"/>
              </a:rPr>
              <a:t>Follow Up (through weekly home visit for 24 month)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Produce Economic development in the household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Ensure technical support for enterprise 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development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Ensuring health and social practices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 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Problem identification / solution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Increasing level of confidence</a:t>
            </a:r>
            <a:br>
              <a:rPr sz="2800"/>
            </a:br>
            <a:r>
              <a:rPr b="1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        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ff33"/>
                </a:solidFill>
                <a:latin typeface="Arial Narrow"/>
                <a:ea typeface="Times New Roman"/>
              </a:rPr>
              <a:t>Education on Future Planning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5:48:12Z</dcterms:created>
  <dc:creator>BRAC</dc:creator>
  <dc:description/>
  <dc:language>en-US</dc:language>
  <cp:lastModifiedBy>BRAC</cp:lastModifiedBy>
  <dcterms:modified xsi:type="dcterms:W3CDTF">2009-04-26T09:43:13Z</dcterms:modified>
  <cp:revision>122</cp:revision>
  <dc:subject/>
  <dc:title>Extreme Poverty in Bangladesh </dc:title>
</cp:coreProperties>
</file>