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B88D-EC7E-420E-986E-63391D38F0E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F9A-66E6-4D41-9B2F-D3AE9D87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9DF-A5F6-48B9-AF4A-D5AB1910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D4A-1675-422C-9E86-ECB0980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F2E-D637-4834-966A-23E2DD7A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66C-78CA-4FE6-A73C-D8D625BD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1738-026D-4C56-9D98-E5805CF1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1130-F89B-4375-BEBA-E863202C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15D3-0405-4349-9183-B32E9ABA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517-0009-46F7-945F-2AF9F2B8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B427-AC62-4C04-A750-D6BB66BE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5324-A244-4620-9B8F-28DBC01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F10-8866-4594-9524-CDC7BE8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178B-9838-49FE-8AB4-5741499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0B39-45E4-4883-817E-BF717FE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CA0-6B9D-4C34-B79E-63799D9E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7377-3950-4D7D-B3CD-09190BAE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8FCC-C900-49F0-B497-44205D69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211-5229-4C40-84F3-3BB7DA2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4A8-134A-4A48-AD7E-9E08D97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30A-F75F-467E-B690-0FCDB4E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569-05BA-4D54-8128-AAAEF7D1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73D-95DD-4B06-8C43-0E7001DC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A42-A5B3-4305-8E29-837EEA7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CCC-6FDF-4463-9400-C6EF6E0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636-4AB9-4174-8A39-220B22E0C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14DE-8B09-4A31-A81D-2C9AFED69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320" y="-360"/>
            <a:ext cx="8789760" cy="1143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treme Poverty in Banglades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ook Antiqua"/>
                <a:ea typeface="Arial Unicode MS"/>
              </a:rPr>
              <a:t>69 million people are hung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40-45% people live below the Food Poverty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Arial Unicode MS"/>
              </a:rPr>
              <a:t>Spend 70 percent of their household income on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Arial Unicode MS"/>
              </a:rPr>
              <a:t>28 million people “ultra po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Book Antiqua"/>
                <a:ea typeface="Arial Unicode MS"/>
              </a:rPr>
              <a:t>Have no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Book Antiqua"/>
                <a:ea typeface="Arial Unicode MS"/>
              </a:rPr>
              <a:t>Consume 1800 Kcl against 2100 per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Arial Unicode MS"/>
              </a:rPr>
              <a:t>Suffer from Chronic Food in Security &amp; Malnutr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Arial Unicode MS"/>
              </a:rPr>
              <a:t>Deficit in Vit &amp; Min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cial Development, Human Rights &amp; Legal Servic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Awareness Raising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Community mobilization</a:t>
            </a:r>
            <a:r>
              <a:rPr b="1" lang="en-US" sz="32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, Social protection and Security through Gram Daridra Bimochan Committe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Confidence Building Trai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raining imparted on leg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Palli Samaj/Union Samaj/Popular thea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Capacity Development of Union Parish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Gram Daridra Bimochan Committe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480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DBC works as social service provider to the ultra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DBC meets once a month and  creates a fund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eatm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nancial help for edu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stance provision during natural disasters / House construction and repa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itigation of water and sanitation problems for the Ultra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DBC will work for at least two years on behalf of the ultra poor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ssential Health C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ealth Awareness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inancial Support for mild and Severe morb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nsuring treatment through Govt / Non Govt. resource and panel D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nsuring sanitation and saf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nsuring Ante natal care, Immunization and Deworm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Acute Respiratory Inf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earch and Advocac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6640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solid evidence of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 robust and credible analysis of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 urgent program needs by conducting rapid assessments of various issues of concern for effective program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ing knowledge by conducting research on questions that transcend the programmatic aspects of CFPR and contribute towards deeper knowledge on extreme poverty, its reproduction and manifes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ocacy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Create wider awareness about the ultra poor.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bilize and motivate people within communities to act in favor of the poor and the ultra poor.</a:t>
            </a:r>
            <a:br>
              <a:rPr sz="2800"/>
            </a:br>
            <a:r>
              <a:rPr b="1" lang="en-US" sz="2800" spc="-1" strike="noStrike">
                <a:solidFill>
                  <a:srgbClr val="ff4568"/>
                </a:solidFill>
                <a:latin typeface="Times New Roman"/>
                <a:ea typeface="Times New Roman"/>
              </a:rPr>
              <a:t>Create a pro-poor environment which will enable CFPR program interventio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 awareness about the rights of poor women  and the socio political constraints they currently face</a:t>
            </a:r>
            <a:br>
              <a:rPr sz="2800"/>
            </a:b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Motivate officials, representatives, and civil society actors to ensure the poor and the ultra poor gain access to services to which they are entitled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duation Criteri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Has at least three income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an afford at least two meals a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ll school aged children of the household are attending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usehold has a sanitary lat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Household drinks saf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garden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t available space in homestead, four fruit trees, the household grows appropriate vegetables on the roof, and household grows chilies and lem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ligible couples have adopted family planning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Book Antiqua"/>
              </a:rPr>
              <a:t>The Graduated Ultra Poor (Phase 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 Graduated: 1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ssion: 99.8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r 9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rower 5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SB Tk: 1376,23,706  (USD: 2.009 mill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. Loan size: Tk: 5,608 ( USD 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ase II ( 2007-20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: Specially Targeted Ultra Poor: 367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argeted Ultra Poor      : 500,0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Learnin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a poor are heterogeneous gro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a poor households need a comprehensive package of support to lead them from ultra poverty to a much better 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participation/mobilization is very critical to address the needs of ultra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ilor made health support to stop income erosion i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ive individualized interaction and regular follow-up is ess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legal and social awareness is necessary to access to resources, bargain, claim for entitlement and social jus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nership with different stakeholders such as civil society, NGOs, professionals groups, Government and local government bodies is key to sustainable behavioral chan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Book Antiqua"/>
                <a:ea typeface="Arial Unicode MS"/>
              </a:rPr>
              <a:t>Why Are they Poor ??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28560" y="1466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Extreme and Erratic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68"/>
                </a:solidFill>
                <a:latin typeface="Book Antiqua"/>
                <a:ea typeface="Arial Unicode MS"/>
              </a:rPr>
              <a:t>Frequent  Emergencies/ Natural disasters</a:t>
            </a:r>
            <a:r>
              <a:rPr b="1" lang="en-US" sz="2800" spc="-1" strike="noStrike">
                <a:solidFill>
                  <a:srgbClr val="ff4568"/>
                </a:solidFill>
                <a:latin typeface="Verdana"/>
                <a:ea typeface="Arial Unicode MS"/>
              </a:rPr>
              <a:t>/</a:t>
            </a:r>
            <a:r>
              <a:rPr b="0" lang="en-US" sz="2800" spc="-1" strike="noStrike">
                <a:solidFill>
                  <a:srgbClr val="ff4568"/>
                </a:solidFill>
                <a:latin typeface="Verdana"/>
                <a:ea typeface="Arial Unicode MS"/>
              </a:rPr>
              <a:t>Ero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Book Antiqua"/>
                <a:ea typeface="Times New Roman"/>
              </a:rPr>
              <a:t>Farmers are ejected out a livelihood on small and fragmented pl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Times New Roman"/>
              </a:rPr>
              <a:t>Enormous population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Times New Roman"/>
              </a:rPr>
              <a:t>Pressure on environment /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ggravate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ck of services in rural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 percent rural households have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llenging The Frontier of Poverty Reduction (CFPR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AC Ultra Poor Progra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1760" y="2971440"/>
            <a:ext cx="7848360" cy="2590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bring about sustainable improvements in the lives of the Specially Targeted Ultra Po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05920"/>
            <a:ext cx="7620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ecific Eligibility Criteria for Specially Targeted Ultra Po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" y="1676160"/>
            <a:ext cx="9010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usehold depends upon female domestic work or begg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s less than 10 decimals of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le adult active members in the house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school going age have to take paid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ductive assets in the house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lection Process of T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080" y="1180800"/>
            <a:ext cx="8744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uitment of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ientation on TUP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raining on PRA Techniques and Approach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Beneficiary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Listing of villages with high frequency of ultra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Ultra poor identification through wealth ranking exer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erification-cross checking through door to door sur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Preliminary selection by matching selection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"/>
                <a:ea typeface="Times New Roman"/>
              </a:rPr>
              <a:t>Finalization of list through re-verification by the senior managemen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gram Inter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TUP 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 D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t Transfer (Tk: 10,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ff Ratio: 1: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UP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E D 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sset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(Tk. 6,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ti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taff Ratio: 1: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1371600"/>
            <a:ext cx="4572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Health Subsid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D Suppo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6094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OTUP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oft Lo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Sti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ff Ratio 1: 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OTUP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E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oan from BRAC 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Staff Ratio 1: 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gram Compon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Investment Program (SI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on of Enter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prise Development  Training 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fre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Participants each batc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6 days course depending on Enterprise category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 members receive hands on training for 24 month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Economic Development through Asset Transfe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sset procurement / House extens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sset transfer / Technical suppor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Follow Up (through weekly home visit for 24 month)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Produce Economic development in the household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Ensure technical support for enterprise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development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Ensuring health and social practices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Problem identification / solution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Increasing level of confidence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Education on Future Plann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5:48:12Z</dcterms:created>
  <dc:creator>BRAC</dc:creator>
  <dc:description/>
  <dc:language>en-US</dc:language>
  <cp:lastModifiedBy>BRAC</cp:lastModifiedBy>
  <dcterms:modified xsi:type="dcterms:W3CDTF">2009-04-26T09:43:13Z</dcterms:modified>
  <cp:revision>122</cp:revision>
  <dc:subject/>
  <dc:title>Extreme Poverty in Bangladesh </dc:title>
</cp:coreProperties>
</file>