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710-410D-4D50-BB55-966A30617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CCB4-372D-48CA-AE41-3DCAA0FAA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6A42-0FC2-4305-A7A0-D3C05F367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136-E3BC-4718-B217-60D6CA58F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143B-0039-4ACF-895D-E2FE33FB8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bedded in  a context of risk…hence vulner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ok at quality, diversity, healthy and a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0B09-6DCF-4FFA-A842-885A116C7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7A2-8395-434B-A94C-80B8DF1D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1F1-1E90-4B4B-AB0E-B2F0EDF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7CE-AF9A-4A9B-9C2C-8BC0AAF5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2F9-4F7C-4265-852C-52E18E4D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9C4F-98D2-41C6-BA74-5DAEB6109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BB63-025C-46E2-BB75-D9A1D73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6E1C-47A2-48DC-8262-83A730F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377F-424B-4210-AB85-014E58F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F0C4-66AA-4081-8EC3-8EF4E23A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531F-D520-4014-8250-DD62679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D3B4A-83B9-44F5-8283-4AE394A1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E95-2FC5-4F60-AE1D-9755B12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A2B5F-9118-4505-942C-616CCFD1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BF8AE-329D-4E76-805F-243E0A84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0080A-2BB8-4DEA-80E6-9860498A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A13C-DA1D-4638-A98C-F5760BF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C9F1-6F55-44EC-8B87-E78EF64FC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122A4-AE46-4F6E-993F-BDF778BC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4B943-C4FD-48F4-ACB7-34E891D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51F4F-E023-4D04-B77F-438416A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D1D06-A3B7-4F88-AE53-2DF66A6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2ECD0-1080-489B-A973-6735AE6C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EAF-497D-478F-BC69-220E03B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A2087-A2F2-4B2E-95DC-7BF4373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F8128-6CD0-4DBC-B9FB-496F40F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10F20-C32A-4A44-ADE5-54F2818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B6210-6601-4DBB-AAC5-E98C15E7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4A832-5DAB-40A0-8D16-4B17D03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A424F-9079-458E-83D0-55502553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DAA81-A58E-43A3-8DE5-E562F561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14E97-C856-42B8-ABA4-D047F324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37657-8F1D-4C60-BA97-AC9930B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DED7B-6E12-4B81-99F4-7FFA02B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72D-424D-4E66-A9CC-6A308A2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0B389-C271-456A-9474-7B872677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5680D-5DF7-4348-9493-CA3C525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CA674-27A1-4BD3-B2AD-726B5AE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38BFB-439A-4B73-B864-FB3D113D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327FE-FF34-47A7-AB9F-92CBB70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67EBB-1F34-49CE-8B99-9999720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1E01E-7C1E-4A61-94C5-F12CD09D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B4210-20B9-4E2D-AEEA-9059059F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8CC57-F359-40D9-BBB6-ED8DF9B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FC2-68AD-4DAC-900E-0AF6865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7DE-224D-4898-97C0-55FCA39D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419-95E5-48E2-B5AD-9F2323D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A9F-EDEF-4EA9-A821-1623BE3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ED4-A275-45E1-B31C-E6356ED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3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556920" y="6598800"/>
            <a:ext cx="1904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798280" y="6462720"/>
            <a:ext cx="4978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153280" y="646380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E61-01FF-4660-8DBE-27DCA3714046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ank_master_logo_NO_TRIM"/>
          <p:cNvPicPr/>
          <p:nvPr/>
        </p:nvPicPr>
        <p:blipFill>
          <a:blip r:embed="rId3"/>
          <a:stretch/>
        </p:blipFill>
        <p:spPr>
          <a:xfrm>
            <a:off x="82440" y="5705640"/>
            <a:ext cx="914400" cy="911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0" y="66294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The World Ba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638680" y="6400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388620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9B8C-2651-424A-838E-FC04C154C19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556920" y="6598800"/>
            <a:ext cx="1904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2798280" y="6462720"/>
            <a:ext cx="4978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8153280" y="646380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5FC-23DD-4D47-81E6-7EF8D7D67F28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142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2B43-C161-4B8F-90A2-C8866A6A47C4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38680" y="2362320"/>
            <a:ext cx="2895840" cy="82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ecurity, Agriculture and Nutr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638680" y="46573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Lynn R Brown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April 29</a:t>
            </a:r>
            <a:r>
              <a:rPr b="0" lang="en-US" sz="2400" spc="-1" strike="noStrike" baseline="30000">
                <a:solidFill>
                  <a:srgbClr val="a368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 2009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981080" y="1295280"/>
            <a:ext cx="7162560" cy="5249880"/>
            <a:chOff x="1981080" y="1295280"/>
            <a:chExt cx="7162560" cy="5249880"/>
          </a:xfrm>
        </p:grpSpPr>
        <p:sp>
          <p:nvSpPr>
            <p:cNvPr id="276" name="Rectangle 3"/>
            <p:cNvSpPr/>
            <p:nvPr/>
          </p:nvSpPr>
          <p:spPr>
            <a:xfrm>
              <a:off x="2103120" y="1400760"/>
              <a:ext cx="6894720" cy="5038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"/>
            <p:cNvSpPr/>
            <p:nvPr/>
          </p:nvSpPr>
          <p:spPr>
            <a:xfrm>
              <a:off x="1981080" y="1295280"/>
              <a:ext cx="7162560" cy="524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2103120" y="1400760"/>
              <a:ext cx="6894720" cy="5038200"/>
            </a:xfrm>
            <a:prstGeom prst="rect">
              <a:avLst/>
            </a:prstGeom>
            <a:solidFill>
              <a:srgbClr val="ffdf7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3153960" y="1848240"/>
              <a:ext cx="5623200" cy="267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3153960" y="399492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3153960" y="346356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3153960" y="291060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3153960" y="237924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3153960" y="184824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3153960" y="1848240"/>
              <a:ext cx="5623200" cy="2677680"/>
            </a:xfrm>
            <a:prstGeom prst="rect">
              <a:avLst/>
            </a:prstGeom>
            <a:noFill/>
            <a:ln w="23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>
              <a:off x="3325680" y="2910600"/>
              <a:ext cx="220680" cy="161496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>
              <a:off x="3887640" y="2103120"/>
              <a:ext cx="220680" cy="242280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4449600" y="3229200"/>
              <a:ext cx="220680" cy="129672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5013000" y="2634120"/>
              <a:ext cx="219240" cy="189144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5574960" y="4164120"/>
              <a:ext cx="21924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6136920" y="4271400"/>
              <a:ext cx="220680" cy="25452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>
              <a:off x="6698880" y="4164120"/>
              <a:ext cx="22068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>
              <a:off x="7260840" y="4164120"/>
              <a:ext cx="22068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7822800" y="3696480"/>
              <a:ext cx="220680" cy="829440"/>
            </a:xfrm>
            <a:prstGeom prst="rect">
              <a:avLst/>
            </a:prstGeom>
            <a:solidFill>
              <a:srgbClr val="0099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8386560" y="3399840"/>
              <a:ext cx="218880" cy="1125720"/>
            </a:xfrm>
            <a:prstGeom prst="rect">
              <a:avLst/>
            </a:prstGeom>
            <a:solidFill>
              <a:srgbClr val="3366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3"/>
            <p:cNvSpPr/>
            <p:nvPr/>
          </p:nvSpPr>
          <p:spPr>
            <a:xfrm>
              <a:off x="3153960" y="1848240"/>
              <a:ext cx="1800" cy="267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4"/>
            <p:cNvSpPr/>
            <p:nvPr/>
          </p:nvSpPr>
          <p:spPr>
            <a:xfrm>
              <a:off x="3057120" y="452592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057120" y="399492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6"/>
            <p:cNvSpPr/>
            <p:nvPr/>
          </p:nvSpPr>
          <p:spPr>
            <a:xfrm>
              <a:off x="3057120" y="346356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7"/>
            <p:cNvSpPr/>
            <p:nvPr/>
          </p:nvSpPr>
          <p:spPr>
            <a:xfrm>
              <a:off x="3057120" y="291060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3057120" y="237924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3057120" y="184824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3153960" y="452592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V="1">
              <a:off x="315396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 flipV="1">
              <a:off x="371592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 flipV="1">
              <a:off x="427968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 flipV="1">
              <a:off x="484164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 flipV="1">
              <a:off x="540360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6"/>
            <p:cNvSpPr/>
            <p:nvPr/>
          </p:nvSpPr>
          <p:spPr>
            <a:xfrm flipV="1">
              <a:off x="596556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 flipV="1">
              <a:off x="652752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 flipV="1">
              <a:off x="708948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765324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0"/>
            <p:cNvSpPr/>
            <p:nvPr/>
          </p:nvSpPr>
          <p:spPr>
            <a:xfrm flipV="1">
              <a:off x="821520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1"/>
            <p:cNvSpPr/>
            <p:nvPr/>
          </p:nvSpPr>
          <p:spPr>
            <a:xfrm flipV="1">
              <a:off x="877716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2"/>
            <p:cNvSpPr/>
            <p:nvPr/>
          </p:nvSpPr>
          <p:spPr>
            <a:xfrm>
              <a:off x="2729160" y="435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3"/>
            <p:cNvSpPr/>
            <p:nvPr/>
          </p:nvSpPr>
          <p:spPr>
            <a:xfrm>
              <a:off x="2550600" y="3822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4"/>
            <p:cNvSpPr/>
            <p:nvPr/>
          </p:nvSpPr>
          <p:spPr>
            <a:xfrm>
              <a:off x="2369880" y="329256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5"/>
            <p:cNvSpPr/>
            <p:nvPr/>
          </p:nvSpPr>
          <p:spPr>
            <a:xfrm>
              <a:off x="2369880" y="27414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6"/>
            <p:cNvSpPr/>
            <p:nvPr/>
          </p:nvSpPr>
          <p:spPr>
            <a:xfrm>
              <a:off x="2369880" y="2208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7"/>
            <p:cNvSpPr/>
            <p:nvPr/>
          </p:nvSpPr>
          <p:spPr>
            <a:xfrm>
              <a:off x="2369880" y="1677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8"/>
            <p:cNvSpPr/>
            <p:nvPr/>
          </p:nvSpPr>
          <p:spPr>
            <a:xfrm rot="16200000">
              <a:off x="3098520" y="479916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9"/>
            <p:cNvSpPr/>
            <p:nvPr/>
          </p:nvSpPr>
          <p:spPr>
            <a:xfrm rot="16200000">
              <a:off x="3413880" y="5051520"/>
              <a:ext cx="114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kist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0"/>
            <p:cNvSpPr/>
            <p:nvPr/>
          </p:nvSpPr>
          <p:spPr>
            <a:xfrm rot="16200000">
              <a:off x="3756960" y="5178960"/>
              <a:ext cx="158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anglade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51"/>
            <p:cNvSpPr/>
            <p:nvPr/>
          </p:nvSpPr>
          <p:spPr>
            <a:xfrm rot="16200000">
              <a:off x="4356000" y="508752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16200000">
              <a:off x="5348160" y="479052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3"/>
            <p:cNvSpPr/>
            <p:nvPr/>
          </p:nvSpPr>
          <p:spPr>
            <a:xfrm rot="16200000">
              <a:off x="5661720" y="5042160"/>
              <a:ext cx="114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kist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4"/>
            <p:cNvSpPr/>
            <p:nvPr/>
          </p:nvSpPr>
          <p:spPr>
            <a:xfrm rot="16200000">
              <a:off x="6003360" y="5174280"/>
              <a:ext cx="158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anglade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5"/>
            <p:cNvSpPr/>
            <p:nvPr/>
          </p:nvSpPr>
          <p:spPr>
            <a:xfrm rot="16200000">
              <a:off x="6610320" y="509364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6"/>
            <p:cNvSpPr/>
            <p:nvPr/>
          </p:nvSpPr>
          <p:spPr>
            <a:xfrm rot="16200000">
              <a:off x="7527960" y="487728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 rot="16200000">
              <a:off x="7729200" y="508932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Line 58"/>
          <p:cNvSpPr/>
          <p:nvPr/>
        </p:nvSpPr>
        <p:spPr>
          <a:xfrm flipV="1">
            <a:off x="5410080" y="1828800"/>
            <a:ext cx="0" cy="2822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0"/>
          <p:cNvSpPr/>
          <p:nvPr/>
        </p:nvSpPr>
        <p:spPr>
          <a:xfrm flipH="1">
            <a:off x="2971800" y="3429000"/>
            <a:ext cx="5867280" cy="46080"/>
          </a:xfrm>
          <a:prstGeom prst="line">
            <a:avLst/>
          </a:prstGeom>
          <a:ln w="540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1"/>
          <p:cNvSpPr/>
          <p:nvPr/>
        </p:nvSpPr>
        <p:spPr>
          <a:xfrm>
            <a:off x="228600" y="1143000"/>
            <a:ext cx="1447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% Change in Cereal &amp; Pulse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&amp; in Population Between 1965 &amp;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2"/>
          <p:cNvSpPr/>
          <p:nvPr/>
        </p:nvSpPr>
        <p:spPr>
          <a:xfrm>
            <a:off x="3124080" y="1523880"/>
            <a:ext cx="22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e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3"/>
          <p:cNvSpPr/>
          <p:nvPr/>
        </p:nvSpPr>
        <p:spPr>
          <a:xfrm>
            <a:off x="5410080" y="1523880"/>
            <a:ext cx="21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4"/>
          <p:cNvSpPr/>
          <p:nvPr/>
        </p:nvSpPr>
        <p:spPr>
          <a:xfrm>
            <a:off x="7315200" y="1523880"/>
            <a:ext cx="14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8"/>
          <p:cNvSpPr/>
          <p:nvPr/>
        </p:nvSpPr>
        <p:spPr>
          <a:xfrm flipV="1">
            <a:off x="7620120" y="1828800"/>
            <a:ext cx="0" cy="2822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1828800" cy="31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rebuchet MS"/>
              </a:rPr>
              <a:t>I</a:t>
            </a:r>
            <a:r>
              <a:rPr b="1" lang="en-US" sz="2400" spc="-1" strike="noStrike">
                <a:solidFill>
                  <a:srgbClr val="008000"/>
                </a:solidFill>
                <a:latin typeface="Trebuchet MS"/>
              </a:rPr>
              <a:t>ndices of Inflation-adjusted Prices for Bangladesh1973-75 = 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2133720" y="1600200"/>
            <a:ext cx="6781680" cy="4208400"/>
            <a:chOff x="2133720" y="1600200"/>
            <a:chExt cx="6781680" cy="4208400"/>
          </a:xfrm>
        </p:grpSpPr>
        <p:sp>
          <p:nvSpPr>
            <p:cNvPr id="340" name="AutoShape 4"/>
            <p:cNvSpPr/>
            <p:nvPr/>
          </p:nvSpPr>
          <p:spPr>
            <a:xfrm>
              <a:off x="2133720" y="1600200"/>
              <a:ext cx="6773400" cy="42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2601360" y="1760400"/>
              <a:ext cx="4982040" cy="35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601360" y="1760400"/>
              <a:ext cx="4982040" cy="3597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2806200" y="3560040"/>
              <a:ext cx="275040" cy="179784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4055040" y="4029120"/>
              <a:ext cx="275040" cy="132876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297400" y="4082760"/>
              <a:ext cx="275040" cy="127476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6546240" y="4297320"/>
              <a:ext cx="275040" cy="10602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3081240" y="3560040"/>
              <a:ext cx="281880" cy="17978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4330080" y="3471840"/>
              <a:ext cx="275400" cy="18860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5572440" y="2122920"/>
              <a:ext cx="281880" cy="323496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6821280" y="2122920"/>
              <a:ext cx="275040" cy="323496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3363480" y="3560040"/>
              <a:ext cx="275040" cy="1797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605840" y="2842200"/>
              <a:ext cx="275040" cy="25153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854680" y="2371680"/>
              <a:ext cx="275040" cy="29862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7096680" y="1868400"/>
              <a:ext cx="275040" cy="3489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2601360" y="1760400"/>
              <a:ext cx="1080" cy="359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2556720" y="535788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>
              <a:off x="2556720" y="490896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>
              <a:off x="2556720" y="445968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>
              <a:off x="2556720" y="40089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2556720" y="35600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>
              <a:off x="2556720" y="31093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>
              <a:off x="2556720" y="26600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>
              <a:off x="2556720" y="22111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>
              <a:off x="2556720" y="176040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>
              <a:off x="2601360" y="5357880"/>
              <a:ext cx="498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V="1">
              <a:off x="260136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1"/>
            <p:cNvSpPr/>
            <p:nvPr/>
          </p:nvSpPr>
          <p:spPr>
            <a:xfrm flipV="1">
              <a:off x="3850200" y="5357520"/>
              <a:ext cx="144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 flipV="1">
              <a:off x="509256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 flipV="1">
              <a:off x="634140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 flipV="1">
              <a:off x="7583400" y="5357520"/>
              <a:ext cx="144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404800" y="5271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2316240" y="4822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2316240" y="4371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2316240" y="3922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9"/>
            <p:cNvSpPr/>
            <p:nvPr/>
          </p:nvSpPr>
          <p:spPr>
            <a:xfrm>
              <a:off x="2228040" y="34718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0"/>
            <p:cNvSpPr/>
            <p:nvPr/>
          </p:nvSpPr>
          <p:spPr>
            <a:xfrm>
              <a:off x="2228040" y="3022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1"/>
            <p:cNvSpPr/>
            <p:nvPr/>
          </p:nvSpPr>
          <p:spPr>
            <a:xfrm>
              <a:off x="2228040" y="25732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2"/>
            <p:cNvSpPr/>
            <p:nvPr/>
          </p:nvSpPr>
          <p:spPr>
            <a:xfrm>
              <a:off x="2228040" y="21229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3"/>
            <p:cNvSpPr/>
            <p:nvPr/>
          </p:nvSpPr>
          <p:spPr>
            <a:xfrm>
              <a:off x="2228040" y="167400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4"/>
            <p:cNvSpPr/>
            <p:nvPr/>
          </p:nvSpPr>
          <p:spPr>
            <a:xfrm>
              <a:off x="289476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73-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5"/>
            <p:cNvSpPr/>
            <p:nvPr/>
          </p:nvSpPr>
          <p:spPr>
            <a:xfrm>
              <a:off x="414324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79-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6"/>
            <p:cNvSpPr/>
            <p:nvPr/>
          </p:nvSpPr>
          <p:spPr>
            <a:xfrm>
              <a:off x="538596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88-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7"/>
            <p:cNvSpPr/>
            <p:nvPr/>
          </p:nvSpPr>
          <p:spPr>
            <a:xfrm>
              <a:off x="663408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94-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8"/>
            <p:cNvSpPr/>
            <p:nvPr/>
          </p:nvSpPr>
          <p:spPr>
            <a:xfrm>
              <a:off x="7635240" y="1996560"/>
              <a:ext cx="1280160" cy="3160800"/>
            </a:xfrm>
            <a:prstGeom prst="rect">
              <a:avLst/>
            </a:prstGeom>
            <a:solidFill>
              <a:srgbClr val="ffe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9"/>
            <p:cNvSpPr/>
            <p:nvPr/>
          </p:nvSpPr>
          <p:spPr>
            <a:xfrm>
              <a:off x="7826400" y="2184120"/>
              <a:ext cx="147600" cy="153360"/>
            </a:xfrm>
            <a:prstGeom prst="rect">
              <a:avLst/>
            </a:pr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0"/>
            <p:cNvSpPr/>
            <p:nvPr/>
          </p:nvSpPr>
          <p:spPr>
            <a:xfrm>
              <a:off x="7952400" y="211572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ta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1"/>
            <p:cNvSpPr/>
            <p:nvPr/>
          </p:nvSpPr>
          <p:spPr>
            <a:xfrm>
              <a:off x="7826400" y="3230280"/>
              <a:ext cx="147600" cy="1544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2"/>
            <p:cNvSpPr/>
            <p:nvPr/>
          </p:nvSpPr>
          <p:spPr>
            <a:xfrm>
              <a:off x="7970760" y="3163320"/>
              <a:ext cx="590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3"/>
            <p:cNvSpPr/>
            <p:nvPr/>
          </p:nvSpPr>
          <p:spPr>
            <a:xfrm>
              <a:off x="7952400" y="344448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ta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4"/>
            <p:cNvSpPr/>
            <p:nvPr/>
          </p:nvSpPr>
          <p:spPr>
            <a:xfrm>
              <a:off x="7952400" y="372636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la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5"/>
            <p:cNvSpPr/>
            <p:nvPr/>
          </p:nvSpPr>
          <p:spPr>
            <a:xfrm>
              <a:off x="7826400" y="4284720"/>
              <a:ext cx="147600" cy="1533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6"/>
            <p:cNvSpPr/>
            <p:nvPr/>
          </p:nvSpPr>
          <p:spPr>
            <a:xfrm>
              <a:off x="7945200" y="4216680"/>
              <a:ext cx="81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ish &amp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57"/>
            <p:cNvSpPr/>
            <p:nvPr/>
          </p:nvSpPr>
          <p:spPr>
            <a:xfrm>
              <a:off x="7937640" y="4497840"/>
              <a:ext cx="884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im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198108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50% Increase in all Food Pr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006560"/>
          <a:ext cx="6676920" cy="5460840"/>
        </p:xfrm>
        <a:graphic>
          <a:graphicData uri="http://schemas.openxmlformats.org/drawingml/2006/table">
            <a:tbl>
              <a:tblPr/>
              <a:tblGrid>
                <a:gridCol w="4389480"/>
                <a:gridCol w="2287440"/>
              </a:tblGrid>
              <a:tr h="118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ent and Expenditure Adjust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Percentage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ergy Int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on Int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ple 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7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Staple Foo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791320" y="1828800"/>
            <a:ext cx="2916000" cy="2714760"/>
          </a:xfrm>
          <a:prstGeom prst="rect">
            <a:avLst/>
          </a:prstGeom>
          <a:solidFill>
            <a:srgbClr val="ffc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6"/>
          <p:cNvSpPr/>
          <p:nvPr/>
        </p:nvSpPr>
        <p:spPr>
          <a:xfrm>
            <a:off x="2008080" y="2817720"/>
            <a:ext cx="118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2057400" y="3429000"/>
            <a:ext cx="1465200" cy="150984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057400" y="4952880"/>
            <a:ext cx="2932200" cy="14684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9"/>
          <p:cNvSpPr/>
          <p:nvPr/>
        </p:nvSpPr>
        <p:spPr>
          <a:xfrm>
            <a:off x="5985000" y="272880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5791320" y="990720"/>
            <a:ext cx="3144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Share of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Expend After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Pric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914400"/>
            <a:ext cx="1828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ural 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505320" y="3429000"/>
            <a:ext cx="1452600" cy="152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057400" y="1828800"/>
            <a:ext cx="2916360" cy="1577880"/>
          </a:xfrm>
          <a:prstGeom prst="rect">
            <a:avLst/>
          </a:prstGeom>
          <a:solidFill>
            <a:srgbClr val="ffc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5791320" y="4572000"/>
            <a:ext cx="1482480" cy="73512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315200" y="4572000"/>
            <a:ext cx="1438200" cy="747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2209680" y="5257800"/>
            <a:ext cx="26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2209680" y="213372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5791320" y="5334120"/>
            <a:ext cx="2916000" cy="1081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8"/>
          <p:cNvSpPr/>
          <p:nvPr/>
        </p:nvSpPr>
        <p:spPr>
          <a:xfrm>
            <a:off x="5943600" y="541332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057400" y="914400"/>
            <a:ext cx="3144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Share of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Ex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Before </a:t>
            </a: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Pric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7"/>
          <p:cNvSpPr/>
          <p:nvPr/>
        </p:nvSpPr>
        <p:spPr>
          <a:xfrm>
            <a:off x="21337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taple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8"/>
          <p:cNvSpPr/>
          <p:nvPr/>
        </p:nvSpPr>
        <p:spPr>
          <a:xfrm>
            <a:off x="3664080" y="3886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/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981080" y="996840"/>
            <a:ext cx="2224080" cy="2781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1784520" cy="2819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>
            <a:off x="2590920" y="4495680"/>
            <a:ext cx="10490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3child_in_hospital1"/>
          <p:cNvPicPr/>
          <p:nvPr/>
        </p:nvPicPr>
        <p:blipFill>
          <a:blip r:embed="rId3"/>
          <a:stretch/>
        </p:blipFill>
        <p:spPr>
          <a:xfrm>
            <a:off x="6172200" y="990720"/>
            <a:ext cx="2971800" cy="2800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mom&amp;child"/>
          <p:cNvPicPr/>
          <p:nvPr/>
        </p:nvPicPr>
        <p:blipFill>
          <a:blip r:embed="rId4"/>
          <a:stretch/>
        </p:blipFill>
        <p:spPr>
          <a:xfrm>
            <a:off x="4572000" y="3865680"/>
            <a:ext cx="2760840" cy="299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9" name="Picture 8" descr="nwaz_01_img0114"/>
          <p:cNvPicPr/>
          <p:nvPr/>
        </p:nvPicPr>
        <p:blipFill>
          <a:blip r:embed="rId5"/>
          <a:stretch/>
        </p:blipFill>
        <p:spPr>
          <a:xfrm>
            <a:off x="7139160" y="3809880"/>
            <a:ext cx="2004840" cy="304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Page16Image"/>
          <p:cNvPicPr/>
          <p:nvPr/>
        </p:nvPicPr>
        <p:blipFill>
          <a:blip r:embed="rId6"/>
          <a:stretch/>
        </p:blipFill>
        <p:spPr>
          <a:xfrm>
            <a:off x="1905120" y="3797280"/>
            <a:ext cx="3035160" cy="30607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0"/>
          <p:cNvSpPr/>
          <p:nvPr/>
        </p:nvSpPr>
        <p:spPr>
          <a:xfrm>
            <a:off x="4952880" y="3809880"/>
            <a:ext cx="2133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itami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00,000 children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589800" y="2698920"/>
            <a:ext cx="280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Z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Estimated 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2057400" y="6004080"/>
            <a:ext cx="2595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stimated 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7238880" y="579600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stimated 1.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0" y="1143000"/>
            <a:ext cx="1676520" cy="1373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 Massiv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61720" y="1500120"/>
            <a:ext cx="171612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t adds up to - I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LBW – 5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Stunting – 5-11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Iodine Deficiency – 10 – 15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Iron deficiency – up to 13 IQ points.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Many children will be all of the above!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1676520" cy="3844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ioforti -fication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Harvest-Plu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5640" y="14479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An Agriculture Solution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Developing staple food crops with higher micronutrient content crops using the best traditional breeding practices and modern biotechnology to achieve provitamin A, iron, and zinc concentrations that can have </a:t>
            </a:r>
            <a:r>
              <a:rPr b="1" lang="en-US" sz="2400" spc="-1" strike="noStrike" u="sng">
                <a:solidFill>
                  <a:srgbClr val="ebdcf8"/>
                </a:solidFill>
                <a:uFillTx/>
                <a:latin typeface="Verdana"/>
                <a:ea typeface="Times New Roman"/>
              </a:rPr>
              <a:t>measurable</a:t>
            </a: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 effects on nutritional status.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ae29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1760" y="-360"/>
            <a:ext cx="7218360" cy="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1066680"/>
          <a:ext cx="8915400" cy="5388120"/>
        </p:xfrm>
        <a:graphic>
          <a:graphicData uri="http://schemas.openxmlformats.org/drawingml/2006/table">
            <a:tbl>
              <a:tblPr/>
              <a:tblGrid>
                <a:gridCol w="2052720"/>
                <a:gridCol w="2313000"/>
                <a:gridCol w="3110040"/>
                <a:gridCol w="14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Cr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Nutr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Countries of First Rel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Release Yea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Swe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ot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ganda, Mozambi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ron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(Zin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wanda/DR 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earl Mill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ron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(Zin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assa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geria, DR 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R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ngladesh, 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a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Whe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a, Paki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41"/>
          <p:cNvSpPr/>
          <p:nvPr/>
        </p:nvSpPr>
        <p:spPr>
          <a:xfrm>
            <a:off x="228600" y="648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proved for release by national governments after 2-3 years of testing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228600" y="20574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nge Fleshed Sweet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3048120" y="1905120"/>
            <a:ext cx="541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eding –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A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marketing – recipe dev’t, porridge,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ato flour – Bakers, profit 50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preferences – bread, buns – 60gm =&gt; 25% vitamin A for 1-3 year  old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consumption – size, gend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2209680" y="5410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area children, vitamin A def’y  - 60% ↓ 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 Intervention vitamin A def’y more than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152280" y="1676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2895480" y="198108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/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net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(fortification) – FFW, 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 Win agriculture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uits,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1720" y="1500120"/>
            <a:ext cx="171612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tio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tunting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Underweight – MDG 1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Wasting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None specific?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40840" y="41911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250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th Asi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 Saharan Af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548080" y="1500120"/>
            <a:ext cx="6062400" cy="4332240"/>
          </a:xfrm>
          <a:prstGeom prst="rect">
            <a:avLst/>
          </a:prstGeom>
          <a:ln w="0">
            <a:noFill/>
          </a:ln>
        </p:spPr>
      </p:pic>
      <p:sp>
        <p:nvSpPr>
          <p:cNvPr id="441" name="Content Placeholder 2"/>
          <p:cNvSpPr/>
          <p:nvPr/>
        </p:nvSpPr>
        <p:spPr>
          <a:xfrm>
            <a:off x="2438280" y="1143000"/>
            <a:ext cx="6062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India – agriculture development -&gt;poverty re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Food deficits to food surpluses – food secur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India gross national income (GNI) per capita at $730 – far in excess of most of SSA  bu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Child stunting rates 46 perc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Niger’s GNI per capita is just $240, but its stunting rate is 40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The Gambia - stunting rate 19 percent against a GNI per capita income of $29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Afghanistan, Bangladesh, India, and Nepal  - four of top five globally for underweight child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Bangladesh and India rank among the highest incidences of low-birth-weight babies, an indicator of maternal mal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Weak poverty reduction – nutrition improvement linkage in South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4343400" y="6248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2286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133720" y="10666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dimension of food and nutriti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2286000" y="251460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zation 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e, food preparation, health care –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iculture - home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 – mobility, decision making – food,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net programs, cash v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3352680" y="5334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ia – Africa parado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WLD34045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5562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-92160" y="-92160"/>
            <a:ext cx="161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0480" y="0"/>
            <a:ext cx="16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e problem is large and ex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410080" y="65214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LD34144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136440" y="-244440"/>
            <a:ext cx="1082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153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505320" y="5791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e problem is large and ex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486400" y="6521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600" cy="6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cious cycle of poverty and malnutri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914400" y="1676520"/>
            <a:ext cx="7848360" cy="4647600"/>
            <a:chOff x="914400" y="1676520"/>
            <a:chExt cx="7848360" cy="4647600"/>
          </a:xfrm>
        </p:grpSpPr>
        <p:grpSp>
          <p:nvGrpSpPr>
            <p:cNvPr id="211" name="Group 5"/>
            <p:cNvGrpSpPr/>
            <p:nvPr/>
          </p:nvGrpSpPr>
          <p:grpSpPr>
            <a:xfrm>
              <a:off x="1495080" y="5332320"/>
              <a:ext cx="6527160" cy="835920"/>
              <a:chOff x="1495080" y="5332320"/>
              <a:chExt cx="6527160" cy="835920"/>
            </a:xfrm>
          </p:grpSpPr>
          <p:grpSp>
            <p:nvGrpSpPr>
              <p:cNvPr id="212" name="Group 6"/>
              <p:cNvGrpSpPr/>
              <p:nvPr/>
            </p:nvGrpSpPr>
            <p:grpSpPr>
              <a:xfrm>
                <a:off x="3761640" y="5332320"/>
                <a:ext cx="2005920" cy="835920"/>
                <a:chOff x="3761640" y="5332320"/>
                <a:chExt cx="2005920" cy="835920"/>
              </a:xfrm>
            </p:grpSpPr>
            <p:sp>
              <p:nvSpPr>
                <p:cNvPr id="213" name="Rectangle 7"/>
                <p:cNvSpPr/>
                <p:nvPr/>
              </p:nvSpPr>
              <p:spPr>
                <a:xfrm>
                  <a:off x="3761640" y="5332320"/>
                  <a:ext cx="2005920" cy="835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8"/>
                <p:cNvSpPr/>
                <p:nvPr/>
              </p:nvSpPr>
              <p:spPr>
                <a:xfrm>
                  <a:off x="3761640" y="5332320"/>
                  <a:ext cx="2005920" cy="83592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direct loss in productivity from poor cognitive development and schoo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9"/>
              <p:cNvGrpSpPr/>
              <p:nvPr/>
            </p:nvGrpSpPr>
            <p:grpSpPr>
              <a:xfrm>
                <a:off x="1495080" y="5332320"/>
                <a:ext cx="1699560" cy="835920"/>
                <a:chOff x="1495080" y="5332320"/>
                <a:chExt cx="1699560" cy="835920"/>
              </a:xfrm>
            </p:grpSpPr>
            <p:sp>
              <p:nvSpPr>
                <p:cNvPr id="216" name="Rectangle 10"/>
                <p:cNvSpPr/>
                <p:nvPr/>
              </p:nvSpPr>
              <p:spPr>
                <a:xfrm>
                  <a:off x="1495080" y="5332320"/>
                  <a:ext cx="1699560" cy="835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1"/>
                <p:cNvSpPr/>
                <p:nvPr/>
              </p:nvSpPr>
              <p:spPr>
                <a:xfrm>
                  <a:off x="1495080" y="5332320"/>
                  <a:ext cx="1699560" cy="83592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irect loss in productivity from poor physical statu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2"/>
              <p:cNvGrpSpPr/>
              <p:nvPr/>
            </p:nvGrpSpPr>
            <p:grpSpPr>
              <a:xfrm>
                <a:off x="6322680" y="5339880"/>
                <a:ext cx="1699560" cy="828360"/>
                <a:chOff x="6322680" y="5339880"/>
                <a:chExt cx="1699560" cy="828360"/>
              </a:xfrm>
            </p:grpSpPr>
            <p:sp>
              <p:nvSpPr>
                <p:cNvPr id="219" name="Rectangle 13"/>
                <p:cNvSpPr/>
                <p:nvPr/>
              </p:nvSpPr>
              <p:spPr>
                <a:xfrm>
                  <a:off x="6322680" y="5339880"/>
                  <a:ext cx="1699560" cy="82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14"/>
                <p:cNvSpPr/>
                <p:nvPr/>
              </p:nvSpPr>
              <p:spPr>
                <a:xfrm>
                  <a:off x="6322680" y="5339880"/>
                  <a:ext cx="1699560" cy="82836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oss in resources from increased health care costs of ill healt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Text Box 15"/>
            <p:cNvSpPr/>
            <p:nvPr/>
          </p:nvSpPr>
          <p:spPr>
            <a:xfrm>
              <a:off x="3722040" y="1676520"/>
              <a:ext cx="2115360" cy="37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come pove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6"/>
            <p:cNvGrpSpPr/>
            <p:nvPr/>
          </p:nvGrpSpPr>
          <p:grpSpPr>
            <a:xfrm>
              <a:off x="1091520" y="2746440"/>
              <a:ext cx="7348320" cy="681480"/>
              <a:chOff x="1091520" y="2746440"/>
              <a:chExt cx="7348320" cy="681480"/>
            </a:xfrm>
          </p:grpSpPr>
          <p:sp>
            <p:nvSpPr>
              <p:cNvPr id="223" name="Text Box 17"/>
              <p:cNvSpPr/>
              <p:nvPr/>
            </p:nvSpPr>
            <p:spPr>
              <a:xfrm>
                <a:off x="1091520" y="2747520"/>
                <a:ext cx="1317960" cy="68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w food intake and/or poor diet divers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18"/>
              <p:cNvSpPr/>
              <p:nvPr/>
            </p:nvSpPr>
            <p:spPr>
              <a:xfrm>
                <a:off x="255816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quent infe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9"/>
              <p:cNvSpPr/>
              <p:nvPr/>
            </p:nvSpPr>
            <p:spPr>
              <a:xfrm>
                <a:off x="4043520" y="2746440"/>
                <a:ext cx="143784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rd physical lab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0"/>
              <p:cNvSpPr/>
              <p:nvPr/>
            </p:nvSpPr>
            <p:spPr>
              <a:xfrm>
                <a:off x="712188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r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mil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62608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quent pregna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22"/>
            <p:cNvSpPr/>
            <p:nvPr/>
          </p:nvSpPr>
          <p:spPr>
            <a:xfrm>
              <a:off x="3750120" y="4296600"/>
              <a:ext cx="211536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lnutr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23"/>
            <p:cNvGrpSpPr/>
            <p:nvPr/>
          </p:nvGrpSpPr>
          <p:grpSpPr>
            <a:xfrm>
              <a:off x="914400" y="1831680"/>
              <a:ext cx="7848360" cy="4492440"/>
              <a:chOff x="914400" y="1831680"/>
              <a:chExt cx="7848360" cy="4492440"/>
            </a:xfrm>
          </p:grpSpPr>
          <p:grpSp>
            <p:nvGrpSpPr>
              <p:cNvPr id="230" name="Group 24"/>
              <p:cNvGrpSpPr/>
              <p:nvPr/>
            </p:nvGrpSpPr>
            <p:grpSpPr>
              <a:xfrm>
                <a:off x="1725840" y="2050920"/>
                <a:ext cx="6032160" cy="3263040"/>
                <a:chOff x="1725840" y="2050920"/>
                <a:chExt cx="6032160" cy="3263040"/>
              </a:xfrm>
            </p:grpSpPr>
            <p:sp>
              <p:nvSpPr>
                <p:cNvPr id="231" name="Line 25"/>
                <p:cNvSpPr/>
                <p:nvPr/>
              </p:nvSpPr>
              <p:spPr>
                <a:xfrm flipH="1" flipV="1">
                  <a:off x="1725840" y="3279600"/>
                  <a:ext cx="303660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 flipH="1" flipV="1">
                  <a:off x="3323160" y="3279600"/>
                  <a:ext cx="143892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7"/>
                <p:cNvSpPr/>
                <p:nvPr/>
              </p:nvSpPr>
              <p:spPr>
                <a:xfrm>
                  <a:off x="4762800" y="3279960"/>
                  <a:ext cx="72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8"/>
                <p:cNvSpPr/>
                <p:nvPr/>
              </p:nvSpPr>
              <p:spPr>
                <a:xfrm flipH="1">
                  <a:off x="4762800" y="3298680"/>
                  <a:ext cx="1547280" cy="693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 flipH="1">
                  <a:off x="4762440" y="3298680"/>
                  <a:ext cx="2994840" cy="693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30"/>
                <p:cNvGrpSpPr/>
                <p:nvPr/>
              </p:nvGrpSpPr>
              <p:grpSpPr>
                <a:xfrm>
                  <a:off x="1745640" y="2050920"/>
                  <a:ext cx="6012360" cy="646200"/>
                  <a:chOff x="1745640" y="2050920"/>
                  <a:chExt cx="6012360" cy="646200"/>
                </a:xfrm>
              </p:grpSpPr>
              <p:sp>
                <p:nvSpPr>
                  <p:cNvPr id="237" name="Line 31"/>
                  <p:cNvSpPr/>
                  <p:nvPr/>
                </p:nvSpPr>
                <p:spPr>
                  <a:xfrm>
                    <a:off x="4756320" y="2073600"/>
                    <a:ext cx="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4751640" y="2050920"/>
                    <a:ext cx="144720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3"/>
                  <p:cNvSpPr/>
                  <p:nvPr/>
                </p:nvSpPr>
                <p:spPr>
                  <a:xfrm>
                    <a:off x="4751640" y="2050920"/>
                    <a:ext cx="300636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 flipH="1">
                    <a:off x="3192480" y="2050920"/>
                    <a:ext cx="155844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 flipH="1">
                    <a:off x="1745640" y="2050920"/>
                    <a:ext cx="300600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Line 36"/>
                <p:cNvSpPr/>
                <p:nvPr/>
              </p:nvSpPr>
              <p:spPr>
                <a:xfrm>
                  <a:off x="4768200" y="3922200"/>
                  <a:ext cx="0" cy="374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4765680" y="4690080"/>
                  <a:ext cx="0" cy="62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4761000" y="4667040"/>
                  <a:ext cx="2440080" cy="627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 flipH="1">
                  <a:off x="2413800" y="4667040"/>
                  <a:ext cx="2347200" cy="627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40"/>
              <p:cNvGrpSpPr/>
              <p:nvPr/>
            </p:nvGrpSpPr>
            <p:grpSpPr>
              <a:xfrm>
                <a:off x="914400" y="1831680"/>
                <a:ext cx="7848360" cy="4492440"/>
                <a:chOff x="914400" y="1831680"/>
                <a:chExt cx="7848360" cy="4492440"/>
              </a:xfrm>
            </p:grpSpPr>
            <p:sp>
              <p:nvSpPr>
                <p:cNvPr id="247" name="Line 41"/>
                <p:cNvSpPr/>
                <p:nvPr/>
              </p:nvSpPr>
              <p:spPr>
                <a:xfrm>
                  <a:off x="4766760" y="6193080"/>
                  <a:ext cx="0" cy="124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766760" y="6323760"/>
                  <a:ext cx="3996000" cy="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 flipV="1">
                  <a:off x="8760240" y="1831680"/>
                  <a:ext cx="0" cy="449028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8092440" y="5793840"/>
                  <a:ext cx="530640" cy="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 flipV="1">
                  <a:off x="8618400" y="1926000"/>
                  <a:ext cx="720" cy="38678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914400" y="5918760"/>
                  <a:ext cx="4971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 flipV="1">
                  <a:off x="918720" y="1925640"/>
                  <a:ext cx="720" cy="39927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919800" y="1923840"/>
                  <a:ext cx="27835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5837400" y="1923840"/>
                  <a:ext cx="27835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5837400" y="1832040"/>
                  <a:ext cx="2922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Text Box 52"/>
          <p:cNvSpPr/>
          <p:nvPr/>
        </p:nvSpPr>
        <p:spPr>
          <a:xfrm>
            <a:off x="4343400" y="65214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171612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security is access by all people at all times to sufficient food, in term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quantity 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for a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tive and healthy lif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risk of loss of such access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to Food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600200"/>
            <a:ext cx="1716120" cy="1298160"/>
          </a:xfrm>
          <a:prstGeom prst="rect">
            <a:avLst/>
          </a:prstGeom>
          <a:solidFill>
            <a:srgbClr val="7030a0"/>
          </a:solidFill>
          <a:ln w="93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Security in S. A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90920" y="14479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lf Sufficiency 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Rice (wheat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od price crisis – Bangladesh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2000-2006 – self sufficient in rice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2000-2005 – poverty ↓ 9 % points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WASTING  ↑  6 % points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Pillars of Food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2127240" y="1743120"/>
            <a:ext cx="1835280" cy="4473000"/>
            <a:chOff x="2127240" y="1743120"/>
            <a:chExt cx="1835280" cy="4473000"/>
          </a:xfrm>
        </p:grpSpPr>
        <p:sp>
          <p:nvSpPr>
            <p:cNvPr id="265" name="AutoShape 5"/>
            <p:cNvSpPr/>
            <p:nvPr/>
          </p:nvSpPr>
          <p:spPr>
            <a:xfrm>
              <a:off x="2127240" y="2787480"/>
              <a:ext cx="1752480" cy="342864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2165400" y="1743120"/>
              <a:ext cx="1797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vail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7"/>
          <p:cNvGrpSpPr/>
          <p:nvPr/>
        </p:nvGrpSpPr>
        <p:grpSpPr>
          <a:xfrm>
            <a:off x="6972840" y="1766880"/>
            <a:ext cx="1766520" cy="4401720"/>
            <a:chOff x="6972840" y="1766880"/>
            <a:chExt cx="1766520" cy="4401720"/>
          </a:xfrm>
        </p:grpSpPr>
        <p:sp>
          <p:nvSpPr>
            <p:cNvPr id="268" name="Text Box 8"/>
            <p:cNvSpPr/>
            <p:nvPr/>
          </p:nvSpPr>
          <p:spPr>
            <a:xfrm>
              <a:off x="6972840" y="17668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til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"/>
            <p:cNvSpPr/>
            <p:nvPr/>
          </p:nvSpPr>
          <p:spPr>
            <a:xfrm>
              <a:off x="6986520" y="2739960"/>
              <a:ext cx="1752840" cy="342864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"/>
          <p:cNvGrpSpPr/>
          <p:nvPr/>
        </p:nvGrpSpPr>
        <p:grpSpPr>
          <a:xfrm>
            <a:off x="4375080" y="1714680"/>
            <a:ext cx="1981440" cy="4457160"/>
            <a:chOff x="4375080" y="1714680"/>
            <a:chExt cx="1981440" cy="4457160"/>
          </a:xfrm>
        </p:grpSpPr>
        <p:sp>
          <p:nvSpPr>
            <p:cNvPr id="271" name="AutoShape 11"/>
            <p:cNvSpPr/>
            <p:nvPr/>
          </p:nvSpPr>
          <p:spPr>
            <a:xfrm>
              <a:off x="4489560" y="2743200"/>
              <a:ext cx="1752480" cy="342864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4375080" y="1714680"/>
              <a:ext cx="198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ility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iculture pilla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</a:rPr>
              <a:t>To Eat Food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Verdana"/>
              </a:rPr>
              <a:t>Avoid Hunger (Energy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Verdana"/>
              </a:rPr>
              <a:t>Enjoyment, culture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To Be Healthy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(vitamins, minerals, and other essential compounds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Verdana"/>
              </a:rPr>
              <a:t>To Earn Income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9:19:28Z</dcterms:created>
  <dc:creator>WB74229</dc:creator>
  <dc:description/>
  <dc:language>en-US</dc:language>
  <cp:lastModifiedBy>VM</cp:lastModifiedBy>
  <dcterms:modified xsi:type="dcterms:W3CDTF">2009-04-29T04:10:03Z</dcterms:modified>
  <cp:revision>69</cp:revision>
  <dc:subject/>
  <dc:title>Food security, Agriculture and Nutrition</dc:title>
</cp:coreProperties>
</file>