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notesSlide6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8.png" ContentType="image/png"/>
  <Override PartName="/ppt/media/image13.png" ContentType="image/png"/>
  <Override PartName="/ppt/media/image15.png" ContentType="image/png"/>
  <Override PartName="/ppt/media/image9.wmf" ContentType="image/x-wmf"/>
  <Override PartName="/ppt/media/image29.wmf" ContentType="image/x-wmf"/>
  <Override PartName="/ppt/media/image6.wmf" ContentType="image/x-wmf"/>
  <Override PartName="/ppt/media/image11.png" ContentType="image/png"/>
  <Override PartName="/ppt/media/image31.wmf" ContentType="image/x-wmf"/>
  <Override PartName="/ppt/media/image7.png" ContentType="image/png"/>
  <Override PartName="/ppt/media/image12.png" ContentType="image/png"/>
  <Override PartName="/ppt/media/image32.wmf" ContentType="image/x-wmf"/>
  <Override PartName="/ppt/media/image30.wmf" ContentType="image/x-wmf"/>
  <Override PartName="/ppt/media/image1.jpeg" ContentType="image/jpeg"/>
  <Override PartName="/ppt/media/image10.png" ContentType="image/png"/>
  <Override PartName="/ppt/media/image3.jpeg" ContentType="image/jpeg"/>
  <Override PartName="/ppt/media/image28.wmf" ContentType="image/x-wmf"/>
  <Override PartName="/ppt/media/image4.png" ContentType="image/png"/>
  <Override PartName="/ppt/media/image2.png" ContentType="image/png"/>
  <Override PartName="/ppt/media/image5.png" ContentType="image/png"/>
  <Override PartName="/ppt/media/image14.wmf" ContentType="image/x-wmf"/>
  <Override PartName="/ppt/media/image16.png" ContentType="image/png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915840" y="74268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5DEBC4-31DE-48BF-ABB4-FAB8ECF6B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99C29C-0B48-48DB-A5C4-249A0046D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F7BBCC-A566-49D7-BA66-353BF4F39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ample size was calculated for each of the indicators based on statistically representative estimates at national, rural, urban and divisional levels, for wasting, underweight, stunting, vitamin A coverage and maternal nutritional status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he end, the estimate that drove the sample size was acute malnutrition, conservatively assuming the prevalence of acute malnutrition  was 16%, stunting and underweight about 50%, vitamin A coverage at 95% and maternal wasting at  15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FCA67D-36BA-4C8B-BD2C-2093F0A6B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National estimates are reflective of the country at large - no differences between divisions and rural/urba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MNS 2005, only 58% of children aged &lt;6 months were exclusively breastfed; there was no significant difference between rural and urban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 minimum dietary diversity is a measurement of the proportion of children 6-23.9 months of age who receive foods from 4 or more food group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om the following 7 groups: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           1.      Grains, roots and tuber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            2.      Legumes and nut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            3.      Dairy products (milk, yogurt, cheese)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            4.      Flesh foods (meat, fish, poultry and liver/organ meats)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            5.      Egg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            6.      Vitamin-A rich fruits and vegetabl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            7.      Other fruits and vegetabl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nimum acceptable diet is a measurement of the proportion of children 6-23.9 months of age who receive solid, semi-solid, or soft foods (but also including milk feeds for non-breastfed children) the minimum number of times or more and also they meet the minimum dietary diversit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nimum times of meals depends on the age and is defined a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    §        2 times for breastfed infants 6-8.9 month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    §        3 times for breastfed children 9 -23.9 month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    §        4 times for non-breastfed children 6-23.9 month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808080"/>
                </a:solidFill>
                <a:uFillTx/>
                <a:latin typeface="Arial"/>
              </a:rPr>
              <a:t>The major reported causes of CHILD death were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: 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Respiratory infections 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4%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, Fever 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7.2%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, Diarrhoea 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.6%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, Malnutrition 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.5%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, Accidents 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.1%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, Bloody diarrhoea 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2.6%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, Measles/fever/rash 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0.9%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808080"/>
                </a:solidFill>
                <a:uFillTx/>
                <a:latin typeface="Arial"/>
              </a:rPr>
              <a:t>The major reported causes of POPULATION death were: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Respiratory infections 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8.5%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, Malnutrition 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.7%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, Accidents 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.4%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, F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rov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Flush to tipped sewer system, flush to septic tank, flash to pit latrine, pit latrine with a sl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mproved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ush to somewhere else, flush don't know where, pit latrine without a slap/open pit, bucket toilet, hanging toilet/hanging lat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n spa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o facility/bush/bu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ot know if it is hygienic or not hygienic, difficulty to compare with other studies dues to methodology dif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d insecure household food consumption groups were statistically associated with child malnutr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ting, stunting and underweight children tended to be more widespread among these household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an food secure househ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DE5E7-F539-41D8-A363-C1C0DC989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CEEB3-A43A-490A-9B0C-C72D6A7D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465C3-BB91-49DD-B8FE-852DF05C6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F53F5-8028-4C9A-AEDB-44763D164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32CC-2248-4F20-A7C8-7621B4BE2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0122-A3A4-46EE-96E3-FE51BE46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A3D7-BE4B-43F9-8439-04C32E0F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81E9-3A65-46A4-98EB-29330FD4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9DD4-9E70-4AD8-B4FA-74CE6291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6731F-D597-453A-BF87-3E53B1D2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3375-6D1D-43D0-AFBE-2DF9C840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ACDC7-A1D2-4271-9BEC-DE63765A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8D5EA-0AE0-4116-A760-83910913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5C2F-68D5-4354-B735-2A3B58FD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ED85-11EB-4ECF-8224-83EDEBE3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ACEC-1716-4C51-A58B-D0651217A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B3D1-DAAC-4066-B70F-D88BE4B46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C4F04-BB3D-4871-92BA-96329B74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F2D73-6E06-4D61-9B77-DEF13F14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D9B30-AE34-4549-B0DD-8AAD5495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BF9E6-B6D2-4679-8E3B-49367913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1B269-AD04-44EC-AD26-156CE5EF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DDB74-1DA8-4FDD-BF30-9A737DBE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3986B-1C47-46D9-A2E5-66E934C1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6CDE-A6C4-4019-B9B2-A0DD8D6AC4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8E1C-1567-4AC1-B3B3-EC5751CD91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84000" y="2060640"/>
            <a:ext cx="66596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Household Food Security and Nutrition Assessment </a:t>
            </a: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in Bangladesh</a:t>
            </a:r>
            <a:br>
              <a:rPr sz="1000"/>
            </a:br>
            <a:br>
              <a:rPr sz="1000"/>
            </a:br>
            <a:br>
              <a:rPr sz="1000"/>
            </a:b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ovember 2008 – January 20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00400" y="299556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92360" y="4508640"/>
            <a:ext cx="62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World Food Programme (WF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United Nations Children’s Fund (UNICE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Institute of Public Health Nutrition (IPH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95640" y="602136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812000" y="5721480"/>
            <a:ext cx="936720" cy="931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rcRect l="76047" t="0" r="0" b="0"/>
          <a:stretch/>
        </p:blipFill>
        <p:spPr>
          <a:xfrm>
            <a:off x="3708360" y="6093000"/>
            <a:ext cx="2016000" cy="482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55640" y="5734080"/>
            <a:ext cx="108108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gladesh rice price De-links from Indi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8719920" cy="410544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6"/>
          <p:cNvSpPr/>
          <p:nvPr/>
        </p:nvSpPr>
        <p:spPr>
          <a:xfrm rot="3393000">
            <a:off x="6300360" y="2563920"/>
            <a:ext cx="863280" cy="289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78160" y="3298680"/>
            <a:ext cx="6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780000" y="5950080"/>
            <a:ext cx="647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627280" y="5950080"/>
            <a:ext cx="647640" cy="0"/>
          </a:xfrm>
          <a:prstGeom prst="line">
            <a:avLst/>
          </a:prstGeom>
          <a:ln w="38160">
            <a:solidFill>
              <a:srgbClr val="cc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58160" y="6093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ha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09440" y="6093000"/>
            <a:ext cx="80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h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80" y="1341360"/>
            <a:ext cx="8964360" cy="5256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2120" y="2781360"/>
            <a:ext cx="21744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6200000">
            <a:off x="-390240" y="340848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ka per k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18960" y="6165360"/>
            <a:ext cx="322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: India Ministry of Consumer Affairs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od and Public Distribution; modified by WF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ckground… Economic Performanc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8920" y="1601640"/>
            <a:ext cx="374508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erately high GDP growth rat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Y 2006-07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.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Y 2007-08 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.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ittances stro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4140360" y="1413000"/>
            <a:ext cx="4375080" cy="2941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"/>
          <p:cNvPicPr/>
          <p:nvPr/>
        </p:nvPicPr>
        <p:blipFill>
          <a:blip r:embed="rId2"/>
          <a:stretch/>
        </p:blipFill>
        <p:spPr>
          <a:xfrm>
            <a:off x="4932360" y="4781520"/>
            <a:ext cx="32446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8920" y="549360"/>
            <a:ext cx="6193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 Availability: Cereals, ric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-360" y="2170080"/>
            <a:ext cx="87850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e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Y 2007-08 …close to rice self su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9.8 Million MTs of food 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 6.1% from previous ye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pite major natural disasters, Floods, Cycl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mper Boro major factor; 17.8 Million M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8.7% increase vs. previous ye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347640" y="2060280"/>
            <a:ext cx="5622840" cy="18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. Survey Objectives and Method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imary Survey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896472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9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od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impact of the food price shock on household food security. (Household Surve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Aft>
                <a:spcPts val="10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most affected?  Demographic, Livelihood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Aft>
                <a:spcPts val="10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ing Strateg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Aft>
                <a:spcPts val="10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differences… Urban/Rural, Divisional leve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how food markets responded, constraints, traders perceptions etc  (Market Surve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ations re: food security and social protection, Social Safety Net/SSNs programm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bjectives Cont-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83516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trition, Health, Water and San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tritional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prevalence of acute malnutrition, underweight and stunting in children 6-59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prevalence of MUAC in mothers of children &lt; 5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ant and Young Child Fee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 better understanding of IYCF practices for children &lt; 24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bjectives Cont-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83516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trition, Health, Water and San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ness and Mort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crude and U5 mortality rates in 6 months prior to the surve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prevalence of diarrhea, fever, and ARI in children 6-59 months in 2 weeks prior to the survey and health see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To Serv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stimate proportion of children 6-59 months in past 6 months and postpartum women who received Vitamin A in first 6 weeks after delive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stimate proportion of pregnant women who received iron/folate supplemen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ter and San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stimate the coverage of latrines and access to safe water among househo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rvey Design and Data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8353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250"/>
              </a:spcAft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FP &amp; UNICEF - Survey protocol and questionnaires desig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250"/>
              </a:spcAft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echnical Committe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IPHN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CEF, WFP, FAO, BBS, DGHS, MOHFP, MITRA and HKI provided inputs on entire survey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250"/>
              </a:spcAft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in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lot-survey/pre-t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ducted around Dha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collection 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vember 11, 2008 - January 19 2009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uring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m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rvest season by MITRA Associ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survey teams (2 supervisors, 6 interviewers, 6 quality control officers) and a 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ervisory tea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IPHN and WFP field staff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od security component and market analysis was led by WFP and nutrition component led by UNICEF/IPH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ampling Fr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Aft>
                <a:spcPts val="451"/>
              </a:spcAft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rived from the sample clusters of the 2007 BDHS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51"/>
              </a:spcAft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ampling frame 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numeration Areas (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and Sampling unit 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ouseho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51"/>
              </a:spcAft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 representative sample for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untry as a who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for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urban and the rural areas separate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and for each of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ix divis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Two-stage, stratified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ge One – 361 cluste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ere selected random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ge Two  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ion of households within a cluster – Goal - 30 HHs per cluster and about 10,00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ouseholds in tot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equacy of HH number per indica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as checked wit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C, Atla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in a cluster, al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H were selected with a fixed interval from the enumeration area l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er collected data from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ed household only – No replac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househ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s/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80 Markets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every other clu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arkets select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andomly and proportion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to the distribution of the clusters amo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ural and urban are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aximum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 traders – systemati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andom selection of 2 wholesalers and 3 retailers/shop keep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Acknowled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29840" y="1699920"/>
            <a:ext cx="8713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749"/>
              </a:spcAft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Respondents; Households; Comm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749"/>
              </a:spcAft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National, division, district, Upazila, and village authorities, including MOHFW, MOFD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749"/>
              </a:spcAft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7d"/>
                </a:solidFill>
                <a:uFillTx/>
                <a:latin typeface="Arial"/>
              </a:rPr>
              <a:t>Joint Technical Committee</a:t>
            </a: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: IPHN,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UNICEF, WFP, FAO, BBS, DGHS, MOHFP, Mitra and HK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749"/>
              </a:spcAft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MITRA – sampling framework, training, data collection and data entry/clea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749"/>
              </a:spcAft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Centre for Disease Control (CDC) Atlanta - informal technical sup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11280" y="260280"/>
            <a:ext cx="79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ssumptions used for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ample Size Calculations per division/Rural/Urban/N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0" y="1484280"/>
          <a:ext cx="9144000" cy="4395960"/>
        </p:xfrm>
        <a:graphic>
          <a:graphicData uri="http://schemas.openxmlformats.org/drawingml/2006/table">
            <a:tbl>
              <a:tblPr/>
              <a:tblGrid>
                <a:gridCol w="1743120"/>
                <a:gridCol w="1316160"/>
                <a:gridCol w="1150920"/>
                <a:gridCol w="987120"/>
                <a:gridCol w="986040"/>
                <a:gridCol w="1481040"/>
                <a:gridCol w="1479600"/>
              </a:tblGrid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ca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ated Preval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ired Preci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ign Eff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ple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-respon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households nee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child/H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M (&lt;-2 z score + edem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n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HAZ &lt;-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derweig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WAZ &lt;-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tamin 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st 6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Sampling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755640" y="836640"/>
          <a:ext cx="7272360" cy="5113080"/>
        </p:xfrm>
        <a:graphic>
          <a:graphicData uri="http://schemas.openxmlformats.org/drawingml/2006/table">
            <a:tbl>
              <a:tblPr/>
              <a:tblGrid>
                <a:gridCol w="2255760"/>
                <a:gridCol w="2384280"/>
                <a:gridCol w="2632320"/>
              </a:tblGrid>
              <a:tr h="48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ple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us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8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ris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ttago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ha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hul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jshah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ylh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u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rb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560" y="6165360"/>
            <a:ext cx="8569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Market/Trade survey, 180 markets and 900 traders were intervie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92360" y="5516640"/>
            <a:ext cx="1366920" cy="4316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869080" y="5516640"/>
            <a:ext cx="1366920" cy="4316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59280" y="6093000"/>
            <a:ext cx="1439640" cy="4316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30920" y="6093000"/>
            <a:ext cx="1296720" cy="4316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71280" y="2204640"/>
            <a:ext cx="5977080" cy="16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3. Results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692360" y="3573360"/>
            <a:ext cx="5410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347640" y="2060280"/>
            <a:ext cx="5622840" cy="18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1.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mography and Ge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mography and Ge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49636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household size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 per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of households with dependent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of female-headed household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of heads of household that never attended school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3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pendenc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ratio between the active population and inactive (below 15-years and 60+ years) population, i.e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ose that are not wo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347640" y="2060280"/>
            <a:ext cx="5622840" cy="18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2. Re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sults/Highlights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ood Markets Surve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rs Perceptions, Market constraint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consumer purchasing power, a major constr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619280" y="1413000"/>
            <a:ext cx="6337440" cy="4103640"/>
            <a:chOff x="1619280" y="1413000"/>
            <a:chExt cx="6337440" cy="4103640"/>
          </a:xfrm>
        </p:grpSpPr>
        <p:pic>
          <p:nvPicPr>
            <p:cNvPr id="202" name="" descr=""/>
            <p:cNvPicPr/>
            <p:nvPr/>
          </p:nvPicPr>
          <p:blipFill>
            <a:blip r:embed="rId1"/>
            <a:stretch/>
          </p:blipFill>
          <p:spPr>
            <a:xfrm>
              <a:off x="2122560" y="1700280"/>
              <a:ext cx="5545080" cy="36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3423600" y="1700280"/>
              <a:ext cx="53748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36680" y="2276280"/>
              <a:ext cx="53748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6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376320" y="3357360"/>
              <a:ext cx="53748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1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6200000">
              <a:off x="1241640" y="3125160"/>
              <a:ext cx="141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% of trad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19280" y="1413000"/>
              <a:ext cx="6337440" cy="4103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320760" y="6021360"/>
            <a:ext cx="86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% traders: “low purchasing power”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ajor constr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51520" y="6583320"/>
            <a:ext cx="22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survey, HHFSNA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rs Perceptions: Main Causes High Food P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111320" y="1689120"/>
            <a:ext cx="6696000" cy="4464000"/>
            <a:chOff x="1111320" y="1689120"/>
            <a:chExt cx="6696000" cy="4464000"/>
          </a:xfrm>
        </p:grpSpPr>
        <p:pic>
          <p:nvPicPr>
            <p:cNvPr id="212" name="" descr=""/>
            <p:cNvPicPr/>
            <p:nvPr/>
          </p:nvPicPr>
          <p:blipFill>
            <a:blip r:embed="rId1"/>
            <a:stretch/>
          </p:blipFill>
          <p:spPr>
            <a:xfrm>
              <a:off x="1482840" y="1838160"/>
              <a:ext cx="6265800" cy="35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2150640" y="5289480"/>
              <a:ext cx="1575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oard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ock build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006440" y="5289480"/>
              <a:ext cx="1578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igh Price 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ource Mark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51160" y="5289480"/>
              <a:ext cx="1125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cre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s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56960" y="2091960"/>
              <a:ext cx="53748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586760" y="2131920"/>
              <a:ext cx="50976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3%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40600" y="3438360"/>
              <a:ext cx="48708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1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11320" y="1689120"/>
              <a:ext cx="6696000" cy="4464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6851520" y="6583320"/>
            <a:ext cx="22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survey, HHFSNA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5075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rs identify more customers requesting cr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826920" y="1197000"/>
            <a:ext cx="6121440" cy="4679640"/>
            <a:chOff x="826920" y="1197000"/>
            <a:chExt cx="6121440" cy="4679640"/>
          </a:xfrm>
        </p:grpSpPr>
        <p:pic>
          <p:nvPicPr>
            <p:cNvPr id="223" name="" descr=""/>
            <p:cNvPicPr/>
            <p:nvPr/>
          </p:nvPicPr>
          <p:blipFill>
            <a:blip r:embed="rId1"/>
            <a:stretch/>
          </p:blipFill>
          <p:spPr>
            <a:xfrm>
              <a:off x="1187280" y="2175120"/>
              <a:ext cx="5308920" cy="295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1908720" y="1269360"/>
              <a:ext cx="424692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quests for cred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cent of Traders indicating Chan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910520" y="5072400"/>
              <a:ext cx="113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r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ques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421800" y="5072400"/>
              <a:ext cx="113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s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ques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903920" y="5101560"/>
              <a:ext cx="108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ame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 chan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26920" y="1197000"/>
              <a:ext cx="6121440" cy="4679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756360" y="6093000"/>
            <a:ext cx="69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5% of traders extend credit to compensate for low demand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17040" y="2097000"/>
            <a:ext cx="5374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13120" y="2924280"/>
            <a:ext cx="487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24320" y="3213000"/>
            <a:ext cx="487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51520" y="6583320"/>
            <a:ext cx="22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survey, HHFSNA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347640" y="2060280"/>
            <a:ext cx="5622840" cy="18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3. R</a:t>
            </a: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esults/Highlights Household Food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Outlin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56908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2. Survey 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3. Resul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3.1. Demography and G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3.2. Food Marke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3.3. Household Food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3.4. Nutrition, Health, Water/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3.5. Malnutrition and Household Food Security Lin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4. Conclu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5.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useholds more dependant on the marke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686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market participants gr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food buyers” group expands most (+28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ban (+3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male headed HHs (+68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lihood Groups becoming more dependan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ge laborers (Non-Ag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5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ual Work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5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ittance earn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5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act on household income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50560" y="1980720"/>
            <a:ext cx="8435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Income per HH drops by 1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S 2005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3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D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HFSN 2008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D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inal income, 2008 vs. 200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 increases by 1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Object 3"/>
          <p:cNvGraphicFramePr/>
          <p:nvPr/>
        </p:nvGraphicFramePr>
        <p:xfrm>
          <a:off x="1332000" y="765000"/>
          <a:ext cx="7162560" cy="4623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765000"/>
                    <a:ext cx="7162560" cy="462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-2520" y="333360"/>
            <a:ext cx="889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chasing power fell due to rising food pric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79280" y="522936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ay’s worth of labor bought less ric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79280" y="558972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ch 2007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day’s wage = 5 to 7 kg of coarse ri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une 2008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day’s wage = 3.7 to 5 kg of coarse ric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mount (need specific; i.e. 4 kgs.) is enough to feed a household of 5 in a da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ever larger percentage share food expenditures … compromised expenditures on other non-food basic nee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useholds spend more on food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5832720" cy="31878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95280" y="5194080"/>
            <a:ext cx="8229600" cy="16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 for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money for other basic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 impact on development, and MD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551600" y="4316400"/>
            <a:ext cx="77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134160" y="4316400"/>
            <a:ext cx="77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5080" y="4316400"/>
            <a:ext cx="105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FS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683720" y="3098880"/>
            <a:ext cx="5374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09400" y="2997360"/>
            <a:ext cx="5374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24800" y="1427040"/>
            <a:ext cx="5860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19280" y="1413000"/>
            <a:ext cx="25034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od Expenditure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Percent of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106560" y="835560"/>
            <a:ext cx="4609440" cy="201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useholds spend more on food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206280" y="915840"/>
            <a:ext cx="8182080" cy="41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ighest shares… by Divi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ylhet 67.7%, Chittagong (64%) and Dhaka (62.2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male-headed households 64 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s. 62% MH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324000" y="4941720"/>
            <a:ext cx="806436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like past expenditure pattern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much difference between rural urban food expendi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258920" y="2349360"/>
            <a:ext cx="5986440" cy="33400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975680" y="5691240"/>
            <a:ext cx="148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rrow Mon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mily, Frie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03680" y="5691240"/>
            <a:ext cx="183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rrow Mon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nks, Micro-cr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581800" y="5691240"/>
            <a:ext cx="156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duce 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endi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55280" y="2997360"/>
            <a:ext cx="537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139640" y="3068640"/>
            <a:ext cx="537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752440" y="3905280"/>
            <a:ext cx="537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5280" y="620640"/>
            <a:ext cx="824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ng by Taking on deb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reducing health expendi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843640" y="1989000"/>
            <a:ext cx="375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st common coping strategies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st 12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26920" y="1844640"/>
            <a:ext cx="6624720" cy="446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31760" y="397152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 of Househ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851520" y="6583320"/>
            <a:ext cx="22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survey, HHFSNA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576360" y="1413000"/>
            <a:ext cx="8567640" cy="52448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338400" y="646200"/>
            <a:ext cx="8270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emale Headed Households Struggling to Cop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848320" y="1557360"/>
            <a:ext cx="4956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ping Strategies Index;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40000" y="1989000"/>
            <a:ext cx="503280" cy="2664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66920" y="6613560"/>
            <a:ext cx="687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 average…Female headed hhs had comparatively much higher; 64% higher… CSI scores vs. HHs headed by mal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5" name="Object 3"/>
          <p:cNvGraphicFramePr/>
          <p:nvPr/>
        </p:nvGraphicFramePr>
        <p:xfrm>
          <a:off x="1187280" y="1127160"/>
          <a:ext cx="6624720" cy="553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127160"/>
                    <a:ext cx="6624720" cy="55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123640" y="1412640"/>
            <a:ext cx="4351320" cy="81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cent Food Insecure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d on Food Consumption Sc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41800" y="476280"/>
            <a:ext cx="81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in four (25%) of households are food insec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o are the most affected househol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468360" y="1413000"/>
          <a:ext cx="8218440" cy="5229000"/>
        </p:xfrm>
        <a:graphic>
          <a:graphicData uri="http://schemas.openxmlformats.org/drawingml/2006/table">
            <a:tbl>
              <a:tblPr/>
              <a:tblGrid>
                <a:gridCol w="2055600"/>
                <a:gridCol w="2054520"/>
                <a:gridCol w="2052360"/>
                <a:gridCol w="2055960"/>
              </a:tblGrid>
              <a:tr h="104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Food Insec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Food Consumption Scor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ent on fo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ping Strategies Index Sco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agric. labour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gric. labour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sual work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Aver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2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6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00720" y="2133720"/>
            <a:ext cx="4435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100" spc="-1" strike="noStrike">
                <a:solidFill>
                  <a:srgbClr val="ffffff"/>
                </a:solidFill>
                <a:latin typeface="Arial"/>
              </a:rPr>
              <a:t>3.4. Nutrition, Health, Water and Sanitatio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47640" y="2060280"/>
            <a:ext cx="5622840" cy="18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. Background 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Food Price Shock … and macro-econ. contex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347640" y="2060280"/>
            <a:ext cx="5622840" cy="18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hild Nutri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8964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9 National Estimates: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ild Malnutrition, Wasting, Stunting, Underweight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 – 59 months (WHO standa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95280" y="1844640"/>
          <a:ext cx="8353080" cy="4392360"/>
        </p:xfrm>
        <a:graphic>
          <a:graphicData uri="http://schemas.openxmlformats.org/drawingml/2006/table">
            <a:tbl>
              <a:tblPr/>
              <a:tblGrid>
                <a:gridCol w="2358720"/>
                <a:gridCol w="1904400"/>
                <a:gridCol w="1904760"/>
                <a:gridCol w="218520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ldre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 – 59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s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WHZ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unting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HAZ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derweight (WAZ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81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lob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lnutrition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I 12.1-15.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CI 46.5-50.6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CI 35.4-39.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v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lnutrition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I 2.8-4.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CI 18.4-21.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CI 10.9-13.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85" name=""/>
          <p:cNvSpPr/>
          <p:nvPr/>
        </p:nvSpPr>
        <p:spPr>
          <a:xfrm>
            <a:off x="611280" y="5589720"/>
            <a:ext cx="820872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58920" y="64278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30200" y="33336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ild Malnutrition,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Wasting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6 - 59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y Division, Areas and National (WHO standards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n=4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5753160"/>
            <a:ext cx="867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24000" y="3357720"/>
            <a:ext cx="525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609480" y="1625760"/>
          <a:ext cx="7810560" cy="389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25760"/>
                    <a:ext cx="7810560" cy="38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2268360" y="2492280"/>
            <a:ext cx="532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451640" y="2276640"/>
            <a:ext cx="151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O emergency threshold 1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5280" y="5516640"/>
            <a:ext cx="856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ting is worse in Barisal and Rajshahi divisions. These findings are consistent with Food Security findings – the most food insecure 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oor /borderline food consumption grou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divisions are in these the same div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9198200">
            <a:off x="1839960" y="4941720"/>
            <a:ext cx="647640" cy="216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19198200">
            <a:off x="4011120" y="4971600"/>
            <a:ext cx="784440" cy="216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ild Malnutrition,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asting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, 6 - 59 months,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y Age Group (WHO standards)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n=4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755640" y="1557360"/>
          <a:ext cx="7655040" cy="38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557360"/>
                    <a:ext cx="765504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1979640" y="2924280"/>
            <a:ext cx="45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588000" y="263700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O emergency threshold 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017800" y="4916520"/>
            <a:ext cx="649080" cy="216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033720" y="4929120"/>
            <a:ext cx="649440" cy="216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19280" y="5661000"/>
            <a:ext cx="595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68360" y="5589720"/>
            <a:ext cx="82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children aged 6-23 months are malnourished than children aged 24-59 month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this is closely linked to the poor feeding pract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79280" y="40464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ild Malnutrition,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tunting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6 - 59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y Division, Areas and National (WHO standards)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n=39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5280" y="5753160"/>
            <a:ext cx="867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24000" y="3357720"/>
            <a:ext cx="525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826920" y="1341360"/>
          <a:ext cx="7480440" cy="368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341360"/>
                    <a:ext cx="7480440" cy="36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7308720" y="2708280"/>
            <a:ext cx="183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O threshold 4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700360" y="2743200"/>
            <a:ext cx="4896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68360" y="5229360"/>
            <a:ext cx="842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all, stunting remains high across all divisions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lhet has the highest stunting rate while Dhaka, Barisal and CHT are higher than the national average.  Sylhet has a high increase of food expenditures and it is also one of the divisions affected by price transmiss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"/>
          <p:cNvGraphicFramePr/>
          <p:nvPr/>
        </p:nvGraphicFramePr>
        <p:xfrm>
          <a:off x="1187280" y="1413000"/>
          <a:ext cx="6890040" cy="38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413000"/>
                    <a:ext cx="689004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ild Malnutrition,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Underweigh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6 - 59 months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y Division, Areas and National (WHO standards)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n=41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56000" y="3500280"/>
            <a:ext cx="4032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588000" y="3213000"/>
            <a:ext cx="183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O threshold 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9640" y="5300640"/>
            <a:ext cx="835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vels of underweight are all above the 30% WHO thresho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exception of Khulna division. Barisal and Sylhet have shown high rates of underweight which are consistent with the food security situation in those two div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250920" y="40464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ational Estimates: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ild Malnutrition, Wasting, 2005 - 2009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WHO standards</a:t>
            </a:r>
            <a:r>
              <a:rPr b="1" lang="en-GB" sz="1800" spc="-1" strike="noStrike">
                <a:solidFill>
                  <a:srgbClr val="00007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124000" y="3357720"/>
            <a:ext cx="525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406440" y="1371600"/>
          <a:ext cx="8178840" cy="342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371600"/>
                    <a:ext cx="8178840" cy="34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>
            <a:off x="7236000" y="2205000"/>
            <a:ext cx="165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O emergency threshold 1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5280" y="5084640"/>
            <a:ext cx="842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s of acute malnutrition has decreased – compared to BDHS 2007. However, since this survey was conducted during the best period of the year,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M rate of 13.5% (which is just below the emergency threshold)  indicates a serious nutritional situ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692360" y="2467080"/>
            <a:ext cx="62643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50920" y="40464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ational Estimates: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ild Malnutrition, Stun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5 - 2009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WHO standar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68360" y="602136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124000" y="3357720"/>
            <a:ext cx="525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468360" y="1484280"/>
          <a:ext cx="8153280" cy="420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8153280" cy="42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2340000" y="3213000"/>
            <a:ext cx="44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732720" y="3068640"/>
            <a:ext cx="165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O threshold 4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95280" y="5661000"/>
            <a:ext cx="856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unting levels  have increased – but remain stable in comparison to 2005. This is in harmony with the analysis of the food consumption groups and dietary int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250920" y="40464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ational Estimates: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ild Malnutrition, Under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5 - 2009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WHO standar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5280" y="5753160"/>
            <a:ext cx="867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124000" y="3357720"/>
            <a:ext cx="525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85800" y="2057400"/>
          <a:ext cx="7277040" cy="341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57400"/>
                    <a:ext cx="727704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2378160" y="3560760"/>
            <a:ext cx="3887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227640" y="3429000"/>
            <a:ext cx="165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O threshold 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95280" y="5589720"/>
            <a:ext cx="856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weight has decreased a little, but it still remains above the WHO thresholds – however, survey conducted during the harvest season, thus this explains the “improvemen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50920" y="54936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fant &amp; Young Child Feeding Pract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clusive Breastfeeding 0- 6 Months, by Age and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68360" y="5229360"/>
            <a:ext cx="867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or infant and young child feeding practic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ith limited practice of exclusive breastfeeding to 6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395280" y="1484280"/>
          <a:ext cx="8547120" cy="363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84280"/>
                    <a:ext cx="8547120" cy="36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55640" y="6093000"/>
            <a:ext cx="8209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ing:  Food Price Shock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2952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ation rising mid 2006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ation rate… &gt; 7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 Inflatio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 Rise begins mid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2973240" y="2143080"/>
            <a:ext cx="604836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79280" y="33336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fant &amp; Young Child Feeding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124000" y="3357720"/>
            <a:ext cx="525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9640" y="765000"/>
            <a:ext cx="745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centage of children 6 - 23.9 months that received a minimum diet divers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. 4 food groups/day from 7 different food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611280" y="1341360"/>
          <a:ext cx="7607160" cy="379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341360"/>
                    <a:ext cx="7607160" cy="37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"/>
          <p:cNvSpPr/>
          <p:nvPr/>
        </p:nvSpPr>
        <p:spPr>
          <a:xfrm>
            <a:off x="792000" y="5300640"/>
            <a:ext cx="835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60% of the children age 6-24 months did not received 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inimum diet of at least 4 food groups a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4" name=""/>
          <p:cNvGraphicFramePr/>
          <p:nvPr/>
        </p:nvGraphicFramePr>
        <p:xfrm>
          <a:off x="826920" y="1268280"/>
          <a:ext cx="7920360" cy="369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268280"/>
                    <a:ext cx="7920360" cy="36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centage of children 6-24 months that received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imum meal freq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39640" y="4940280"/>
            <a:ext cx="8425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50% of the children 6-24 months di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ceive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imum meal frequenc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Barisal, Chittagong and Sylhet are the wor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347640" y="2060280"/>
            <a:ext cx="5622840" cy="18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Maternal Nutri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447840" y="5300640"/>
            <a:ext cx="8743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unting is closely correlated with poor maternal nutrition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Note: Maternal nutrition status based on low MUAC of &lt;221 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457200" y="692280"/>
          <a:ext cx="8255160" cy="433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92280"/>
                    <a:ext cx="8255160" cy="43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932040" y="620640"/>
            <a:ext cx="7672320" cy="460872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539640" y="544500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h wasted and underweight children are more likely to be illness than stunted child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Maternal Nutritio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4960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UAC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8.2%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lt; 221 mm GAM and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8.9%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&lt; 214 mm SAM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O cut-of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tamin 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overage in mothers 6-weeks post-partum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ron/fol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upplementation of pregnant women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0.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347640" y="2060280"/>
            <a:ext cx="5622840" cy="18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Morbidity, Mortality, Water and Sani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ild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02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95280" y="1989000"/>
            <a:ext cx="7848720" cy="27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8.6%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f children were ill in the 2-weeks before the survey (49% rural, 47.5% urb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5% of children were brought to health facilities. Lack of money was the major reason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5.5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for those children not brought for health c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Health: (household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02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95280" y="1989000"/>
            <a:ext cx="36720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84360" y="1844640"/>
            <a:ext cx="799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0.8%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ported illness in the previous 2-weeks (51.1% rural, 50% urb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5% of the households surveyed sought healthcare treatment. Of those that did not,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5.6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ted that lack of money was the major rea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395280" y="47628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eneral Mortality and Child Mortality, Under-5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68360" y="573408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124000" y="3357720"/>
            <a:ext cx="525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39640" y="5373720"/>
            <a:ext cx="835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tality rates well below alert and emergency thresholds, both nationally, and within divisions. There is no statistical difference between urban and ru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755640" y="1052640"/>
          <a:ext cx="7272360" cy="4033800"/>
        </p:xfrm>
        <a:graphic>
          <a:graphicData uri="http://schemas.openxmlformats.org/drawingml/2006/table">
            <a:tbl>
              <a:tblPr/>
              <a:tblGrid>
                <a:gridCol w="1295280"/>
                <a:gridCol w="3052800"/>
                <a:gridCol w="2924280"/>
              </a:tblGrid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5 Mortality 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U5 deaths/10,000 U5 children/da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ert threshold: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2.0/10,000/da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ude Mortality Rat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deaths/10,000 persons/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alert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reshold: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1.0/10,000/da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6  (CI 0.64-0.6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2  (CI 0.21-0.2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ris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6  (CI 0.61-0.7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0   (CI 0.09-0.1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ittago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2  (CI 0.69-0.7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2  (CI 0.21-0.2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ha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1  (CI 0.69-0.7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4  (CI 0.33-0.3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hul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0 (CI 0.56-0.6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7  (CI 0.16-0.1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jsha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8  (CI 0.55-0.6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0  (CI 0.29-0.3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lh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1  (CI 0.56-0.6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8  (CI 0.07-0.0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u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5  (CI 0.64-0.6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6  (CI 0.25-0.2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rb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1  (CI 0.68-0.7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4  (CI 0.13-0.1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gnitude of domestic prices increa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478160" y="1052640"/>
            <a:ext cx="64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term time Series: July ’95 thru Jan.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2143080" y="157176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lesale prices of rice (Re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Chart 4" descr=""/>
          <p:cNvPicPr/>
          <p:nvPr/>
        </p:nvPicPr>
        <p:blipFill>
          <a:blip r:embed="rId1"/>
          <a:stretch/>
        </p:blipFill>
        <p:spPr>
          <a:xfrm>
            <a:off x="633240" y="2279520"/>
            <a:ext cx="7809120" cy="41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325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ercent of households with safe sources of drinking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79280" y="4437000"/>
            <a:ext cx="864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9.3% of the population have as a main source of drinking water, a tubewell or borehole at the moment of the survey, but only 7.5% of households treat their drinking water at the moment (no change from 12 months ag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395280" y="1197000"/>
          <a:ext cx="8424720" cy="26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97000"/>
                    <a:ext cx="8424720" cy="26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"/>
          <p:cNvSpPr/>
          <p:nvPr/>
        </p:nvSpPr>
        <p:spPr>
          <a:xfrm>
            <a:off x="2590920" y="5853240"/>
            <a:ext cx="655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n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395280" y="1268280"/>
          <a:ext cx="844704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268280"/>
                    <a:ext cx="844704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"/>
          <p:cNvSpPr/>
          <p:nvPr/>
        </p:nvSpPr>
        <p:spPr>
          <a:xfrm>
            <a:off x="684360" y="4797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1.4% of the population used an improved toilet facility, usage of improved latrine more in urban area compared to rural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24000" y="5157720"/>
            <a:ext cx="849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2916000" y="213372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3.5. Malnutrition and Household Food Security Linkag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353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OD SECURITY and NUTRITION LIN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istical Linkages (Signific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ren within households wi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oor and borderline household food consumption scor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more likely to b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nourished (wasting, stunting, underweight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usehold with high percent share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od expenditu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ere more likely to have malnourished children (wasting, stunting, underwe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useholds having higher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ping Strategy Inde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SI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cores are more likely to have malnourished childr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asting, stunting, underwe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useholds with seasonal or irregular incom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agriculture wage, non-agriculture wage and casual work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re more likely to have malnourished children (stunting / underwe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39640" y="5805360"/>
            <a:ext cx="820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916000" y="213372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4. Conclusion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usehold Food Security and Mar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 barriers were a major contributing factor re: food price r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traders identify main constraints; low capital for investment in food storage facilit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s heavy reliance on debt to cope with food access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s spent a greater percent of their total expenditures on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s compromise health care expenditures to cope; implications for MDG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protection and Social Safety Net expansion needs to be faster, more agile, and better targ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GB" sz="4800" spc="-1" strike="noStrike">
                <a:solidFill>
                  <a:srgbClr val="00007d"/>
                </a:solidFill>
                <a:latin typeface="Arial"/>
                <a:ea typeface="ＭＳ Ｐゴシック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trition, Health, Water and Sanitation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4247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all, wasting and underweight levels remains high while there is a slight increase in stunting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youngest children presen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igher rates malnutrition, especially acute malnutr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et qualit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oes not meet acceptable levels for children, th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ng children less than two years of ag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 not eat the minimum acceptable di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ild malnutrition is strongly associated with the two main indicators for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od security (i.e. children from poor and border line food consumption groups or/and from households with  increase % of expenditure on food are more likely to be malnourish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evalence of illness among other household member and among children under five year ol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high. Lack of money is an important reason for not seeking medical care, whi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fever, respiratory illness and diarrhoea are significantly associated with acute malnutrition (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st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rtality rat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main below alert and emergency threshol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verall,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ater and sanita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ndicators are stable bu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lity of wat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n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ter treatme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not necessarily g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2916000" y="213372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5. Recommendations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964720" cy="52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20480" indent="-420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 the efficiency and effectiveness of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ial Safety Net 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expand coverage in areas of high malnutrition and food insecu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lementary feeding w/ micronutri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vulnerable groups, Children Under 5’s, Under 2’s, Pregnant and/or Lactating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h interven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n food abundant, accounting for seasonality, and market availability; otherwi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rgeted food assi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investment in food marketing and storag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.g. warehouses for larger sto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mote open trade polic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in region, avoid policies that result in trade barrier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-252360" y="907920"/>
            <a:ext cx="93963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vest more and build on existing information systems f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nitoring and surveillance, early warning for early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7. Address the large numbers of acutely malnourished children wit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agement of acute malnutr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t bo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facility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ty lev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8. Improv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ptimal infant and young child feed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mphasizing maternal  and community particip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 Emphasiz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cronutrient-enriched foods and diet diversit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foo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istance interventions, food security and nutritional program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. Strength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health and hygiene promo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o prevent and trea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arrhoeal disease, respiratory infections and f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. Harmonized and develop and standardiz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ational survey guidelines to enable data quality and compar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ce rise cause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1484280"/>
            <a:ext cx="8713800" cy="5184720"/>
          </a:xfrm>
          <a:prstGeom prst="rect">
            <a:avLst/>
          </a:prstGeom>
          <a:noFill/>
          <a:ln w="9360">
            <a:solidFill>
              <a:srgbClr val="00007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p failures, oil price rise, bio-fuel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nal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 barriers, export bans …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est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disa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7 Fl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7 Cyclone Si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456840"/>
            <a:ext cx="878544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Arial"/>
              </a:rPr>
              <a:t>Food Grain Imports rise dramatically…2007-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4993560" y="6236640"/>
            <a:ext cx="379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: Bangladesh Bank, Economic Trends (2009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= Provisional estimates up to Feb.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416720" cy="35085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877080" y="1413000"/>
            <a:ext cx="503280" cy="1728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79800" y="5321160"/>
            <a:ext cx="576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of Food Grain imports as percent total imports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7-08 reaches 6%, vs. 3% in previous yea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de barriers with Ind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e</a:t>
            </a:r>
            <a:r>
              <a:rPr b="0" lang="en-US" sz="2000" spc="-1" strike="noStrike" baseline="6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“Minimum Export Price” set artificially hig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rts later banned: April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 rot="16200000">
            <a:off x="1036440" y="3870360"/>
            <a:ext cx="107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USD/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2557080" y="5445000"/>
            <a:ext cx="6897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3710160" y="5445000"/>
            <a:ext cx="726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4717440" y="5445000"/>
            <a:ext cx="1105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5616360" cy="30067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8"/>
          <p:cNvSpPr/>
          <p:nvPr/>
        </p:nvSpPr>
        <p:spPr>
          <a:xfrm>
            <a:off x="5868360" y="5445000"/>
            <a:ext cx="1105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27400" y="6481800"/>
            <a:ext cx="22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Rice:  non-Basmati 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332000" y="2349360"/>
            <a:ext cx="6192720" cy="3816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-467280" y="1123200"/>
            <a:ext cx="6768000" cy="3025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04320" y="3738600"/>
            <a:ext cx="5220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4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5240" y="3565440"/>
            <a:ext cx="5220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5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08680" y="3170160"/>
            <a:ext cx="5770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6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8320" y="2421000"/>
            <a:ext cx="6760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$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09:41:25Z</dcterms:created>
  <dc:creator>Carrie Morrison</dc:creator>
  <dc:description/>
  <dc:language>en-US</dc:language>
  <cp:lastModifiedBy>carrie morrison</cp:lastModifiedBy>
  <dcterms:modified xsi:type="dcterms:W3CDTF">2009-04-05T08:35:27Z</dcterms:modified>
  <cp:revision>753</cp:revision>
  <dc:subject/>
  <dc:title>Food Security and Nutrition Assessment</dc:title>
</cp:coreProperties>
</file>