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2B1C-E742-4C63-BB94-43F5C951A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A791-36EB-476B-9B2C-B08F745DE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5F58-A02F-4B90-AFA3-744019030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30C8-EBD7-4C34-BAEE-2623A592B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21B7-E8E0-4F71-9AC8-8E3F9D625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bedded in  a context of risk…hence vulner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ok at quality, diversity, healthy and acti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5C1B-2437-459C-AAA6-4CEEF339D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E37-05B1-4C11-B414-F40DF82D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4A7-B525-439C-84EF-D80C453B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D36-AB30-4D96-A20F-7CB5B709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792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4776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54808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9792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4776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89E-90C8-4865-83A3-C7195921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03C3F-6BEE-4D2A-875C-389B42B47E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FF4B0-693C-4C9C-B2C6-0B71EF84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192B6-036F-4C9D-9CB2-4CE80DE6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A075E-F905-45EE-BBF5-43B573FA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13CDC-1743-4116-A23E-AAE5B7D0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61720" y="3267360"/>
            <a:ext cx="17161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A95D7-C7AF-4C05-A635-6390EE05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616EE-1265-400C-83AA-545A7FC5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F6C-A3C4-4BE6-9C7C-CCEC55C5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B745F-6DCA-43FD-AFE4-9414A54B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7C313-A83E-47E5-93DC-ECF70076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CF869-2CCC-4ED2-BCAD-6633E2D5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CFC76-64C8-4C51-B9E3-2637C758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4776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54808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59792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4776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638F7-8F60-48CB-A708-5D5EBCF5F3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079FD-EB40-4849-93F1-B20C5A3C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B441D-F064-4628-B839-61CE814A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77D94-05D7-4688-BAAA-6EF9D6B2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C8D91-2825-4D37-9F2B-8C9C68F6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9302B-7FC0-4C53-87A2-C0AF65EC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3CD-49D4-48ED-82B0-C5B7329E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61720" y="3267360"/>
            <a:ext cx="17161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C6477-2A78-42EC-A0A2-E352590C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BC657-08E1-46F2-8A44-63CE3C58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684BC-4080-4BC3-94AE-2FB00A2F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9E0ED-DAF2-47B2-B29D-AB79CCAD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A3411-E199-49DE-A099-346DF377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94541-A807-4DE0-B91A-24681B36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9792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776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54808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59792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64776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CA79E-E83A-47A8-AEB2-2EE39083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4BD403-7439-4ADE-ABF0-B258D4E1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5219A-0D4C-4EFB-8862-DB1E501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E6447-7376-4430-B24B-9178DA1C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CD5-7C74-429F-A31E-5DC3EF2E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521D1-D359-4F13-8D0D-7DB74203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D1A1F-84C0-46DF-BC61-3D82E37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261720" y="3267360"/>
            <a:ext cx="17161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01BF8-7ABB-48E5-B92A-A7A5E71B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F0D4C-1C79-4188-A220-8E5554C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09883-6612-4D38-9296-7EC0D5C3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7439F-A9E5-47E4-B535-97CAF6DC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EAB1AE-E920-4EB3-90E3-F969834F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3B7C5-9DB2-454B-B46F-DA4A64FC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9792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647760" y="150012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254808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59792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647760" y="3763080"/>
            <a:ext cx="19519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16B25-EB6C-4BB0-81F7-165FD263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ABF-98CA-4532-AB46-B2C4CB67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61720" y="3267360"/>
            <a:ext cx="17161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DE0-8C33-48D5-B739-D997E65A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51A-979D-48B8-A03A-9DA58CA2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54520" y="376308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4FC-6D9E-419E-AEB8-73DAFEE3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4808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54520" y="1500120"/>
            <a:ext cx="295812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48080" y="3763080"/>
            <a:ext cx="6062400" cy="20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E8A-E67D-49E2-8897-F944A2C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19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356600" y="0"/>
            <a:ext cx="178740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8748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0" y="-6480"/>
            <a:ext cx="7429680" cy="908280"/>
          </a:xfrm>
          <a:prstGeom prst="rect">
            <a:avLst/>
          </a:prstGeom>
          <a:ln w="0">
            <a:noFill/>
          </a:ln>
        </p:spPr>
      </p:pic>
      <p:sp>
        <p:nvSpPr>
          <p:cNvPr id="3" name="Line 6"/>
          <p:cNvSpPr/>
          <p:nvPr/>
        </p:nvSpPr>
        <p:spPr>
          <a:xfrm>
            <a:off x="1906560" y="911160"/>
            <a:ext cx="0" cy="5407200"/>
          </a:xfrm>
          <a:prstGeom prst="line">
            <a:avLst/>
          </a:prstGeom>
          <a:ln w="9360">
            <a:solidFill>
              <a:srgbClr val="aa6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9360">
            <a:solidFill>
              <a:srgbClr val="4f1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4" marL="195444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5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6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556920" y="6598800"/>
            <a:ext cx="1904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b74f2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b74f2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798280" y="6462720"/>
            <a:ext cx="4978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153280" y="646380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F54B-AB85-4596-AFEA-182CAC708902}" type="slidenum">
              <a: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3" descr="Bank_master_logo_NO_TRIM"/>
          <p:cNvPicPr/>
          <p:nvPr/>
        </p:nvPicPr>
        <p:blipFill>
          <a:blip r:embed="rId4"/>
          <a:stretch/>
        </p:blipFill>
        <p:spPr>
          <a:xfrm>
            <a:off x="57240" y="6389640"/>
            <a:ext cx="395280" cy="39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Bank_master_logo_NO_TRIM"/>
          <p:cNvPicPr/>
          <p:nvPr/>
        </p:nvPicPr>
        <p:blipFill>
          <a:blip r:embed="rId3"/>
          <a:stretch/>
        </p:blipFill>
        <p:spPr>
          <a:xfrm>
            <a:off x="82440" y="5705640"/>
            <a:ext cx="914400" cy="911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0" y="662940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The World Ba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4" marL="195444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5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6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638680" y="64008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388620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936C-DEC7-4157-BA85-3709FD330E0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19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7356600" y="0"/>
            <a:ext cx="178740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874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0" y="-6480"/>
            <a:ext cx="7429680" cy="90828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>
            <a:off x="1906560" y="911160"/>
            <a:ext cx="0" cy="5407200"/>
          </a:xfrm>
          <a:prstGeom prst="line">
            <a:avLst/>
          </a:prstGeom>
          <a:ln w="9360">
            <a:solidFill>
              <a:srgbClr val="aa6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9360">
            <a:solidFill>
              <a:srgbClr val="4f1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Bank_master_logo_NO_TRIM"/>
          <p:cNvPicPr/>
          <p:nvPr/>
        </p:nvPicPr>
        <p:blipFill>
          <a:blip r:embed="rId4"/>
          <a:stretch/>
        </p:blipFill>
        <p:spPr>
          <a:xfrm>
            <a:off x="57240" y="6389640"/>
            <a:ext cx="395280" cy="393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915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4" marL="195444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5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6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556920" y="6598800"/>
            <a:ext cx="1904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2798280" y="6462720"/>
            <a:ext cx="4978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8153280" y="646380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F35-6137-4997-90B3-53406AA8DB0C}" type="slidenum">
              <a: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19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7356600" y="0"/>
            <a:ext cx="178740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87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0" y="-6480"/>
            <a:ext cx="7429680" cy="908280"/>
          </a:xfrm>
          <a:prstGeom prst="rect">
            <a:avLst/>
          </a:prstGeom>
          <a:ln w="0">
            <a:noFill/>
          </a:ln>
        </p:spPr>
      </p:pic>
      <p:sp>
        <p:nvSpPr>
          <p:cNvPr id="142" name="Line 6"/>
          <p:cNvSpPr/>
          <p:nvPr/>
        </p:nvSpPr>
        <p:spPr>
          <a:xfrm>
            <a:off x="1906560" y="911160"/>
            <a:ext cx="0" cy="5407200"/>
          </a:xfrm>
          <a:prstGeom prst="line">
            <a:avLst/>
          </a:prstGeom>
          <a:ln w="9360">
            <a:solidFill>
              <a:srgbClr val="aa6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0" y="901800"/>
            <a:ext cx="9144000" cy="0"/>
          </a:xfrm>
          <a:prstGeom prst="line">
            <a:avLst/>
          </a:prstGeom>
          <a:ln w="9360">
            <a:solidFill>
              <a:srgbClr val="4f19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Bank_master_logo_NO_TRIM"/>
          <p:cNvPicPr/>
          <p:nvPr/>
        </p:nvPicPr>
        <p:blipFill>
          <a:blip r:embed="rId4"/>
          <a:stretch/>
        </p:blipFill>
        <p:spPr>
          <a:xfrm>
            <a:off x="57240" y="6389640"/>
            <a:ext cx="395280" cy="393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2" marL="108576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3" marL="151992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4" marL="1954440" indent="-217080">
              <a:lnSpc>
                <a:spcPct val="110000"/>
              </a:lnSpc>
              <a:spcBef>
                <a:spcPts val="1400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5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6" marL="1954440" indent="-217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727C-CF86-403F-BF92-C863D38632EB}" type="slidenum">
              <a:rPr b="0" lang="en-US" sz="1000" spc="-1" strike="noStrike">
                <a:solidFill>
                  <a:srgbClr val="9b74f2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38680" y="2362320"/>
            <a:ext cx="2895840" cy="82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ecurity, Agriculture and Nutr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638680" y="46573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68ea"/>
                </a:solidFill>
                <a:latin typeface="Arial"/>
              </a:rPr>
              <a:t>Lynn R Brown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68ea"/>
                </a:solidFill>
                <a:latin typeface="Arial"/>
              </a:rPr>
              <a:t>April 29</a:t>
            </a:r>
            <a:r>
              <a:rPr b="0" lang="en-US" sz="2400" spc="-1" strike="noStrike" baseline="30000">
                <a:solidFill>
                  <a:srgbClr val="a368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a368ea"/>
                </a:solidFill>
                <a:latin typeface="Arial"/>
              </a:rPr>
              <a:t> 2009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981080" y="1295280"/>
            <a:ext cx="7162560" cy="5249880"/>
            <a:chOff x="1981080" y="1295280"/>
            <a:chExt cx="7162560" cy="5249880"/>
          </a:xfrm>
        </p:grpSpPr>
        <p:sp>
          <p:nvSpPr>
            <p:cNvPr id="276" name="Rectangle 3"/>
            <p:cNvSpPr/>
            <p:nvPr/>
          </p:nvSpPr>
          <p:spPr>
            <a:xfrm>
              <a:off x="2103120" y="1400760"/>
              <a:ext cx="6894720" cy="5038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4"/>
            <p:cNvSpPr/>
            <p:nvPr/>
          </p:nvSpPr>
          <p:spPr>
            <a:xfrm>
              <a:off x="1981080" y="1295280"/>
              <a:ext cx="7162560" cy="524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2103120" y="1400760"/>
              <a:ext cx="6894720" cy="5038200"/>
            </a:xfrm>
            <a:prstGeom prst="rect">
              <a:avLst/>
            </a:prstGeom>
            <a:solidFill>
              <a:srgbClr val="ffdf7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>
              <a:off x="3153960" y="1848240"/>
              <a:ext cx="5623200" cy="2677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7"/>
            <p:cNvSpPr/>
            <p:nvPr/>
          </p:nvSpPr>
          <p:spPr>
            <a:xfrm>
              <a:off x="3153960" y="3994920"/>
              <a:ext cx="562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8"/>
            <p:cNvSpPr/>
            <p:nvPr/>
          </p:nvSpPr>
          <p:spPr>
            <a:xfrm>
              <a:off x="3153960" y="3463560"/>
              <a:ext cx="562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9"/>
            <p:cNvSpPr/>
            <p:nvPr/>
          </p:nvSpPr>
          <p:spPr>
            <a:xfrm>
              <a:off x="3153960" y="2910600"/>
              <a:ext cx="562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0"/>
            <p:cNvSpPr/>
            <p:nvPr/>
          </p:nvSpPr>
          <p:spPr>
            <a:xfrm>
              <a:off x="3153960" y="2379240"/>
              <a:ext cx="562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1"/>
            <p:cNvSpPr/>
            <p:nvPr/>
          </p:nvSpPr>
          <p:spPr>
            <a:xfrm>
              <a:off x="3153960" y="1848240"/>
              <a:ext cx="562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>
              <a:off x="3153960" y="1848240"/>
              <a:ext cx="5623200" cy="2677680"/>
            </a:xfrm>
            <a:prstGeom prst="rect">
              <a:avLst/>
            </a:prstGeom>
            <a:noFill/>
            <a:ln w="23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>
              <a:off x="3325680" y="2910600"/>
              <a:ext cx="220680" cy="1614960"/>
            </a:xfrm>
            <a:prstGeom prst="rect">
              <a:avLst/>
            </a:prstGeom>
            <a:solidFill>
              <a:srgbClr val="ff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>
              <a:off x="3887640" y="2103120"/>
              <a:ext cx="220680" cy="2422800"/>
            </a:xfrm>
            <a:prstGeom prst="rect">
              <a:avLst/>
            </a:prstGeom>
            <a:solidFill>
              <a:srgbClr val="ff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>
              <a:off x="4449600" y="3229200"/>
              <a:ext cx="220680" cy="1296720"/>
            </a:xfrm>
            <a:prstGeom prst="rect">
              <a:avLst/>
            </a:prstGeom>
            <a:solidFill>
              <a:srgbClr val="ff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>
              <a:off x="5013000" y="2634120"/>
              <a:ext cx="219240" cy="1891440"/>
            </a:xfrm>
            <a:prstGeom prst="rect">
              <a:avLst/>
            </a:prstGeom>
            <a:solidFill>
              <a:srgbClr val="ff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>
              <a:off x="5574960" y="4164120"/>
              <a:ext cx="219240" cy="361800"/>
            </a:xfrm>
            <a:prstGeom prst="rect">
              <a:avLst/>
            </a:prstGeom>
            <a:solidFill>
              <a:srgbClr val="66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>
              <a:off x="6136920" y="4271400"/>
              <a:ext cx="220680" cy="254520"/>
            </a:xfrm>
            <a:prstGeom prst="rect">
              <a:avLst/>
            </a:prstGeom>
            <a:solidFill>
              <a:srgbClr val="66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>
              <a:off x="6698880" y="4164120"/>
              <a:ext cx="220680" cy="361800"/>
            </a:xfrm>
            <a:prstGeom prst="rect">
              <a:avLst/>
            </a:prstGeom>
            <a:solidFill>
              <a:srgbClr val="66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>
              <a:off x="7260840" y="4164120"/>
              <a:ext cx="220680" cy="361800"/>
            </a:xfrm>
            <a:prstGeom prst="rect">
              <a:avLst/>
            </a:prstGeom>
            <a:solidFill>
              <a:srgbClr val="669900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>
              <a:off x="7822800" y="3696480"/>
              <a:ext cx="220680" cy="829440"/>
            </a:xfrm>
            <a:prstGeom prst="rect">
              <a:avLst/>
            </a:prstGeom>
            <a:solidFill>
              <a:srgbClr val="0099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>
              <a:off x="8386560" y="3399840"/>
              <a:ext cx="218880" cy="1125720"/>
            </a:xfrm>
            <a:prstGeom prst="rect">
              <a:avLst/>
            </a:prstGeom>
            <a:solidFill>
              <a:srgbClr val="3366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3"/>
            <p:cNvSpPr/>
            <p:nvPr/>
          </p:nvSpPr>
          <p:spPr>
            <a:xfrm>
              <a:off x="3153960" y="1848240"/>
              <a:ext cx="1800" cy="267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4"/>
            <p:cNvSpPr/>
            <p:nvPr/>
          </p:nvSpPr>
          <p:spPr>
            <a:xfrm>
              <a:off x="3057120" y="4525920"/>
              <a:ext cx="9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5"/>
            <p:cNvSpPr/>
            <p:nvPr/>
          </p:nvSpPr>
          <p:spPr>
            <a:xfrm>
              <a:off x="3057120" y="3994920"/>
              <a:ext cx="9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6"/>
            <p:cNvSpPr/>
            <p:nvPr/>
          </p:nvSpPr>
          <p:spPr>
            <a:xfrm>
              <a:off x="3057120" y="3463560"/>
              <a:ext cx="96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7"/>
            <p:cNvSpPr/>
            <p:nvPr/>
          </p:nvSpPr>
          <p:spPr>
            <a:xfrm>
              <a:off x="3057120" y="2910600"/>
              <a:ext cx="9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8"/>
            <p:cNvSpPr/>
            <p:nvPr/>
          </p:nvSpPr>
          <p:spPr>
            <a:xfrm>
              <a:off x="3057120" y="2379240"/>
              <a:ext cx="96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>
              <a:off x="3057120" y="1848240"/>
              <a:ext cx="96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0"/>
            <p:cNvSpPr/>
            <p:nvPr/>
          </p:nvSpPr>
          <p:spPr>
            <a:xfrm>
              <a:off x="3153960" y="4525920"/>
              <a:ext cx="562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 flipV="1">
              <a:off x="3153960" y="4525920"/>
              <a:ext cx="180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2"/>
            <p:cNvSpPr/>
            <p:nvPr/>
          </p:nvSpPr>
          <p:spPr>
            <a:xfrm flipV="1">
              <a:off x="3715920" y="4525920"/>
              <a:ext cx="180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3"/>
            <p:cNvSpPr/>
            <p:nvPr/>
          </p:nvSpPr>
          <p:spPr>
            <a:xfrm flipV="1">
              <a:off x="427968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 flipV="1">
              <a:off x="484164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 flipV="1">
              <a:off x="540360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6"/>
            <p:cNvSpPr/>
            <p:nvPr/>
          </p:nvSpPr>
          <p:spPr>
            <a:xfrm flipV="1">
              <a:off x="596556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 flipV="1">
              <a:off x="6527520" y="4525920"/>
              <a:ext cx="180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8"/>
            <p:cNvSpPr/>
            <p:nvPr/>
          </p:nvSpPr>
          <p:spPr>
            <a:xfrm flipV="1">
              <a:off x="7089480" y="4525920"/>
              <a:ext cx="180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765324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40"/>
            <p:cNvSpPr/>
            <p:nvPr/>
          </p:nvSpPr>
          <p:spPr>
            <a:xfrm flipV="1">
              <a:off x="821520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41"/>
            <p:cNvSpPr/>
            <p:nvPr/>
          </p:nvSpPr>
          <p:spPr>
            <a:xfrm flipV="1">
              <a:off x="8777160" y="4525920"/>
              <a:ext cx="144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42"/>
            <p:cNvSpPr/>
            <p:nvPr/>
          </p:nvSpPr>
          <p:spPr>
            <a:xfrm>
              <a:off x="2729160" y="4356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43"/>
            <p:cNvSpPr/>
            <p:nvPr/>
          </p:nvSpPr>
          <p:spPr>
            <a:xfrm>
              <a:off x="2550600" y="38224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44"/>
            <p:cNvSpPr/>
            <p:nvPr/>
          </p:nvSpPr>
          <p:spPr>
            <a:xfrm>
              <a:off x="2369880" y="329256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45"/>
            <p:cNvSpPr/>
            <p:nvPr/>
          </p:nvSpPr>
          <p:spPr>
            <a:xfrm>
              <a:off x="2369880" y="274140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6"/>
            <p:cNvSpPr/>
            <p:nvPr/>
          </p:nvSpPr>
          <p:spPr>
            <a:xfrm>
              <a:off x="2369880" y="220824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7"/>
            <p:cNvSpPr/>
            <p:nvPr/>
          </p:nvSpPr>
          <p:spPr>
            <a:xfrm>
              <a:off x="2369880" y="167724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8"/>
            <p:cNvSpPr/>
            <p:nvPr/>
          </p:nvSpPr>
          <p:spPr>
            <a:xfrm rot="16200000">
              <a:off x="3098520" y="4799160"/>
              <a:ext cx="653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9"/>
            <p:cNvSpPr/>
            <p:nvPr/>
          </p:nvSpPr>
          <p:spPr>
            <a:xfrm rot="16200000">
              <a:off x="3413880" y="5051520"/>
              <a:ext cx="1149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kista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0"/>
            <p:cNvSpPr/>
            <p:nvPr/>
          </p:nvSpPr>
          <p:spPr>
            <a:xfrm rot="16200000">
              <a:off x="3756960" y="5178960"/>
              <a:ext cx="158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anglades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51"/>
            <p:cNvSpPr/>
            <p:nvPr/>
          </p:nvSpPr>
          <p:spPr>
            <a:xfrm rot="16200000">
              <a:off x="4356000" y="5087520"/>
              <a:ext cx="1506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evelop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16200000">
              <a:off x="5348160" y="4790520"/>
              <a:ext cx="653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3"/>
            <p:cNvSpPr/>
            <p:nvPr/>
          </p:nvSpPr>
          <p:spPr>
            <a:xfrm rot="16200000">
              <a:off x="5661720" y="5042160"/>
              <a:ext cx="1149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kista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4"/>
            <p:cNvSpPr/>
            <p:nvPr/>
          </p:nvSpPr>
          <p:spPr>
            <a:xfrm rot="16200000">
              <a:off x="6003360" y="5174280"/>
              <a:ext cx="158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anglades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5"/>
            <p:cNvSpPr/>
            <p:nvPr/>
          </p:nvSpPr>
          <p:spPr>
            <a:xfrm rot="16200000">
              <a:off x="6610320" y="5093640"/>
              <a:ext cx="1506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evelop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56"/>
            <p:cNvSpPr/>
            <p:nvPr/>
          </p:nvSpPr>
          <p:spPr>
            <a:xfrm rot="16200000">
              <a:off x="7527960" y="4877280"/>
              <a:ext cx="79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orl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7"/>
            <p:cNvSpPr/>
            <p:nvPr/>
          </p:nvSpPr>
          <p:spPr>
            <a:xfrm rot="16200000">
              <a:off x="7729200" y="5089320"/>
              <a:ext cx="1506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evelop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Line 58"/>
          <p:cNvSpPr/>
          <p:nvPr/>
        </p:nvSpPr>
        <p:spPr>
          <a:xfrm flipV="1">
            <a:off x="5410080" y="1828800"/>
            <a:ext cx="0" cy="2822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0"/>
          <p:cNvSpPr/>
          <p:nvPr/>
        </p:nvSpPr>
        <p:spPr>
          <a:xfrm flipH="1">
            <a:off x="2971800" y="3429000"/>
            <a:ext cx="5867280" cy="46080"/>
          </a:xfrm>
          <a:prstGeom prst="line">
            <a:avLst/>
          </a:prstGeom>
          <a:ln w="540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1"/>
          <p:cNvSpPr/>
          <p:nvPr/>
        </p:nvSpPr>
        <p:spPr>
          <a:xfrm>
            <a:off x="228600" y="1143000"/>
            <a:ext cx="1447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% Change in Cereal &amp; Pulse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&amp; in Population Between 1965 &amp;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2"/>
          <p:cNvSpPr/>
          <p:nvPr/>
        </p:nvSpPr>
        <p:spPr>
          <a:xfrm>
            <a:off x="3124080" y="1523880"/>
            <a:ext cx="228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re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3"/>
          <p:cNvSpPr/>
          <p:nvPr/>
        </p:nvSpPr>
        <p:spPr>
          <a:xfrm>
            <a:off x="5410080" y="1523880"/>
            <a:ext cx="213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4"/>
          <p:cNvSpPr/>
          <p:nvPr/>
        </p:nvSpPr>
        <p:spPr>
          <a:xfrm>
            <a:off x="7315200" y="1523880"/>
            <a:ext cx="144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8"/>
          <p:cNvSpPr/>
          <p:nvPr/>
        </p:nvSpPr>
        <p:spPr>
          <a:xfrm flipV="1">
            <a:off x="7620120" y="1828800"/>
            <a:ext cx="0" cy="2822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1828800" cy="315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rebuchet MS"/>
              </a:rPr>
              <a:t>I</a:t>
            </a:r>
            <a:r>
              <a:rPr b="1" lang="en-US" sz="2400" spc="-1" strike="noStrike">
                <a:solidFill>
                  <a:srgbClr val="008000"/>
                </a:solidFill>
                <a:latin typeface="Trebuchet MS"/>
              </a:rPr>
              <a:t>ndices of Inflation-adjusted Prices for Bangladesh1973-75 = 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2133720" y="1600200"/>
            <a:ext cx="6781680" cy="4208400"/>
            <a:chOff x="2133720" y="1600200"/>
            <a:chExt cx="6781680" cy="4208400"/>
          </a:xfrm>
        </p:grpSpPr>
        <p:sp>
          <p:nvSpPr>
            <p:cNvPr id="340" name="AutoShape 4"/>
            <p:cNvSpPr/>
            <p:nvPr/>
          </p:nvSpPr>
          <p:spPr>
            <a:xfrm>
              <a:off x="2133720" y="1600200"/>
              <a:ext cx="6773400" cy="42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>
              <a:off x="2601360" y="1760400"/>
              <a:ext cx="4982040" cy="35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2601360" y="1760400"/>
              <a:ext cx="4982040" cy="3597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>
              <a:off x="2806200" y="3560040"/>
              <a:ext cx="275040" cy="179784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>
              <a:off x="4055040" y="4029120"/>
              <a:ext cx="275040" cy="132876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>
              <a:off x="5297400" y="4082760"/>
              <a:ext cx="275040" cy="127476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0"/>
            <p:cNvSpPr/>
            <p:nvPr/>
          </p:nvSpPr>
          <p:spPr>
            <a:xfrm>
              <a:off x="6546240" y="4297320"/>
              <a:ext cx="275040" cy="1060200"/>
            </a:xfrm>
            <a:prstGeom prst="rect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>
              <a:off x="3081240" y="3560040"/>
              <a:ext cx="281880" cy="179784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4330080" y="3471840"/>
              <a:ext cx="275400" cy="188604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5572440" y="2122920"/>
              <a:ext cx="281880" cy="323496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"/>
            <p:cNvSpPr/>
            <p:nvPr/>
          </p:nvSpPr>
          <p:spPr>
            <a:xfrm>
              <a:off x="6821280" y="2122920"/>
              <a:ext cx="275040" cy="323496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5"/>
            <p:cNvSpPr/>
            <p:nvPr/>
          </p:nvSpPr>
          <p:spPr>
            <a:xfrm>
              <a:off x="3363480" y="3560040"/>
              <a:ext cx="275040" cy="1797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4605840" y="2842200"/>
              <a:ext cx="275040" cy="25153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5854680" y="2371680"/>
              <a:ext cx="275040" cy="29862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8"/>
            <p:cNvSpPr/>
            <p:nvPr/>
          </p:nvSpPr>
          <p:spPr>
            <a:xfrm>
              <a:off x="7096680" y="1868400"/>
              <a:ext cx="275040" cy="34891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9"/>
            <p:cNvSpPr/>
            <p:nvPr/>
          </p:nvSpPr>
          <p:spPr>
            <a:xfrm>
              <a:off x="2601360" y="1760400"/>
              <a:ext cx="1080" cy="359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"/>
            <p:cNvSpPr/>
            <p:nvPr/>
          </p:nvSpPr>
          <p:spPr>
            <a:xfrm>
              <a:off x="2556720" y="535788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1"/>
            <p:cNvSpPr/>
            <p:nvPr/>
          </p:nvSpPr>
          <p:spPr>
            <a:xfrm>
              <a:off x="2556720" y="490896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2"/>
            <p:cNvSpPr/>
            <p:nvPr/>
          </p:nvSpPr>
          <p:spPr>
            <a:xfrm>
              <a:off x="2556720" y="445968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3"/>
            <p:cNvSpPr/>
            <p:nvPr/>
          </p:nvSpPr>
          <p:spPr>
            <a:xfrm>
              <a:off x="2556720" y="40089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2556720" y="356004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5"/>
            <p:cNvSpPr/>
            <p:nvPr/>
          </p:nvSpPr>
          <p:spPr>
            <a:xfrm>
              <a:off x="2556720" y="310932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6"/>
            <p:cNvSpPr/>
            <p:nvPr/>
          </p:nvSpPr>
          <p:spPr>
            <a:xfrm>
              <a:off x="2556720" y="26600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7"/>
            <p:cNvSpPr/>
            <p:nvPr/>
          </p:nvSpPr>
          <p:spPr>
            <a:xfrm>
              <a:off x="2556720" y="221112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8"/>
            <p:cNvSpPr/>
            <p:nvPr/>
          </p:nvSpPr>
          <p:spPr>
            <a:xfrm>
              <a:off x="2556720" y="1760400"/>
              <a:ext cx="44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9"/>
            <p:cNvSpPr/>
            <p:nvPr/>
          </p:nvSpPr>
          <p:spPr>
            <a:xfrm>
              <a:off x="2601360" y="5357880"/>
              <a:ext cx="4982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30"/>
            <p:cNvSpPr/>
            <p:nvPr/>
          </p:nvSpPr>
          <p:spPr>
            <a:xfrm flipV="1">
              <a:off x="2601360" y="5357520"/>
              <a:ext cx="1080" cy="4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31"/>
            <p:cNvSpPr/>
            <p:nvPr/>
          </p:nvSpPr>
          <p:spPr>
            <a:xfrm flipV="1">
              <a:off x="3850200" y="5357520"/>
              <a:ext cx="1440" cy="4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 flipV="1">
              <a:off x="5092560" y="5357520"/>
              <a:ext cx="1080" cy="4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 flipV="1">
              <a:off x="6341400" y="5357520"/>
              <a:ext cx="1080" cy="4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4"/>
            <p:cNvSpPr/>
            <p:nvPr/>
          </p:nvSpPr>
          <p:spPr>
            <a:xfrm flipV="1">
              <a:off x="7583400" y="5357520"/>
              <a:ext cx="1440" cy="4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35"/>
            <p:cNvSpPr/>
            <p:nvPr/>
          </p:nvSpPr>
          <p:spPr>
            <a:xfrm>
              <a:off x="2404800" y="5271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6"/>
            <p:cNvSpPr/>
            <p:nvPr/>
          </p:nvSpPr>
          <p:spPr>
            <a:xfrm>
              <a:off x="2316240" y="4822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37"/>
            <p:cNvSpPr/>
            <p:nvPr/>
          </p:nvSpPr>
          <p:spPr>
            <a:xfrm>
              <a:off x="2316240" y="43714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38"/>
            <p:cNvSpPr/>
            <p:nvPr/>
          </p:nvSpPr>
          <p:spPr>
            <a:xfrm>
              <a:off x="2316240" y="392220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9"/>
            <p:cNvSpPr/>
            <p:nvPr/>
          </p:nvSpPr>
          <p:spPr>
            <a:xfrm>
              <a:off x="2228040" y="34718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0"/>
            <p:cNvSpPr/>
            <p:nvPr/>
          </p:nvSpPr>
          <p:spPr>
            <a:xfrm>
              <a:off x="2228040" y="302256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1"/>
            <p:cNvSpPr/>
            <p:nvPr/>
          </p:nvSpPr>
          <p:spPr>
            <a:xfrm>
              <a:off x="2228040" y="25732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42"/>
            <p:cNvSpPr/>
            <p:nvPr/>
          </p:nvSpPr>
          <p:spPr>
            <a:xfrm>
              <a:off x="2228040" y="21229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3"/>
            <p:cNvSpPr/>
            <p:nvPr/>
          </p:nvSpPr>
          <p:spPr>
            <a:xfrm>
              <a:off x="2228040" y="167400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4"/>
            <p:cNvSpPr/>
            <p:nvPr/>
          </p:nvSpPr>
          <p:spPr>
            <a:xfrm>
              <a:off x="2894760" y="5492880"/>
              <a:ext cx="59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973-7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5"/>
            <p:cNvSpPr/>
            <p:nvPr/>
          </p:nvSpPr>
          <p:spPr>
            <a:xfrm>
              <a:off x="4143240" y="5492880"/>
              <a:ext cx="59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979-8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6"/>
            <p:cNvSpPr/>
            <p:nvPr/>
          </p:nvSpPr>
          <p:spPr>
            <a:xfrm>
              <a:off x="5385960" y="5492880"/>
              <a:ext cx="59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988-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47"/>
            <p:cNvSpPr/>
            <p:nvPr/>
          </p:nvSpPr>
          <p:spPr>
            <a:xfrm>
              <a:off x="6634080" y="5492880"/>
              <a:ext cx="59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994-9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48"/>
            <p:cNvSpPr/>
            <p:nvPr/>
          </p:nvSpPr>
          <p:spPr>
            <a:xfrm>
              <a:off x="7635240" y="1996560"/>
              <a:ext cx="1280160" cy="3160800"/>
            </a:xfrm>
            <a:prstGeom prst="rect">
              <a:avLst/>
            </a:prstGeom>
            <a:solidFill>
              <a:srgbClr val="ffeba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9"/>
            <p:cNvSpPr/>
            <p:nvPr/>
          </p:nvSpPr>
          <p:spPr>
            <a:xfrm>
              <a:off x="7826400" y="2184120"/>
              <a:ext cx="147600" cy="153360"/>
            </a:xfrm>
            <a:prstGeom prst="rect">
              <a:avLst/>
            </a:pr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0"/>
            <p:cNvSpPr/>
            <p:nvPr/>
          </p:nvSpPr>
          <p:spPr>
            <a:xfrm>
              <a:off x="7952400" y="2115720"/>
              <a:ext cx="745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ta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51"/>
            <p:cNvSpPr/>
            <p:nvPr/>
          </p:nvSpPr>
          <p:spPr>
            <a:xfrm>
              <a:off x="7826400" y="3230280"/>
              <a:ext cx="147600" cy="154440"/>
            </a:xfrm>
            <a:prstGeom prst="rect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52"/>
            <p:cNvSpPr/>
            <p:nvPr/>
          </p:nvSpPr>
          <p:spPr>
            <a:xfrm>
              <a:off x="7970760" y="3163320"/>
              <a:ext cx="590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53"/>
            <p:cNvSpPr/>
            <p:nvPr/>
          </p:nvSpPr>
          <p:spPr>
            <a:xfrm>
              <a:off x="7952400" y="3444480"/>
              <a:ext cx="745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tap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4"/>
            <p:cNvSpPr/>
            <p:nvPr/>
          </p:nvSpPr>
          <p:spPr>
            <a:xfrm>
              <a:off x="7952400" y="3726360"/>
              <a:ext cx="745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lan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5"/>
            <p:cNvSpPr/>
            <p:nvPr/>
          </p:nvSpPr>
          <p:spPr>
            <a:xfrm>
              <a:off x="7826400" y="4284720"/>
              <a:ext cx="147600" cy="1533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6"/>
            <p:cNvSpPr/>
            <p:nvPr/>
          </p:nvSpPr>
          <p:spPr>
            <a:xfrm>
              <a:off x="7945200" y="4216680"/>
              <a:ext cx="814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Fish &amp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57"/>
            <p:cNvSpPr/>
            <p:nvPr/>
          </p:nvSpPr>
          <p:spPr>
            <a:xfrm>
              <a:off x="7937640" y="4497840"/>
              <a:ext cx="884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nim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198108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50% Increase in all Food Pr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057400" y="1006560"/>
          <a:ext cx="6676920" cy="5460840"/>
        </p:xfrm>
        <a:graphic>
          <a:graphicData uri="http://schemas.openxmlformats.org/drawingml/2006/table">
            <a:tbl>
              <a:tblPr/>
              <a:tblGrid>
                <a:gridCol w="4389480"/>
                <a:gridCol w="2287440"/>
              </a:tblGrid>
              <a:tr h="118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trient and Expenditure Adjust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Percentage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ergy Inta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on Inta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ple 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ndi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7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Staple Foo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ndi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i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ndi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791320" y="1828800"/>
            <a:ext cx="2916000" cy="2714760"/>
          </a:xfrm>
          <a:prstGeom prst="rect">
            <a:avLst/>
          </a:prstGeom>
          <a:solidFill>
            <a:srgbClr val="ffc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6"/>
          <p:cNvSpPr/>
          <p:nvPr/>
        </p:nvSpPr>
        <p:spPr>
          <a:xfrm>
            <a:off x="2008080" y="2817720"/>
            <a:ext cx="118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2057400" y="3429000"/>
            <a:ext cx="1465200" cy="150984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2057400" y="4952880"/>
            <a:ext cx="2932200" cy="14684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9"/>
          <p:cNvSpPr/>
          <p:nvPr/>
        </p:nvSpPr>
        <p:spPr>
          <a:xfrm>
            <a:off x="5985000" y="2728800"/>
            <a:ext cx="26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5791320" y="990720"/>
            <a:ext cx="31446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fff0"/>
                </a:solidFill>
                <a:latin typeface="Arial"/>
              </a:rPr>
              <a:t>Share of</a:t>
            </a:r>
            <a:r>
              <a:rPr b="1" lang="en-US" sz="2800" spc="-1" strike="noStrike">
                <a:solidFill>
                  <a:srgbClr val="008c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Expend After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2fff0"/>
                </a:solidFill>
                <a:latin typeface="Arial"/>
              </a:rPr>
              <a:t>Price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0" y="914400"/>
            <a:ext cx="1828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ural 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3505320" y="3429000"/>
            <a:ext cx="1452600" cy="15238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057400" y="1828800"/>
            <a:ext cx="2916360" cy="1577880"/>
          </a:xfrm>
          <a:prstGeom prst="rect">
            <a:avLst/>
          </a:prstGeom>
          <a:solidFill>
            <a:srgbClr val="ffc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5791320" y="4572000"/>
            <a:ext cx="1482480" cy="73512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7315200" y="4572000"/>
            <a:ext cx="1438200" cy="747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8"/>
          <p:cNvSpPr/>
          <p:nvPr/>
        </p:nvSpPr>
        <p:spPr>
          <a:xfrm>
            <a:off x="2209680" y="5257800"/>
            <a:ext cx="26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9"/>
          <p:cNvSpPr/>
          <p:nvPr/>
        </p:nvSpPr>
        <p:spPr>
          <a:xfrm>
            <a:off x="2209680" y="213372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5791320" y="5334120"/>
            <a:ext cx="2916000" cy="1081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8"/>
          <p:cNvSpPr/>
          <p:nvPr/>
        </p:nvSpPr>
        <p:spPr>
          <a:xfrm>
            <a:off x="5943600" y="541332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057400" y="914400"/>
            <a:ext cx="31449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fff0"/>
                </a:solidFill>
                <a:latin typeface="Arial"/>
              </a:rPr>
              <a:t>Share of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Exp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Before </a:t>
            </a:r>
            <a:r>
              <a:rPr b="1" lang="en-US" sz="2800" spc="-1" strike="noStrike">
                <a:solidFill>
                  <a:srgbClr val="c2fff0"/>
                </a:solidFill>
                <a:latin typeface="Arial"/>
              </a:rPr>
              <a:t>Price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7"/>
          <p:cNvSpPr/>
          <p:nvPr/>
        </p:nvSpPr>
        <p:spPr>
          <a:xfrm>
            <a:off x="21337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staple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8"/>
          <p:cNvSpPr/>
          <p:nvPr/>
        </p:nvSpPr>
        <p:spPr>
          <a:xfrm>
            <a:off x="3664080" y="38862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/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981080" y="996840"/>
            <a:ext cx="2224080" cy="2781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1784520" cy="28191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5"/>
          <p:cNvSpPr/>
          <p:nvPr/>
        </p:nvSpPr>
        <p:spPr>
          <a:xfrm>
            <a:off x="2590920" y="4495680"/>
            <a:ext cx="10490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3child_in_hospital1"/>
          <p:cNvPicPr/>
          <p:nvPr/>
        </p:nvPicPr>
        <p:blipFill>
          <a:blip r:embed="rId3"/>
          <a:stretch/>
        </p:blipFill>
        <p:spPr>
          <a:xfrm>
            <a:off x="6172200" y="990720"/>
            <a:ext cx="2971800" cy="2800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mom&amp;child"/>
          <p:cNvPicPr/>
          <p:nvPr/>
        </p:nvPicPr>
        <p:blipFill>
          <a:blip r:embed="rId4"/>
          <a:stretch/>
        </p:blipFill>
        <p:spPr>
          <a:xfrm>
            <a:off x="4572000" y="3865680"/>
            <a:ext cx="2760840" cy="2992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9" name="Picture 8" descr="nwaz_01_img0114"/>
          <p:cNvPicPr/>
          <p:nvPr/>
        </p:nvPicPr>
        <p:blipFill>
          <a:blip r:embed="rId5"/>
          <a:stretch/>
        </p:blipFill>
        <p:spPr>
          <a:xfrm>
            <a:off x="7139160" y="3809880"/>
            <a:ext cx="2004840" cy="3048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Page16Image"/>
          <p:cNvPicPr/>
          <p:nvPr/>
        </p:nvPicPr>
        <p:blipFill>
          <a:blip r:embed="rId6"/>
          <a:stretch/>
        </p:blipFill>
        <p:spPr>
          <a:xfrm>
            <a:off x="1905120" y="3797280"/>
            <a:ext cx="3035160" cy="30607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0"/>
          <p:cNvSpPr/>
          <p:nvPr/>
        </p:nvSpPr>
        <p:spPr>
          <a:xfrm>
            <a:off x="4952880" y="3809880"/>
            <a:ext cx="2133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Vitami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500,000 children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6589800" y="2698920"/>
            <a:ext cx="2801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Zi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Estimated 2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2057400" y="6004080"/>
            <a:ext cx="2595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I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stimated 2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7238880" y="5796000"/>
            <a:ext cx="1905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stimated 1.5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0" y="1143000"/>
            <a:ext cx="1676520" cy="1373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A Massiv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61720" y="1500120"/>
            <a:ext cx="171612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t adds up to - I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Arial"/>
              </a:rPr>
              <a:t>LBW – 5 IQ points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Arial"/>
              </a:rPr>
              <a:t>Stunting – 5-11 IQ points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Arial"/>
              </a:rPr>
              <a:t>Iodine Deficiency – 10 – 15 IQ points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Arial"/>
              </a:rPr>
              <a:t>Iron deficiency – up to 13 IQ points.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Arial"/>
              </a:rPr>
              <a:t>Many children will be all of the above!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1676520" cy="38444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ioforti -fication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Harvest-Plu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5640" y="144792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Verdana"/>
                <a:ea typeface="Times New Roman"/>
              </a:rPr>
              <a:t>An Agriculture Solution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Verdana"/>
                <a:ea typeface="Times New Roman"/>
              </a:rPr>
              <a:t>Developing staple food crops with higher micronutrient content crops using the best traditional breeding practices and modern biotechnology to achieve provitamin A, iron, and zinc concentrations that can have </a:t>
            </a:r>
            <a:r>
              <a:rPr b="1" lang="en-US" sz="2400" spc="-1" strike="noStrike" u="sng">
                <a:solidFill>
                  <a:srgbClr val="ebdcf8"/>
                </a:solidFill>
                <a:uFillTx/>
                <a:latin typeface="Verdana"/>
                <a:ea typeface="Times New Roman"/>
              </a:rPr>
              <a:t>measurable</a:t>
            </a:r>
            <a:r>
              <a:rPr b="1" lang="en-US" sz="2400" spc="-1" strike="noStrike">
                <a:solidFill>
                  <a:srgbClr val="ebdcf8"/>
                </a:solidFill>
                <a:latin typeface="Verdana"/>
                <a:ea typeface="Times New Roman"/>
              </a:rPr>
              <a:t> effects on nutritional status.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bdcf8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bdcf8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ae29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1760" y="-360"/>
            <a:ext cx="7218360" cy="6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00"/>
              </a:solidFill>
              <a:latin typeface="Trebuchet MS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52280" y="1066680"/>
          <a:ext cx="8915400" cy="5388120"/>
        </p:xfrm>
        <a:graphic>
          <a:graphicData uri="http://schemas.openxmlformats.org/drawingml/2006/table">
            <a:tbl>
              <a:tblPr/>
              <a:tblGrid>
                <a:gridCol w="2052720"/>
                <a:gridCol w="2313000"/>
                <a:gridCol w="3110040"/>
                <a:gridCol w="14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Cro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Nutri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Countries of First Rele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Trebuchet MS"/>
                        </a:rPr>
                        <a:t>Release Year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Swe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Pota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rovitamin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ganda, Mozambi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Be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Iron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(Zinc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wanda/DR C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Pearl Mill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Iron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(Zinc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assa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rovitamin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geria, DR Co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R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Zinc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(Ir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ngladesh, I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a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rovitamin A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Zinc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(Ir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Whe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Zinc</a:t>
                      </a:r>
                      <a:r>
                        <a:rPr b="0" lang="en-US" sz="2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cc6600"/>
                          </a:solidFill>
                          <a:latin typeface="Verdana"/>
                        </a:rPr>
                        <a:t>(Ir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a, Pakis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2" name="Text Box 41"/>
          <p:cNvSpPr/>
          <p:nvPr/>
        </p:nvSpPr>
        <p:spPr>
          <a:xfrm>
            <a:off x="228600" y="6488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pproved for release by national governments after 2-3 years of testing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228600" y="20574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nge Fleshed Sweet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3048120" y="1905120"/>
            <a:ext cx="541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eding –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tamin A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marketing – recipe dev’t, porridge,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ato flour – Bakers, profit 50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preferences – bread, buns – 60gm =&gt; 25% vitamin A for 1-3 year  old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consumption – size, gende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"/>
          <p:cNvSpPr/>
          <p:nvPr/>
        </p:nvSpPr>
        <p:spPr>
          <a:xfrm>
            <a:off x="2209680" y="54100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 area children, vitamin A def’y  - 60% ↓ 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 Intervention vitamin A def’y more than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152280" y="1676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2895480" y="198108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/pover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net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(fortification) – FFW, 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 Win agriculture 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uits,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1720" y="1500120"/>
            <a:ext cx="1716120" cy="8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trition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tunting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Underweight – MDG 1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Wasting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None specific?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240840" y="419112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250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th Asi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 Saharan Afr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548080" y="1500120"/>
            <a:ext cx="6062400" cy="4332240"/>
          </a:xfrm>
          <a:prstGeom prst="rect">
            <a:avLst/>
          </a:prstGeom>
          <a:ln w="0">
            <a:noFill/>
          </a:ln>
        </p:spPr>
      </p:pic>
      <p:sp>
        <p:nvSpPr>
          <p:cNvPr id="441" name="Content Placeholder 2"/>
          <p:cNvSpPr/>
          <p:nvPr/>
        </p:nvSpPr>
        <p:spPr>
          <a:xfrm>
            <a:off x="2438280" y="1143000"/>
            <a:ext cx="6062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India – agriculture development -&gt;poverty redu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Food deficits to food surpluses – food secur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India gross national income (GNI) per capita at $730 – far in excess of most of SSA  bu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Child stunting rates 46 perc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Niger’s GNI per capita is just $240, but its stunting rate is 40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The Gambia - stunting rate 19 percent against a GNI per capita income of $29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Afghanistan, Bangladesh, India, and Nepal  - four of top five globally for underweight childr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Bangladesh and India rank among the highest incidences of low-birth-weight babies, an indicator of maternal malnutr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dcf8"/>
                </a:solidFill>
                <a:latin typeface="Arial"/>
              </a:rPr>
              <a:t>Weak poverty reduction – nutrition improvement linkage in South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4343400" y="6248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2286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2133720" y="10666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dimension of food and nutrition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2286000" y="251460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ilization pi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e, food preparation, health care –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iculture - home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us – mobility, decision making – food,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net programs, cash v f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3352680" y="5334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ia – Africa parado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WLD34045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5562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-92160" y="-92160"/>
            <a:ext cx="161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0480" y="0"/>
            <a:ext cx="169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42900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he problem is large and ex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410080" y="65214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sitioning Nutrition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WLD34144"/>
          <p:cNvPicPr/>
          <p:nvPr/>
        </p:nvPicPr>
        <p:blipFill>
          <a:blip r:embed="rId1"/>
          <a:stretch/>
        </p:blipFill>
        <p:spPr>
          <a:xfrm>
            <a:off x="457200" y="91440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136440" y="-244440"/>
            <a:ext cx="1082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0"/>
            <a:ext cx="153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505320" y="57913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he problem is large and ex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5486400" y="6521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sitioning Nutrition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8229600" cy="6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cious cycle of poverty and malnutri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914400" y="1676520"/>
            <a:ext cx="7848360" cy="4647600"/>
            <a:chOff x="914400" y="1676520"/>
            <a:chExt cx="7848360" cy="4647600"/>
          </a:xfrm>
        </p:grpSpPr>
        <p:grpSp>
          <p:nvGrpSpPr>
            <p:cNvPr id="211" name="Group 5"/>
            <p:cNvGrpSpPr/>
            <p:nvPr/>
          </p:nvGrpSpPr>
          <p:grpSpPr>
            <a:xfrm>
              <a:off x="1495080" y="5332320"/>
              <a:ext cx="6527160" cy="835920"/>
              <a:chOff x="1495080" y="5332320"/>
              <a:chExt cx="6527160" cy="835920"/>
            </a:xfrm>
          </p:grpSpPr>
          <p:grpSp>
            <p:nvGrpSpPr>
              <p:cNvPr id="212" name="Group 6"/>
              <p:cNvGrpSpPr/>
              <p:nvPr/>
            </p:nvGrpSpPr>
            <p:grpSpPr>
              <a:xfrm>
                <a:off x="3761640" y="5332320"/>
                <a:ext cx="2005920" cy="835920"/>
                <a:chOff x="3761640" y="5332320"/>
                <a:chExt cx="2005920" cy="835920"/>
              </a:xfrm>
            </p:grpSpPr>
            <p:sp>
              <p:nvSpPr>
                <p:cNvPr id="213" name="Rectangle 7"/>
                <p:cNvSpPr/>
                <p:nvPr/>
              </p:nvSpPr>
              <p:spPr>
                <a:xfrm>
                  <a:off x="3761640" y="5332320"/>
                  <a:ext cx="2005920" cy="835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8"/>
                <p:cNvSpPr/>
                <p:nvPr/>
              </p:nvSpPr>
              <p:spPr>
                <a:xfrm>
                  <a:off x="3761640" y="5332320"/>
                  <a:ext cx="2005920" cy="835920"/>
                </a:xfrm>
                <a:prstGeom prst="rect">
                  <a:avLst/>
                </a:prstGeom>
                <a:noFill/>
                <a:ln cap="rnd" w="9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360" rIns="1836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ndirect loss in productivity from poor cognitive development and school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9"/>
              <p:cNvGrpSpPr/>
              <p:nvPr/>
            </p:nvGrpSpPr>
            <p:grpSpPr>
              <a:xfrm>
                <a:off x="1495080" y="5332320"/>
                <a:ext cx="1699560" cy="835920"/>
                <a:chOff x="1495080" y="5332320"/>
                <a:chExt cx="1699560" cy="835920"/>
              </a:xfrm>
            </p:grpSpPr>
            <p:sp>
              <p:nvSpPr>
                <p:cNvPr id="216" name="Rectangle 10"/>
                <p:cNvSpPr/>
                <p:nvPr/>
              </p:nvSpPr>
              <p:spPr>
                <a:xfrm>
                  <a:off x="1495080" y="5332320"/>
                  <a:ext cx="1699560" cy="835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11"/>
                <p:cNvSpPr/>
                <p:nvPr/>
              </p:nvSpPr>
              <p:spPr>
                <a:xfrm>
                  <a:off x="1495080" y="5332320"/>
                  <a:ext cx="1699560" cy="835920"/>
                </a:xfrm>
                <a:prstGeom prst="rect">
                  <a:avLst/>
                </a:prstGeom>
                <a:noFill/>
                <a:ln cap="rnd" w="9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360" rIns="18360" tIns="18360" bIns="18360" anchor="t">
                  <a:noAutofit/>
                </a:bodyPr>
                <a:p>
                  <a:pPr algn="ctr"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irect loss in productivity from poor physical statu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2"/>
              <p:cNvGrpSpPr/>
              <p:nvPr/>
            </p:nvGrpSpPr>
            <p:grpSpPr>
              <a:xfrm>
                <a:off x="6322680" y="5339880"/>
                <a:ext cx="1699560" cy="828360"/>
                <a:chOff x="6322680" y="5339880"/>
                <a:chExt cx="1699560" cy="828360"/>
              </a:xfrm>
            </p:grpSpPr>
            <p:sp>
              <p:nvSpPr>
                <p:cNvPr id="219" name="Rectangle 13"/>
                <p:cNvSpPr/>
                <p:nvPr/>
              </p:nvSpPr>
              <p:spPr>
                <a:xfrm>
                  <a:off x="6322680" y="5339880"/>
                  <a:ext cx="1699560" cy="828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14"/>
                <p:cNvSpPr/>
                <p:nvPr/>
              </p:nvSpPr>
              <p:spPr>
                <a:xfrm>
                  <a:off x="6322680" y="5339880"/>
                  <a:ext cx="1699560" cy="828360"/>
                </a:xfrm>
                <a:prstGeom prst="rect">
                  <a:avLst/>
                </a:prstGeom>
                <a:noFill/>
                <a:ln cap="rnd" w="9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360" rIns="1836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Loss in resources from increased health care costs of ill healt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Text Box 15"/>
            <p:cNvSpPr/>
            <p:nvPr/>
          </p:nvSpPr>
          <p:spPr>
            <a:xfrm>
              <a:off x="3722040" y="1676520"/>
              <a:ext cx="2115360" cy="37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come pover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6"/>
            <p:cNvGrpSpPr/>
            <p:nvPr/>
          </p:nvGrpSpPr>
          <p:grpSpPr>
            <a:xfrm>
              <a:off x="1091520" y="2746440"/>
              <a:ext cx="7348320" cy="681480"/>
              <a:chOff x="1091520" y="2746440"/>
              <a:chExt cx="7348320" cy="681480"/>
            </a:xfrm>
          </p:grpSpPr>
          <p:sp>
            <p:nvSpPr>
              <p:cNvPr id="223" name="Text Box 17"/>
              <p:cNvSpPr/>
              <p:nvPr/>
            </p:nvSpPr>
            <p:spPr>
              <a:xfrm>
                <a:off x="1091520" y="2747520"/>
                <a:ext cx="1317960" cy="680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w food intake and/or poor diet divers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18"/>
              <p:cNvSpPr/>
              <p:nvPr/>
            </p:nvSpPr>
            <p:spPr>
              <a:xfrm>
                <a:off x="2558160" y="2747520"/>
                <a:ext cx="1317960" cy="49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equent infectio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9"/>
              <p:cNvSpPr/>
              <p:nvPr/>
            </p:nvSpPr>
            <p:spPr>
              <a:xfrm>
                <a:off x="4043520" y="2746440"/>
                <a:ext cx="1437840" cy="49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ard physical lab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20"/>
              <p:cNvSpPr/>
              <p:nvPr/>
            </p:nvSpPr>
            <p:spPr>
              <a:xfrm>
                <a:off x="7121880" y="2747520"/>
                <a:ext cx="1317960" cy="49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r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amil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626080" y="2747520"/>
                <a:ext cx="1317960" cy="49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requent pregnanci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 Box 22"/>
            <p:cNvSpPr/>
            <p:nvPr/>
          </p:nvSpPr>
          <p:spPr>
            <a:xfrm>
              <a:off x="3750120" y="4296600"/>
              <a:ext cx="2115360" cy="37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lnutr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23"/>
            <p:cNvGrpSpPr/>
            <p:nvPr/>
          </p:nvGrpSpPr>
          <p:grpSpPr>
            <a:xfrm>
              <a:off x="914400" y="1831680"/>
              <a:ext cx="7848360" cy="4492440"/>
              <a:chOff x="914400" y="1831680"/>
              <a:chExt cx="7848360" cy="4492440"/>
            </a:xfrm>
          </p:grpSpPr>
          <p:grpSp>
            <p:nvGrpSpPr>
              <p:cNvPr id="230" name="Group 24"/>
              <p:cNvGrpSpPr/>
              <p:nvPr/>
            </p:nvGrpSpPr>
            <p:grpSpPr>
              <a:xfrm>
                <a:off x="1725840" y="2050920"/>
                <a:ext cx="6032160" cy="3263040"/>
                <a:chOff x="1725840" y="2050920"/>
                <a:chExt cx="6032160" cy="3263040"/>
              </a:xfrm>
            </p:grpSpPr>
            <p:sp>
              <p:nvSpPr>
                <p:cNvPr id="231" name="Line 25"/>
                <p:cNvSpPr/>
                <p:nvPr/>
              </p:nvSpPr>
              <p:spPr>
                <a:xfrm flipH="1" flipV="1">
                  <a:off x="1725840" y="3279600"/>
                  <a:ext cx="3036600" cy="7117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 flipH="1" flipV="1">
                  <a:off x="3323160" y="3279600"/>
                  <a:ext cx="1438920" cy="7117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27"/>
                <p:cNvSpPr/>
                <p:nvPr/>
              </p:nvSpPr>
              <p:spPr>
                <a:xfrm>
                  <a:off x="4762800" y="3279960"/>
                  <a:ext cx="720" cy="7117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28"/>
                <p:cNvSpPr/>
                <p:nvPr/>
              </p:nvSpPr>
              <p:spPr>
                <a:xfrm flipH="1">
                  <a:off x="4762800" y="3298680"/>
                  <a:ext cx="1547280" cy="6933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 flipH="1">
                  <a:off x="4762440" y="3298680"/>
                  <a:ext cx="2994840" cy="6933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Group 30"/>
                <p:cNvGrpSpPr/>
                <p:nvPr/>
              </p:nvGrpSpPr>
              <p:grpSpPr>
                <a:xfrm>
                  <a:off x="1745640" y="2050920"/>
                  <a:ext cx="6012360" cy="646200"/>
                  <a:chOff x="1745640" y="2050920"/>
                  <a:chExt cx="6012360" cy="646200"/>
                </a:xfrm>
              </p:grpSpPr>
              <p:sp>
                <p:nvSpPr>
                  <p:cNvPr id="237" name="Line 31"/>
                  <p:cNvSpPr/>
                  <p:nvPr/>
                </p:nvSpPr>
                <p:spPr>
                  <a:xfrm>
                    <a:off x="4756320" y="2073600"/>
                    <a:ext cx="0" cy="623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2"/>
                  <p:cNvSpPr/>
                  <p:nvPr/>
                </p:nvSpPr>
                <p:spPr>
                  <a:xfrm>
                    <a:off x="4751640" y="2050920"/>
                    <a:ext cx="1447200" cy="623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33"/>
                  <p:cNvSpPr/>
                  <p:nvPr/>
                </p:nvSpPr>
                <p:spPr>
                  <a:xfrm>
                    <a:off x="4751640" y="2050920"/>
                    <a:ext cx="3006360" cy="623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4"/>
                  <p:cNvSpPr/>
                  <p:nvPr/>
                </p:nvSpPr>
                <p:spPr>
                  <a:xfrm flipH="1">
                    <a:off x="3192480" y="2050920"/>
                    <a:ext cx="1558440" cy="623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 flipH="1">
                    <a:off x="1745640" y="2050920"/>
                    <a:ext cx="3006000" cy="623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" name="Line 36"/>
                <p:cNvSpPr/>
                <p:nvPr/>
              </p:nvSpPr>
              <p:spPr>
                <a:xfrm>
                  <a:off x="4768200" y="3922200"/>
                  <a:ext cx="0" cy="374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4765680" y="4690080"/>
                  <a:ext cx="0" cy="62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4761000" y="4667040"/>
                  <a:ext cx="2440080" cy="627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 flipH="1">
                  <a:off x="2413800" y="4667040"/>
                  <a:ext cx="2347200" cy="627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40"/>
              <p:cNvGrpSpPr/>
              <p:nvPr/>
            </p:nvGrpSpPr>
            <p:grpSpPr>
              <a:xfrm>
                <a:off x="914400" y="1831680"/>
                <a:ext cx="7848360" cy="4492440"/>
                <a:chOff x="914400" y="1831680"/>
                <a:chExt cx="7848360" cy="4492440"/>
              </a:xfrm>
            </p:grpSpPr>
            <p:sp>
              <p:nvSpPr>
                <p:cNvPr id="247" name="Line 41"/>
                <p:cNvSpPr/>
                <p:nvPr/>
              </p:nvSpPr>
              <p:spPr>
                <a:xfrm>
                  <a:off x="4766760" y="6193080"/>
                  <a:ext cx="0" cy="1245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766760" y="6323760"/>
                  <a:ext cx="3996000" cy="3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 flipV="1">
                  <a:off x="8760240" y="1831680"/>
                  <a:ext cx="0" cy="449028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8092440" y="5793840"/>
                  <a:ext cx="530640" cy="72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 flipV="1">
                  <a:off x="8618400" y="1926000"/>
                  <a:ext cx="720" cy="386784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914400" y="5918760"/>
                  <a:ext cx="497160" cy="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 flipV="1">
                  <a:off x="918720" y="1925640"/>
                  <a:ext cx="720" cy="399276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919800" y="1923840"/>
                  <a:ext cx="278352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5837400" y="1923840"/>
                  <a:ext cx="278352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5837400" y="1832040"/>
                  <a:ext cx="29228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7" name="Text Box 52"/>
          <p:cNvSpPr/>
          <p:nvPr/>
        </p:nvSpPr>
        <p:spPr>
          <a:xfrm>
            <a:off x="4343400" y="65214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ositioning Nutrition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3520"/>
            <a:ext cx="1716120" cy="8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od security is access by all people at all times to sufficient food, in terms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ualit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quantity an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versit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for a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ctive and healthy lif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risk of loss of such access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ght to Food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1600200"/>
            <a:ext cx="1716120" cy="1298160"/>
          </a:xfrm>
          <a:prstGeom prst="rect">
            <a:avLst/>
          </a:prstGeom>
          <a:solidFill>
            <a:srgbClr val="7030a0"/>
          </a:solidFill>
          <a:ln w="93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od Security in S. As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590920" y="14479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Self Sufficiency 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e29e"/>
                </a:solidFill>
                <a:latin typeface="Arial"/>
              </a:rPr>
              <a:t>Rice (wheat)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Food price crisis – Bangladesh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e29e"/>
                </a:solidFill>
                <a:latin typeface="Arial"/>
              </a:rPr>
              <a:t>2000-2006 – self sufficient in rice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e29e"/>
                </a:solidFill>
                <a:latin typeface="Arial"/>
              </a:rPr>
              <a:t>2000-2005 – poverty ↓ 9 % points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ebdcf8"/>
                </a:solidFill>
                <a:latin typeface="Arial"/>
              </a:rPr>
              <a:t>WASTING  ↑  6 % points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e Pillars of Food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83808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2127240" y="1743120"/>
            <a:ext cx="1835280" cy="4473000"/>
            <a:chOff x="2127240" y="1743120"/>
            <a:chExt cx="1835280" cy="4473000"/>
          </a:xfrm>
        </p:grpSpPr>
        <p:sp>
          <p:nvSpPr>
            <p:cNvPr id="265" name="AutoShape 5"/>
            <p:cNvSpPr/>
            <p:nvPr/>
          </p:nvSpPr>
          <p:spPr>
            <a:xfrm>
              <a:off x="2127240" y="2787480"/>
              <a:ext cx="1752480" cy="342864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2165400" y="1743120"/>
              <a:ext cx="1797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vail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7"/>
          <p:cNvGrpSpPr/>
          <p:nvPr/>
        </p:nvGrpSpPr>
        <p:grpSpPr>
          <a:xfrm>
            <a:off x="6972840" y="1766880"/>
            <a:ext cx="1766520" cy="4401720"/>
            <a:chOff x="6972840" y="1766880"/>
            <a:chExt cx="1766520" cy="4401720"/>
          </a:xfrm>
        </p:grpSpPr>
        <p:sp>
          <p:nvSpPr>
            <p:cNvPr id="268" name="Text Box 8"/>
            <p:cNvSpPr/>
            <p:nvPr/>
          </p:nvSpPr>
          <p:spPr>
            <a:xfrm>
              <a:off x="6972840" y="176688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ood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Util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9"/>
            <p:cNvSpPr/>
            <p:nvPr/>
          </p:nvSpPr>
          <p:spPr>
            <a:xfrm>
              <a:off x="6986520" y="2739960"/>
              <a:ext cx="1752840" cy="3428640"/>
            </a:xfrm>
            <a:prstGeom prst="can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0"/>
          <p:cNvGrpSpPr/>
          <p:nvPr/>
        </p:nvGrpSpPr>
        <p:grpSpPr>
          <a:xfrm>
            <a:off x="4375080" y="1714680"/>
            <a:ext cx="1981440" cy="4457160"/>
            <a:chOff x="4375080" y="1714680"/>
            <a:chExt cx="1981440" cy="4457160"/>
          </a:xfrm>
        </p:grpSpPr>
        <p:sp>
          <p:nvSpPr>
            <p:cNvPr id="271" name="AutoShape 11"/>
            <p:cNvSpPr/>
            <p:nvPr/>
          </p:nvSpPr>
          <p:spPr>
            <a:xfrm>
              <a:off x="4489560" y="2743200"/>
              <a:ext cx="1752480" cy="342864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4375080" y="1714680"/>
              <a:ext cx="1981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1720" y="1499760"/>
            <a:ext cx="171612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ility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riculture pillar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48080" y="1500120"/>
            <a:ext cx="60624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cf8"/>
                </a:solidFill>
                <a:latin typeface="Verdana"/>
              </a:rPr>
              <a:t>To Eat Food</a:t>
            </a:r>
            <a:endParaRPr b="1" lang="en-US" sz="2400" spc="-1" strike="noStrike">
              <a:solidFill>
                <a:srgbClr val="ebdcf8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e29e"/>
                </a:solidFill>
                <a:latin typeface="Verdana"/>
              </a:rPr>
              <a:t>Avoid Hunger (Energy)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e29e"/>
                </a:solidFill>
                <a:latin typeface="Verdana"/>
              </a:rPr>
              <a:t>Enjoyment, culture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buClr>
                <a:srgbClr val="c9ac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To Be Healthy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(vitamins, minerals, and other essential compounds)</a:t>
            </a:r>
            <a:endParaRPr b="0" lang="en-US" sz="2400" spc="-1" strike="noStrike">
              <a:solidFill>
                <a:srgbClr val="cae29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73ad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dcf8"/>
                </a:solidFill>
                <a:latin typeface="Verdana"/>
              </a:rPr>
              <a:t>To Earn Income</a:t>
            </a: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bdc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9:19:28Z</dcterms:created>
  <dc:creator>WB74229</dc:creator>
  <dc:description/>
  <dc:language>en-US</dc:language>
  <cp:lastModifiedBy>VM</cp:lastModifiedBy>
  <dcterms:modified xsi:type="dcterms:W3CDTF">2009-04-29T04:10:03Z</dcterms:modified>
  <cp:revision>69</cp:revision>
  <dc:subject/>
  <dc:title>Food security, Agriculture and Nutrition</dc:title>
</cp:coreProperties>
</file>