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8.png" ContentType="image/png"/>
  <Override PartName="/ppt/media/image13.png" ContentType="image/png"/>
  <Override PartName="/ppt/media/image15.png" ContentType="image/png"/>
  <Override PartName="/ppt/media/image9.wmf" ContentType="image/x-wmf"/>
  <Override PartName="/ppt/media/image2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30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4.png" ContentType="image/png"/>
  <Override PartName="/ppt/media/image2.png" ContentType="image/png"/>
  <Override PartName="/ppt/media/image5.png" ContentType="image/png"/>
  <Override PartName="/ppt/media/image14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DC089-898E-4C73-B801-9EB803667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76459-ADF6-4383-81D8-778A636D5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A1006-5E4B-47CE-A100-143ADE6D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mple size was calculated for each of the indicators based on statistically representative estimates at national, rural, urban and divisional levels, for wasting, underweight, stunting, vitamin A coverage and maternal nutritional status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end, the estimate that drove the sample size was acute malnutrition, conservatively assuming the prevalence of acute malnutrition  was 16%, stunting and underweight about 50%, vitamin A coverage at 95% and maternal wasting at  1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A3A8E-67BC-4EB7-8507-0CAED75F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ational estimates are reflective of the country at large - no differences between divisions and rural/urb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MNS 2005, only 58% of children aged &lt;6 months were exclusively breastfed; there was no significant difference between rural and urb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 minimum dietary diversity is a measurement of the proportion of children 6-23.9 months of age who receive foods from 4 or more food group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following 7 group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           1.      Grains, roots and tube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2.      Legumes and nu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3.      Dairy products (milk, yogurt, chees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4.      Flesh foods (meat, fish, poultry and liver/organ meats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5.      Egg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6.      Vitamin-A rich fruits and vegetab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           7.      Other fruits and vegetabl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cceptable diet is a measurement of the proportion of children 6-23.9 months of age who receive solid, semi-solid, or soft foods (but also including milk feeds for non-breastfed children) the minimum number of times or more and also they meet the minimum dietary divers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times of meals depends on the age and is defined a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    §        2 times for breastfed infants 6-8.9 mon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    §        3 times for breastfed children 9 -23.9 mon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    §        4 times for non-breastfed children 6-23.9 month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he major reported causes of CHILD death were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: 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espiratory infection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4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Fever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7.2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Diarrhoea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.6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Malnutrition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5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Accident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1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Bloody diarrhoea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.6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Measles/fever/rash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0.9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808080"/>
                </a:solidFill>
                <a:uFillTx/>
                <a:latin typeface="Arial"/>
              </a:rPr>
              <a:t>The major reported causes of POPULATION death were: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espiratory infection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8.5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Malnutrition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7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Accidents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.4%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, F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Flush to tipped sewer system, flush to septic tank, flash to pit latrine, pit latrine with a sl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mproved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ush to somewhere else, flush don't know where, pit latrine without a slap/open pit, bucket toilet, hanging toilet/hanging lat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sp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 facility/bush/b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t know if it is hygienic or not hygienic, difficulty to compare with other studies dues to methodology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insecure household food consumption groups were statistically associated with child mal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ing, stunting and underweight children tended to be more widespread among these household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an food secure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EC1F-BE8E-440F-8862-61145BA0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09A3-C14E-4D2E-8C52-7CA3110F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92A3-9A76-4BCF-9A91-143A46AD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2B17-9533-4043-A0EF-D5E8E61A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0225-C962-42E2-9E7A-35E1B79C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FD11-5013-4366-B0FF-76BCC87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683-EBFC-43C4-8FC6-D3E24F54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442F-5B93-418C-B24A-48E192A3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ED1A-DE6E-47AA-B3CC-2C0F8C11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54D9-782A-4D3F-B846-CFAA8733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C35-BF97-4543-9180-F07F99FB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AF45-30D7-44AD-930F-1A892BE8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A2C-BE04-4FA2-8C51-8273BFC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24B0-88E0-4ED2-B4D6-D1455B1B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F060-CBE1-45C2-8C32-2BFAD7D7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9E27-F672-4DC7-BA1C-93B452D4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9103-81DA-46DF-9BFC-9F9AAC16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D21D-401A-4261-A2BE-FC78D34F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92EF-8CAF-465C-B2CD-4CE90B0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9F82-0839-4794-8B7D-8603B834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6EC6-455E-45F0-A28A-DEEC5A8B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0DE4-52BF-494D-B601-7AB3CED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A876-1C2D-4422-8D7B-E9FDAFD4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E954-AE22-487C-B693-DA5BDB9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62C6-46C0-46BD-A057-A02B37CB6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970-A5E8-42A0-92AE-D15036404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84000" y="2060640"/>
            <a:ext cx="6659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Household Food Security and Nutrition Assessment </a:t>
            </a:r>
            <a:br>
              <a:rPr sz="3600"/>
            </a:b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in Bangladesh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vember 2008 – January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00400" y="2995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4508640"/>
            <a:ext cx="62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World Food Programme (W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United Nations Children’s Fund (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stitute of Public Health Nutrition (IP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602136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12000" y="5721480"/>
            <a:ext cx="936720" cy="93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76047" t="0" r="0" b="0"/>
          <a:stretch/>
        </p:blipFill>
        <p:spPr>
          <a:xfrm>
            <a:off x="3708360" y="6093000"/>
            <a:ext cx="2016000" cy="482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55640" y="5734080"/>
            <a:ext cx="10810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gladesh rice price De-links from Indi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719920" cy="41054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6"/>
          <p:cNvSpPr/>
          <p:nvPr/>
        </p:nvSpPr>
        <p:spPr>
          <a:xfrm rot="3393000">
            <a:off x="6300360" y="2563920"/>
            <a:ext cx="863280" cy="289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8160" y="329868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0" y="595008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7280" y="5950080"/>
            <a:ext cx="647640" cy="0"/>
          </a:xfrm>
          <a:prstGeom prst="line">
            <a:avLst/>
          </a:prstGeom>
          <a:ln w="38160">
            <a:solidFill>
              <a:srgbClr val="cc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8160" y="6093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a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9440" y="6093000"/>
            <a:ext cx="8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80" y="1341360"/>
            <a:ext cx="8964360" cy="525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2120" y="2781360"/>
            <a:ext cx="2174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390240" y="34084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a per k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8960" y="6165360"/>
            <a:ext cx="32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: India Ministry of Consumer Affair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and Public Distribution; modified by W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… Economic Performan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601640"/>
            <a:ext cx="37450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rately high GDP growth r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Y 2006-07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Y 2007-08 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ittances str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375080" cy="294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4932360" y="4781520"/>
            <a:ext cx="3244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61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vailability: Cereals, ric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2170080"/>
            <a:ext cx="87850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07-08 …close to rice self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.8 Million MTs of food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6.1% from previous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pite major natural disasters, Floods, Cycl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mper Boro major factor; 17.8 Million M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.7% increase vs. previous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Survey Objectives and Method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ary Surve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act of the food price shock on household food security. (Household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Aft>
                <a:spcPts val="10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most affected?  Demographic, Livelihoo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Aft>
                <a:spcPts val="10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ng Strateg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Aft>
                <a:spcPts val="10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differences… Urban/Rural, Divisional lev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how food markets responded, constraints, traders perceptions etc  (Market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re: food security and social protection, Social Safety Net/SSNs programm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 Cont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tion, Health, Water and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prevalence of acute malnutrition, underweight and stunting in children 6-59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prevalence of MUAC in mothers of children &lt;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ant and Young Child Fee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better understanding of IYCF practices for children &lt; 2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 Cont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, Health, Water and San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ness and Mort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rude and U5 mortality rates in 6 months prior to the surv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prevalence of diarrhea, fever, and ARI in children 6-59 months in 2 weeks prior to the survey and health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timate proportion of children 6-59 months in past 6 months and postpartum women who received Vitamin A in first 6 weeks afte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timate proportion of pregnant women who received iron/folate sup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and San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timate the coverage of latrines and access to safe water among house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 Design and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FP &amp; UNICEF - Survey protocol and questionnaires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chnical Committe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PH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EF, WFP, FAO, BBS, DGHS, MOHFP, MITRA and HKI provided inputs on entire surve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lot-survey/pre-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ducted around Dh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11, 2008 - January 19 2009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ring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vest season by MITRA Associ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survey teams (2 supervisors, 6 interviewers, 6 quality control officers) and a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ervisory t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IPHN and WFP field sta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od security component and market analysis was led by WFP and nutrition component led by UNICEF/IPH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ampling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rived from the sample clusters of the 2007 BDHS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mpling frame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umeration Areas (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 and Sampling unit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ouseh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51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epresentative sample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ntry as a wh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rban and the rural areas separ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and for each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ix divi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Two-stage, stratifi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One – 361 clust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re selected random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Two 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households within a cluster – Goal - 30 HHs per cluster and about 10,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ouseholds in to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quacy of HH number per indi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s checked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, At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cluster, 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H were selected with a fixed interval from the enumeration area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er collected data from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ed household only – No replac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house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s/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80 Markets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every other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rkets select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ndomly and proportion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to the distribution of the clusters amo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ural and urban ar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ximum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 traders – systema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andom selection of 2 wholesalers and 3 retailers/shop keep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Respondents; Households;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National, division, district, Upazila, and village authorities, including MOHFW, MOFD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7d"/>
                </a:solidFill>
                <a:uFillTx/>
                <a:latin typeface="Arial"/>
              </a:rPr>
              <a:t>Joint Technical Committee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: IPHN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NICEF, WFP, FAO, BBS, DGHS, MOHFP, Mitra and H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MITRA – sampling framework, training, data collection and data entry/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Centre for Disease Control (CDC) Atlanta - informal technical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26028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ssumptions used fo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ample Size Calculations per division/Rural/Urban/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484280"/>
          <a:ext cx="9144000" cy="4395960"/>
        </p:xfrm>
        <a:graphic>
          <a:graphicData uri="http://schemas.openxmlformats.org/drawingml/2006/table">
            <a:tbl>
              <a:tblPr/>
              <a:tblGrid>
                <a:gridCol w="1743120"/>
                <a:gridCol w="1316160"/>
                <a:gridCol w="1150920"/>
                <a:gridCol w="987120"/>
                <a:gridCol w="986040"/>
                <a:gridCol w="1481040"/>
                <a:gridCol w="147960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ed Preva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red Prec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e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households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hild/H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M (&lt;-2 z score + edem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HAZ &lt;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r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AZ &lt;-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amin 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 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Sampling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55640" y="836640"/>
          <a:ext cx="7272360" cy="5113080"/>
        </p:xfrm>
        <a:graphic>
          <a:graphicData uri="http://schemas.openxmlformats.org/drawingml/2006/table">
            <a:tbl>
              <a:tblPr/>
              <a:tblGrid>
                <a:gridCol w="2255760"/>
                <a:gridCol w="2384280"/>
                <a:gridCol w="2632320"/>
              </a:tblGrid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u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i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ttag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ha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hul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jsha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lh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b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6165360"/>
            <a:ext cx="856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arket/Trade survey, 180 markets and 900 traders were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5516640"/>
            <a:ext cx="136692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9080" y="5516640"/>
            <a:ext cx="136692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6093000"/>
            <a:ext cx="143964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0920" y="6093000"/>
            <a:ext cx="129672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71280" y="2204640"/>
            <a:ext cx="597708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3. Result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692360" y="357336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graphy and 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ography and G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household siz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households with depende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female-headed household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heads of household that never attended school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ratio between the active population and inactive (below 15-years and 60+ years) population, i.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that are not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2. R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ults/Highligh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Markets Surv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rs Perceptions, Market constraint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nsumer purchasing power, a major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19280" y="1413000"/>
            <a:ext cx="6337440" cy="4103640"/>
            <a:chOff x="1619280" y="1413000"/>
            <a:chExt cx="6337440" cy="410364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122560" y="1700280"/>
              <a:ext cx="5545080" cy="36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423600" y="170028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6680" y="227628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6320" y="335736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1241640" y="312516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 of tra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19280" y="1413000"/>
              <a:ext cx="6337440" cy="41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20760" y="602136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traders: “low purchasing power”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jor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rs Perceptions: Main Causes High Foo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11320" y="1689120"/>
            <a:ext cx="6696000" cy="4464000"/>
            <a:chOff x="1111320" y="1689120"/>
            <a:chExt cx="6696000" cy="446400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1482840" y="1838160"/>
              <a:ext cx="6265800" cy="35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150640" y="5289480"/>
              <a:ext cx="157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ar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ock buil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06440" y="5289480"/>
              <a:ext cx="157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gh Price 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urce Mar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51160" y="5289480"/>
              <a:ext cx="1125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56960" y="2091960"/>
              <a:ext cx="537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86760" y="2131920"/>
              <a:ext cx="50976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0600" y="3438360"/>
              <a:ext cx="4870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11320" y="1689120"/>
              <a:ext cx="6696000" cy="446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507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rs identify more customers requesting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26920" y="1197000"/>
            <a:ext cx="6121440" cy="4679640"/>
            <a:chOff x="826920" y="1197000"/>
            <a:chExt cx="6121440" cy="467964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1187280" y="2175120"/>
              <a:ext cx="5308920" cy="295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908720" y="1269360"/>
              <a:ext cx="42469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quests for cred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of Traders indicating Chan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10520" y="507240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1800" y="507240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03920" y="5101560"/>
              <a:ext cx="108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me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 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6920" y="1197000"/>
              <a:ext cx="6121440" cy="467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56360" y="6093000"/>
            <a:ext cx="69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5% of traders extend credit to compensate for low demand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7040" y="2097000"/>
            <a:ext cx="537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13120" y="2924280"/>
            <a:ext cx="48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24320" y="3213000"/>
            <a:ext cx="48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3. R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esults/Highlights Household Food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Outlin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2. Survey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3. Resul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1. Demography and 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2. Food Mar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3. Household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4. Nutrition, Health, Water/San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3.5. Malnutrition and Household Food Security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4. 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5.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more dependant on the mark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market participants 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food buyers” group expands most (+2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 (+3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 headed HHs (+6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lihood Groups becoming more dependa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ge laborers (Non-Ag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ual Wor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ttance ear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act on household incom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Income per HH drops by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S 2005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3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HFSN 2008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l income, 2008 vs.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increases by 1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3"/>
          <p:cNvGraphicFramePr/>
          <p:nvPr/>
        </p:nvGraphicFramePr>
        <p:xfrm>
          <a:off x="1332000" y="765000"/>
          <a:ext cx="7162560" cy="462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65000"/>
                    <a:ext cx="7162560" cy="46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-2520" y="333360"/>
            <a:ext cx="88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power fell due to rising food pri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229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ay’s worth of labor bought less ri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5589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 2007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day’s wage = 5 to 7 kg of coarse r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ne 2008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day’s wage = 3.7 to 5 kg of coarse ri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ount (need specific; i.e. 4 kgs.) is enough to feed a household of 5 in a 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ever larger percentage share food expenditures … compromised expenditures on other non-food basic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spend more on food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832720" cy="3187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519408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for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money for other basic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impact on development, and MD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51600" y="431640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4160" y="4316400"/>
            <a:ext cx="7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5080" y="431640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S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83720" y="3098880"/>
            <a:ext cx="537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9400" y="2997360"/>
            <a:ext cx="5374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24800" y="1427040"/>
            <a:ext cx="586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1413000"/>
            <a:ext cx="2503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od Expenditu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ercent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06560" y="835560"/>
            <a:ext cx="460944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spend more on food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06280" y="915840"/>
            <a:ext cx="8182080" cy="4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est shares… by Di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lhet 67.7%, Chittagong (64%) and Dhaka (62.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male-headed households 64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s. 62% MH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8064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ke past expenditure pattern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much difference between rural urban food expendi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5986440" cy="3340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975680" y="5691240"/>
            <a:ext cx="148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row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mily,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3680" y="5691240"/>
            <a:ext cx="18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row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ks, Micro-cr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81800" y="5691240"/>
            <a:ext cx="156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di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5280" y="2997360"/>
            <a:ext cx="537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39640" y="3068640"/>
            <a:ext cx="537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52440" y="3905280"/>
            <a:ext cx="537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20640"/>
            <a:ext cx="824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ng by Taking on deb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ducing health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43640" y="1989000"/>
            <a:ext cx="37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common coping strategie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st 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1844640"/>
            <a:ext cx="6624720" cy="446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31760" y="39715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1520" y="6583320"/>
            <a:ext cx="22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survey, HHFSN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576360" y="1413000"/>
            <a:ext cx="8567640" cy="5244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38400" y="646200"/>
            <a:ext cx="827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le Headed Households Struggling to C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8320" y="1557360"/>
            <a:ext cx="4956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ing Strategies Index;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503280" cy="266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6920" y="6613560"/>
            <a:ext cx="687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average…Female headed hhs had comparatively much higher; 64% higher… CSI scores vs. HHs headed by m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Object 3"/>
          <p:cNvGraphicFramePr/>
          <p:nvPr/>
        </p:nvGraphicFramePr>
        <p:xfrm>
          <a:off x="1187280" y="1127160"/>
          <a:ext cx="6624720" cy="55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7160"/>
                    <a:ext cx="662472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23640" y="1412640"/>
            <a:ext cx="4351320" cy="81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 Food Insecure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Food Consumption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800" y="476280"/>
            <a:ext cx="81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our (25%) of households are food in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o are the most affected househol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413000"/>
          <a:ext cx="8218440" cy="5229000"/>
        </p:xfrm>
        <a:graphic>
          <a:graphicData uri="http://schemas.openxmlformats.org/drawingml/2006/table">
            <a:tbl>
              <a:tblPr/>
              <a:tblGrid>
                <a:gridCol w="2055600"/>
                <a:gridCol w="2054520"/>
                <a:gridCol w="2052360"/>
                <a:gridCol w="2055960"/>
              </a:tblGrid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Food Insec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Food Consumption Sco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nt on 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ping Strategies Index Sc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gric. labour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ic. labour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ual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00720" y="2133720"/>
            <a:ext cx="443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100" spc="-1" strike="noStrike">
                <a:solidFill>
                  <a:srgbClr val="ffffff"/>
                </a:solidFill>
                <a:latin typeface="Arial"/>
              </a:rPr>
              <a:t>3.4. Nutrition, Health, Water and Sanit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Background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Food Price Shock … and macro-econ. contex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hild Nutr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9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9 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Wasting, Stunting, Underweight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 – 59 months (WHO stand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95280" y="1844640"/>
          <a:ext cx="8353080" cy="4392360"/>
        </p:xfrm>
        <a:graphic>
          <a:graphicData uri="http://schemas.openxmlformats.org/drawingml/2006/table">
            <a:tbl>
              <a:tblPr/>
              <a:tblGrid>
                <a:gridCol w="2358720"/>
                <a:gridCol w="1904400"/>
                <a:gridCol w="1904760"/>
                <a:gridCol w="21852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ldr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– 59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WH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nting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A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weight (WA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81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nutrit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I 12.1-15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46.5-50.6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35.4-39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nutrit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I 2.8-4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18.4-21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I 10.9-13.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611280" y="5589720"/>
            <a:ext cx="82087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6427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30200" y="333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as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6 - 59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vision, Areas and National (WHO standard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n=4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5753160"/>
            <a:ext cx="86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1625760"/>
          <a:ext cx="7810560" cy="38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25760"/>
                    <a:ext cx="78105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2268360" y="2492280"/>
            <a:ext cx="532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1640" y="227664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emergency threshold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516640"/>
            <a:ext cx="85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ing is worse in Barisal and Rajshahi divisions. These findings are consistent with Food Security findings – the most food insecure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or /borderline food consumption grou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divisions are in these the same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198200">
            <a:off x="1839960" y="4941720"/>
            <a:ext cx="64764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9198200">
            <a:off x="4011120" y="4971600"/>
            <a:ext cx="78444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t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6 - 59 month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y Age Group (WHO standards)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=4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755640" y="1557360"/>
          <a:ext cx="76550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6550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1979640" y="2924280"/>
            <a:ext cx="45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588000" y="263700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O emergency threshold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17800" y="4916520"/>
            <a:ext cx="64908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33720" y="4929120"/>
            <a:ext cx="649440" cy="21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9280" y="5661000"/>
            <a:ext cx="595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558972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ildren aged 6-23 months are malnourished than children aged 24-59 month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this is closely linked to the poor feeding pract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9280" y="404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un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6 - 59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vision, Areas and National (WHO standards)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=3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5753160"/>
            <a:ext cx="86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826920" y="1341360"/>
          <a:ext cx="7480440" cy="36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41360"/>
                    <a:ext cx="748044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308720" y="2708280"/>
            <a:ext cx="18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threshold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00360" y="2743200"/>
            <a:ext cx="489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52293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all, stunting remains high across all divis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lhet has the highest stunting rate while Dhaka, Barisal and CHT are higher than the national average.  Sylhet has a high increase of food expenditures and it is also one of the divisions affected by price transmis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187280" y="1413000"/>
          <a:ext cx="68900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8900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ild Malnutrition,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nderweigh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6 - 59 month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vision, Areas and National (WHO standards)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=41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3500280"/>
            <a:ext cx="40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88000" y="3213000"/>
            <a:ext cx="18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threshold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53006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s of underweight are all above the 30% WHO thresh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exception of Khulna division. Barisal and Sylhet have shown high rates of underweight which are consistent with the food security situation in those two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Wasting, 2005 - 2009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WHO standards</a:t>
            </a:r>
            <a:r>
              <a:rPr b="1" lang="en-GB" sz="18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06440" y="1371600"/>
          <a:ext cx="8178840" cy="342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371600"/>
                    <a:ext cx="81788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7236000" y="220500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emergency threshold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508464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 of acute malnutrition has decreased – compared to BDHS 2007. However, since this survey was conducted during the best period of the year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 rate of 13.5% (which is just below the emergency threshold)  indicates a serious nutritional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92360" y="2467080"/>
            <a:ext cx="626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Stun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5 - 2009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WHO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6021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68360" y="1484280"/>
          <a:ext cx="815328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15328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2340000" y="3213000"/>
            <a:ext cx="44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2720" y="306864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threshold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566100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nting levels  have increased – but remain stable in comparison to 2005. This is in harmony with the analysis of the food consumption groups and dietary in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ional Estimates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ild Malnutrition, Under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5 - 2009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WHO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5753160"/>
            <a:ext cx="86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5800" y="2057400"/>
          <a:ext cx="7277040" cy="34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27704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2378160" y="3560760"/>
            <a:ext cx="3887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27640" y="342900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threshold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558972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weight has decreased a little, but it still remains above the WHO thresholds – however, survey conducted during the harvest season, thus this explains the “improv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0920" y="549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ant &amp; Young Child Feeding Pract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clusive Breastfeeding 0- 6 Months, by Age an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522936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 infant and young child feeding practi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limited practice of exclusive breastfeeding to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95280" y="1484280"/>
          <a:ext cx="854712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54712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55640" y="6093000"/>
            <a:ext cx="8209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ing:  Food Price Shoc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2952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 rising mid 200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 rate… &gt; 7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Infl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Rise begins mi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2973240" y="2143080"/>
            <a:ext cx="60483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79280" y="333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ant &amp; Young Child Feed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765000"/>
            <a:ext cx="745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of children 6 - 23.9 months that received a minimum diet divers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. 4 food groups/day from 7 different food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11280" y="1341360"/>
          <a:ext cx="7607160" cy="37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6071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792000" y="530064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60% of the children age 6-24 months did not received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inimum diet of at least 4 food groups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826920" y="1268280"/>
          <a:ext cx="7920360" cy="36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920360" cy="36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age of children 6-24 months that receiv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meal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4940280"/>
            <a:ext cx="842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50% of the children 6-24 months d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v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meal 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Barisal, Chittagong and Sylhet are the wo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Maternal Nutr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47840" y="5300640"/>
            <a:ext cx="87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nting is closely correlated with poor maternal nutrition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e: Maternal nutrition status based on low MUAC of &lt;22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692280"/>
          <a:ext cx="8255160" cy="43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92280"/>
                    <a:ext cx="825516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32040" y="620640"/>
            <a:ext cx="7672320" cy="4608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39640" y="5445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wasted and underweight children are more likely to be illness than stunted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ternal Nutri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4960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AC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8.2%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 221 mm GAM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.9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lt; 214 mm SAM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cut-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tamin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verage in mothers 6-weeks post-partu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n/fo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upplementation of pregnant wome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0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47640" y="2060280"/>
            <a:ext cx="56228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orbidity, Mortality, Water and San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ld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1989000"/>
            <a:ext cx="78487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8.6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children were ill in the 2-weeks before the survey (49% rural, 47.5% ur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% of children were brought to health facilities. Lack of money was the major reas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those children not brought for health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Health: (househol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989000"/>
            <a:ext cx="3672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184464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0.8%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ported illness in the previous 2-weeks (51.1% rural, 50% ur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% of the households surveyed sought healthcare treatment. Of those that did not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d that lack of money was the major rea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95280" y="476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Mortality and Child Mortality, Under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573408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24000" y="335772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9640" y="537372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ality rates well below alert and emergency thresholds, both nationally, and within divisions. There is no statistical difference between urban and r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55640" y="1052640"/>
          <a:ext cx="7272360" cy="4033800"/>
        </p:xfrm>
        <a:graphic>
          <a:graphicData uri="http://schemas.openxmlformats.org/drawingml/2006/table">
            <a:tbl>
              <a:tblPr/>
              <a:tblGrid>
                <a:gridCol w="1295280"/>
                <a:gridCol w="3052800"/>
                <a:gridCol w="29242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5 Mortality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U5 deaths/10,000 U5 children/da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rt threshold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2.0/10,000/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Mortality Ra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eaths/10,000 persons/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lert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eshold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1.0/10,000/d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6  (CI 0.64-0.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  (CI 0.21-0.2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i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6  (CI 0.61-0.7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   (CI 0.09-0.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ttago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2  (CI 0.69-0.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  (CI 0.21-0.2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1  (CI 0.69-0.7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4  (CI 0.33-0.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hul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0 (CI 0.56-0.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7  (CI 0.16-0.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jsha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8  (CI 0.55-0.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0  (CI 0.29-0.3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lh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1  (CI 0.56-0.6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  (CI 0.07-0.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5  (CI 0.64-0.6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6  (CI 0.25-0.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1  (CI 0.68-0.7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  (CI 0.13-0.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gnitude of domestic prices incr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478160" y="105264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time Series: July ’95 thru Jan.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2143080" y="15717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 prices of rice (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633240" y="2279520"/>
            <a:ext cx="78091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32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cent of households with safe sources of drinkin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4437000"/>
            <a:ext cx="864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9.3% of the population have as a main source of drinking water, a tubewell or borehole at the moment of the survey, but only 7.5% of households treat their drinking water at the moment (no change from 12 months a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95280" y="1197000"/>
          <a:ext cx="842472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247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2590920" y="5853240"/>
            <a:ext cx="655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95280" y="1268280"/>
          <a:ext cx="844704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447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84360" y="4797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.4% of the population used an improved toilet facility, usage of improved latrine more in urban area compared to rura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5157720"/>
            <a:ext cx="849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2916000" y="2133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3.5. Malnutrition and Household Food Security Link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 SECURITY and NUTRITION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al Linkages (Signific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within households wi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or and borderline household food consumption sco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more likely to b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nourished (wasting, stunting, underweigh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hold with high percent shar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expendi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re more likely to have malnourished children (wasting, stunting, underw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having high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ing Strategy Inde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SI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cores are more likely to have malnourished childr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asting, stunting, underw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holds with seasonal or irregular incom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agriculture wage, non-agriculture wage and casual wor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re more likely to have malnourished children (stunting / underwe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5805360"/>
            <a:ext cx="820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916000" y="2133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4. Conclusion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hold Food Security and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barriers were a major contributing factor re: food price 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traders identify main constraints; low capital for investment in food storage facil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 heavy reliance on debt to cope with food access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 spent a greater percent of their total expenditures o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s compromise health care expenditures to cope; implications for MDG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protection and Social Safety Net expansion needs to be faster, more agile, and better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00007d"/>
                </a:solidFill>
                <a:latin typeface="Arial"/>
                <a:ea typeface="ＭＳ Ｐゴシック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trition, Health, Water and Sanitation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wasting and underweight levels remains high while there is a slight increase in stunting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youngest children pres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er rates malnutrition, especially acute 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et qu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es not meet acceptable levels for children, th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ng children less than two years of ag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eat the minimum acceptable di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ld malnutrition is strongly associated with the two main indicators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od security (i.e. children from poor and border line food consumption groups or/and from households with  increase % of expenditure on food are more likely to be malnouris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valence of illness among other household member and among children under five year ol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high. Lack of money is an important reason for not seeking medical care, whi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ever, respiratory illness and diarrhoea are significantly associated with acute malnutrition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tality ra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main below alert and emergency thresho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and sanit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dicators are stable bu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of wa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treat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ot necessarily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916000" y="213372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Recommendation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the efficiency and effectivenes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Safety Ne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expand coverage in areas of high malnutrition and food in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ementary feeding w/ micronutr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vulnerable groups, Children Under 5’s, Under 2’s, Pregnant and/or Lactating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interven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food abundant, accounting for seasonality, and market availability; otherw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ed food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investment in food marketing and sto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.g. warehouses for larger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 open trade poli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region, avoid policies that result in trade barri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252360" y="907920"/>
            <a:ext cx="9396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 more and build on existing information system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itoring and surveillance, early warning for earl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Address the large numbers of acutely malnourished children 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gement of acute malnutr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bo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acility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ty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8. Impro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timal infant and young child fee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hasizing maternal  and community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 Emphasi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nutrient-enriched foods and diet diver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f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istance interventions, food security and nutritional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 Streng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health and hygiene promo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prevent and tre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rrhoeal disease, respiratory infections and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 Harmonized and develop and standardiz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ional survey guidelines to enable data quality and compar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ce rise caus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713800" cy="51847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p failures, oil price rise, bio-fue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barriers, export bans …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est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Fl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 Cyclone Si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456840"/>
            <a:ext cx="87854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Arial"/>
              </a:rPr>
              <a:t>Food Grain Imports rise dramatically…2007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993560" y="6236640"/>
            <a:ext cx="37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: Bangladesh Bank, Economic Trends (2009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= Provisional estimates up to Feb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3508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77080" y="1413000"/>
            <a:ext cx="503280" cy="1728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9800" y="5321160"/>
            <a:ext cx="576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Food Grain imports as percent total imports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-08 reaches 6%, vs. 3% in previous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e barriers with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“Minimum Export Price” set artificially hig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later banned: 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 rot="16200000">
            <a:off x="1036440" y="387036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USD/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557080" y="5445000"/>
            <a:ext cx="689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10160" y="5445000"/>
            <a:ext cx="726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717440" y="5445000"/>
            <a:ext cx="110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616360" cy="3006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5868360" y="5445000"/>
            <a:ext cx="110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27400" y="648180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Rice:  non-Basmati 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349360"/>
            <a:ext cx="6192720" cy="3816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-467280" y="1123200"/>
            <a:ext cx="6768000" cy="302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4320" y="3738600"/>
            <a:ext cx="522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5240" y="3565440"/>
            <a:ext cx="522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5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8680" y="3170160"/>
            <a:ext cx="577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8320" y="2421000"/>
            <a:ext cx="676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$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9:41:25Z</dcterms:created>
  <dc:creator>Carrie Morrison</dc:creator>
  <dc:description/>
  <dc:language>en-US</dc:language>
  <cp:lastModifiedBy>carrie morrison</cp:lastModifiedBy>
  <dcterms:modified xsi:type="dcterms:W3CDTF">2009-04-05T08:35:27Z</dcterms:modified>
  <cp:revision>753</cp:revision>
  <dc:subject/>
  <dc:title>Food Security and Nutrition Assessment</dc:title>
</cp:coreProperties>
</file>