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8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9"/>
          </p:nvPr>
        </p:nvSpPr>
        <p:spPr>
          <a:xfrm>
            <a:off x="-3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0"/>
          </p:nvPr>
        </p:nvSpPr>
        <p:spPr>
          <a:xfrm>
            <a:off x="377460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A1664F-4802-4A8A-A3C0-C498F56B5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13B56-4B1E-4D0B-8C39-02495E0034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E46D27-3B6C-4BC2-8C5C-62FCEA2822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938A09-9519-41F7-A08B-DC2783ACBC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CAB1FE-AF58-4ECA-B21B-B5CF6D07D0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610A5C-EC9E-4FDA-946E-D3FCE3B94C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163374-DD67-4989-94A3-22F03D73DB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25A6CF-CAAC-4A4A-8C49-C52C5B23DF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B9F914-B3A9-477C-8F0C-F89BB4609B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04A4C1-CD3D-4324-9F83-562348383C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1F9886-40C6-487F-96B2-D36ED9064E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B4683C-29E2-45E1-8A61-08741B5788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3AA7A5-3536-4E09-9686-F46231742B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AC56E4-7BFF-4401-A268-902B07E13E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6CFD8E-029F-44C5-956B-3243367460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5FCCA-C8AC-4D0C-9624-9EADBCECCC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C3F876-D488-45F3-A8B3-FA7CE74C39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01B4A0-42DE-4742-94A9-653818FE7C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EFAD31-DA72-4DC7-9C9A-0A3CBA294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62E09E-E6ED-44C0-80D8-7F09CDC107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D579F7-2A9E-46FB-8EFA-55AB120312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CE54BB-9A6A-4E44-9EE3-FFA2B51041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990E4-5E0E-470E-B5B2-BBEF76C1EA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44812F-41D4-4522-9DA2-133183327D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B15816-ABAD-455C-8ABB-2636FF8904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C677EA-87DD-4DC4-A609-EB49A8AA12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5FE206-457C-4215-9CB2-802C2834A3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FE733B-2A45-4874-A284-F75A301E32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8E200-7F55-4712-8C51-1AECA42A0D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A2E2-398D-4E39-A55E-65837078C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813A-5204-4D22-8C53-52146154C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39E6-4729-4BD5-A2C0-F1DF8612B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E9E7-5E9B-416D-A5EF-FE3394E13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41FA5-90A2-45C3-96DD-EFB1A33F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177B-E138-49DA-B146-4C697A5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A8637-E96B-4DC6-80AB-028907CB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F17C8-5731-47FA-A3C6-84315A8A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505C5-A647-4165-863B-F8F27704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B9125-4DAA-445A-9B2E-EC97148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464E6-E884-4D0B-90A4-DBB5968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0FD2-DCFB-4247-9C22-BA911683C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D484-6DAB-467F-A1D3-B0BB546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9C828-0DBB-4598-8481-DD17BCE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FE8D4-D792-4868-8108-6605A64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92532-B854-4386-B595-3D30C3B7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E8C4E-D368-4033-9B06-50F702E1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7EF-1DB1-4F2C-A3A6-E0A93019C6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3A43-0775-4275-BE8C-9DE0A8122F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DC44-6235-44CA-81F5-5293FF42FB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5A5-2631-48AE-8821-C616914F95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EF70-21E3-43DE-923D-255C10FEB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4B92-3184-4121-B3F1-F3E6924C4E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B3A-B0B2-449A-8CEF-71D7DF1722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D41A-9620-4769-98B6-211EE0A678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29C5-35AC-4AA7-8556-459749D1F4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183E-6081-4411-8F62-1CD3E7C7D7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935B-C8A2-477D-9CF0-EB95F6D85E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C437-902D-429C-BB3A-C6B92D0D8B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D7E8-0339-47BC-8801-5DD29FC54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65E0-2E79-4CED-B063-69F195E46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E14A-360F-4E22-8EC2-7397AE9D1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7065-F831-45FE-BCFB-62CFD50BF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DB83-88DC-4A1C-AFDB-D5608DDC7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01BE-5596-4C67-80EE-059E9422A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CD9A-9AC9-4A6F-84EF-2B63D8A1F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éunion RPCA, Paris av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C596-20AC-40F4-8FEC-B45D42AAD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948360" y="6237360"/>
            <a:ext cx="122400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eau-rosa.eu/" TargetMode="External"/><Relationship Id="rId2" Type="http://schemas.openxmlformats.org/officeDocument/2006/relationships/hyperlink" Target="http://www.rosa-network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Food Security Network - RO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3789360"/>
            <a:ext cx="72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gress, challenges and 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468360" y="170028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aring food prices and food sec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468360" y="242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and maternal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undernutri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its c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395280" y="40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ocial transf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oncepts, practical issues and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4572000" y="242100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 to address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undernutrition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o inv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4500720" y="4005360"/>
            <a:ext cx="43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ocial transf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cessary preconditions and proper sequencing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468360" y="530064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relief, rehabilitation and develop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4572000" y="170028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0000"/>
                </a:solidFill>
                <a:latin typeface="Arial"/>
              </a:rPr>
              <a:t>10.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ining food prices: Crisis is ov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93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SA Focus – Month’s High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8"/>
          <p:cNvSpPr/>
          <p:nvPr/>
        </p:nvSpPr>
        <p:spPr>
          <a:xfrm>
            <a:off x="395280" y="3213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1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way forward for the EC to prioritise nutrition and to develop a nutrition strategy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324000" y="573408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1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od security issues related to climate chan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97080" y="980640"/>
            <a:ext cx="1022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ctivities linked to the priority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utrition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key nutrition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A Focus No. 2: Child and maternal undernutritio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A Focus No. 4: Actions to address undernutrition: Where to inv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A Focus No. 12: The way forward for the EC to prioritise nutrition and to develop a nutrition strateg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database of reference documents (ROSA Watch No.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actions supported by the EC (March-April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lessons from experiences in reducing maternal and child malnutrition (April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virtual extranet platform</a:t>
            </a:r>
            <a:br>
              <a:rPr sz="4000"/>
            </a:b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reseau-rosa.eu</a:t>
            </a:r>
            <a:br>
              <a:rPr sz="4000"/>
            </a:b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rosa-network.e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0" t="0" r="29524" b="18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Oval 11"/>
          <p:cNvSpPr/>
          <p:nvPr/>
        </p:nvSpPr>
        <p:spPr>
          <a:xfrm>
            <a:off x="1979640" y="4653000"/>
            <a:ext cx="24480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1692360" y="630864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rcRect l="886" t="0" r="2067" b="9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Oval 9"/>
          <p:cNvSpPr/>
          <p:nvPr/>
        </p:nvSpPr>
        <p:spPr>
          <a:xfrm>
            <a:off x="7236000" y="189000"/>
            <a:ext cx="93636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132000" y="1628640"/>
            <a:ext cx="1440000" cy="144720"/>
          </a:xfrm>
          <a:prstGeom prst="leftRightArrow">
            <a:avLst>
              <a:gd name="adj1" fmla="val 50000"/>
              <a:gd name="adj2" fmla="val 19808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900000" y="2205000"/>
            <a:ext cx="142920" cy="1873440"/>
          </a:xfrm>
          <a:prstGeom prst="upDownArrow">
            <a:avLst>
              <a:gd name="adj1" fmla="val 50000"/>
              <a:gd name="adj2" fmla="val 2609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rcRect l="2952" t="0" r="29524" b="47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3"/>
          <p:cNvSpPr/>
          <p:nvPr/>
        </p:nvSpPr>
        <p:spPr>
          <a:xfrm>
            <a:off x="900000" y="2205000"/>
            <a:ext cx="1224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rcRect l="8562" t="18896" r="10333" b="118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rcRect l="8857" t="0" r="8857" b="4724"/>
          <a:stretch/>
        </p:blipFill>
        <p:spPr>
          <a:xfrm>
            <a:off x="1547640" y="4292640"/>
            <a:ext cx="6250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0347 L 0.00486 -0.32987 E">
                                      <p:cBhvr>
                                        <p:cTn id="7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rcRect l="5905" t="0" r="8857" b="2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rcRect l="8857" t="18896" r="8857" b="7086"/>
          <a:stretch/>
        </p:blipFill>
        <p:spPr>
          <a:xfrm>
            <a:off x="1908000" y="1628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rcRect l="11810" t="18896" r="11810" b="103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rcRect l="5905" t="0" r="29524" b="2362"/>
          <a:stretch/>
        </p:blipFill>
        <p:spPr>
          <a:xfrm>
            <a:off x="1692360" y="189000"/>
            <a:ext cx="712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rcRect l="8857" t="0" r="11810" b="4724"/>
          <a:stretch/>
        </p:blipFill>
        <p:spPr>
          <a:xfrm>
            <a:off x="-54000" y="0"/>
            <a:ext cx="9198000" cy="6904080"/>
          </a:xfrm>
          <a:prstGeom prst="rect">
            <a:avLst/>
          </a:prstGeom>
          <a:ln w="0">
            <a:noFill/>
          </a:ln>
        </p:spPr>
      </p:pic>
      <p:sp>
        <p:nvSpPr>
          <p:cNvPr id="214" name="Oval 5"/>
          <p:cNvSpPr/>
          <p:nvPr/>
        </p:nvSpPr>
        <p:spPr>
          <a:xfrm>
            <a:off x="1547640" y="4437000"/>
            <a:ext cx="561672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Background and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AL (European Food Security Network) until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seminars from 2002 to 200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&gt; A persistent request for a new network focused on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of a pilot phase in 2007 to provide a “virtual” space of exchange and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thematic networks within the EC (Wa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rcRect l="5905" t="2362" r="59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rcRect l="5905" t="78889" r="5905" b="9448"/>
          <a:stretch/>
        </p:blipFill>
        <p:spPr>
          <a:xfrm>
            <a:off x="0" y="6254640"/>
            <a:ext cx="9144000" cy="603360"/>
          </a:xfrm>
          <a:prstGeom prst="rect">
            <a:avLst/>
          </a:prstGeom>
          <a:ln w="0">
            <a:noFill/>
          </a:ln>
        </p:spPr>
      </p:pic>
      <p:sp>
        <p:nvSpPr>
          <p:cNvPr id="219" name="Oval 7"/>
          <p:cNvSpPr/>
          <p:nvPr/>
        </p:nvSpPr>
        <p:spPr>
          <a:xfrm>
            <a:off x="1979640" y="6237360"/>
            <a:ext cx="165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rcRect l="5905" t="18896" r="5905" b="9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2"/>
          <a:srcRect l="23619" t="21257" r="29524" b="18896"/>
          <a:stretch/>
        </p:blipFill>
        <p:spPr>
          <a:xfrm>
            <a:off x="1835280" y="2023920"/>
            <a:ext cx="6337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rcRect l="11810" t="18896" r="11810" b="9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11810" t="21257" r="26571" b="63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rcRect l="8857" t="25981" r="8857" b="9448"/>
          <a:stretch/>
        </p:blipFill>
        <p:spPr>
          <a:xfrm>
            <a:off x="2374920" y="1538280"/>
            <a:ext cx="676908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rcRect l="11810" t="18896" r="13286" b="9448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2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8857" t="18896" r="8857" b="28343"/>
          <a:stretch/>
        </p:blipFill>
        <p:spPr>
          <a:xfrm>
            <a:off x="0" y="0"/>
            <a:ext cx="9144000" cy="341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rcRect l="13286" t="18896" r="14762" b="25037"/>
          <a:stretch/>
        </p:blipFill>
        <p:spPr>
          <a:xfrm>
            <a:off x="0" y="3284640"/>
            <a:ext cx="9156600" cy="3573360"/>
          </a:xfrm>
          <a:prstGeom prst="rect">
            <a:avLst/>
          </a:prstGeom>
          <a:ln w="0">
            <a:noFill/>
          </a:ln>
        </p:spPr>
      </p:pic>
      <p:sp>
        <p:nvSpPr>
          <p:cNvPr id="238" name="Oval 7"/>
          <p:cNvSpPr/>
          <p:nvPr/>
        </p:nvSpPr>
        <p:spPr>
          <a:xfrm>
            <a:off x="324000" y="2205000"/>
            <a:ext cx="511164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8172360" y="3284640"/>
            <a:ext cx="792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in challeng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06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olidate and reinforce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atic priority 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transf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the concept note (final vers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experiences within the EC community (lessons learned in Malawi, Ethiopi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entral America,…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bate on key issues (targeting, graduation, institutionalization, social transfers and 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in challenges for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the concept note (country/region conce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understanding on undernutrition and awareness raising (multidimensionality and effect of indirect interven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ation of experiences and lessons learned in different contexts of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bate on key issue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nutrition be better incorporated into development policies, programmes and project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in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848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thematic priority ax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activities to facilitate and stimulate deb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 u="sng">
                <a:solidFill>
                  <a:srgbClr val="000000"/>
                </a:solidFill>
                <a:uFillTx/>
                <a:latin typeface="Arial"/>
              </a:rPr>
              <a:t>For members: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To play an </a:t>
            </a:r>
            <a:r>
              <a:rPr b="0" lang="en-IE" sz="3600" spc="-1" strike="noStrike">
                <a:solidFill>
                  <a:srgbClr val="cc0000"/>
                </a:solidFill>
                <a:latin typeface="Arial"/>
              </a:rPr>
              <a:t>active role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in the development of the virtual 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Background and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tive of AIDCO E6 (thematic support) in collaboration with AIDCO G4 (training and knowledge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vide concrete support to the EC delegations and relevant staff as well as close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SzPct val="150000"/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tivities of the network are articulated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undertaken by AIDCO in the field of 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irtual platform: E-campus for e-learning (unit G4) and then a new extranet developed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317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a common frame of reference in the field of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ing available necessary information and drawing attention to specific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understanding of key issues related to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emination of relevant information, knowledge and awareness-raising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076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rengthen exchanges and coordination within the EC (Delegations, head quarters and partn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points of view 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to capitalize experiences and lessons learned in different contexts of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 community network highly involved in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arte-du-monde-vierge 1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143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OSA’s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724360" y="5300640"/>
            <a:ext cx="3240360" cy="140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120 memb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ainly EC 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40 close part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1403280" y="4076640"/>
            <a:ext cx="1944720" cy="20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"/>
          <p:cNvSpPr/>
          <p:nvPr/>
        </p:nvSpPr>
        <p:spPr>
          <a:xfrm>
            <a:off x="5292720" y="3429000"/>
            <a:ext cx="2735280" cy="144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matic priority 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99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aring food prices and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ernal and chil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transfers and access to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ecurity indicators and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cutting and other key issue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rade negotiations, climate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4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ur mai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timely and relevant information on food security issues : ROSA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understanding of key issues related to food security and stimulate debate: ROSA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exchange of views and coordinating a structured debate: discussion forums, request fo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sharing of lessons learned and good practices to capitalise the experiences of the EC and its partners: call for contributions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ing and following-up the outcomes of regional and thematic semin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6"/>
          <p:cNvSpPr/>
          <p:nvPr/>
        </p:nvSpPr>
        <p:spPr>
          <a:xfrm>
            <a:off x="2268360" y="630864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nthly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1628640"/>
            <a:ext cx="36734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at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1628640"/>
            <a:ext cx="3529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W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1"/>
          <a:srcRect l="0" t="6173" r="0" b="0"/>
          <a:stretch/>
        </p:blipFill>
        <p:spPr>
          <a:xfrm>
            <a:off x="324000" y="2637000"/>
            <a:ext cx="26683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20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21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238428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23" descr=""/>
          <p:cNvPicPr/>
          <p:nvPr/>
        </p:nvPicPr>
        <p:blipFill>
          <a:blip r:embed="rId4"/>
          <a:stretch/>
        </p:blipFill>
        <p:spPr>
          <a:xfrm>
            <a:off x="4500720" y="2637000"/>
            <a:ext cx="25416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24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24782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Picture 25" descr=""/>
          <p:cNvPicPr/>
          <p:nvPr/>
        </p:nvPicPr>
        <p:blipFill>
          <a:blip r:embed="rId6"/>
          <a:stretch/>
        </p:blipFill>
        <p:spPr>
          <a:xfrm>
            <a:off x="6372360" y="2637000"/>
            <a:ext cx="210636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user</cp:lastModifiedBy>
  <dcterms:modified xsi:type="dcterms:W3CDTF">2011-02-17T16:31:12Z</dcterms:modified>
  <cp:revision>408</cp:revision>
  <dc:subject/>
  <dc:title>Impact of export support measures on food aid and food security</dc:title>
</cp:coreProperties>
</file>