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wmf" ContentType="image/x-wmf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8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5356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9"/>
          </p:nvPr>
        </p:nvSpPr>
        <p:spPr>
          <a:xfrm>
            <a:off x="-3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0"/>
          </p:nvPr>
        </p:nvSpPr>
        <p:spPr>
          <a:xfrm>
            <a:off x="377460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AAE433-DD7D-469B-81AD-3038D8433C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E9E18D-7C47-4507-BCD7-9ED6AA3166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4FB18E-FAB6-46A9-B8E2-39F1277805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DF6F24-E038-4170-8BBA-89E792B92C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7991FC-AC18-4E3D-AAF7-9C9894E49D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4F92D1-D6A2-47D5-89AA-7CA4A978DB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BB118B-C412-4A5B-87C7-22C5C341AA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008F1E-2959-4C86-8C9C-DA4168CA76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614340-0122-49B7-9119-745C390313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360145-9714-49F4-A9AF-E3ECEDA093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9643A2-A2E4-4201-A6F4-B2DBE7FF4E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AE9796-05F3-441C-A1D0-9C86999841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C308C6-AB6A-474A-A953-1A1D4CEB5B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3EEC25-618A-4A7E-8693-43A5DE37D4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FDF65D-4835-4E54-A0AD-8CED189423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5E07E5-213B-42CE-8138-425B89D66E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41A534-A3E4-43F8-B952-F61081E7F6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6A9100-20F3-40ED-BAF8-EEFA8C97E4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79AFAB-4D6F-44CB-B2EA-AFC02450BA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281F9A-690A-4BF9-862B-D7CD7E2EF0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8B65E3-CD16-4FCA-BF16-BDB7DB0CC8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08934D-9E9B-4D1C-B551-6B4C249E55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EF7432-8F04-40D3-807C-D99CC07F09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ABC43B-95F5-47AA-B04E-0138163925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62B3D2-80C7-4D10-8A4C-384E641D41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95DC47-62BF-4435-A328-25E9413731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3B9E6B-5FE2-40F6-9D5A-BD54196C1D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973D95-67A1-417D-AB80-BE549D3A5F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B986AF-FC17-4196-9A5C-AD907C0E44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671C-396A-4766-9A2B-7351BCA67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08C1-4E66-429C-B55C-DB9697B04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78DE-E36F-4708-A4E6-0707207B0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705C-F053-426E-B383-DF4B85EF3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76181-F9E8-4EA8-B7F9-201A093B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7124A-7A3A-4966-8E2B-E62CBC9E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3EC52-ED4B-4EC5-8EAF-D8541A23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5004D-E9EF-4678-BAFF-EA3033B4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629E2-B73F-4910-9298-8FD96D12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62068-FBAD-4EAA-9B2F-904F9553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26A31-FB9A-4689-BAFD-41B4F3CE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7FC3-EE41-4544-89EC-B46C12ECB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C254A-217F-4A7F-B397-EC7FCA23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4E2BB-7AB1-4BB2-BC1C-838D3BD4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2A19E-7B77-41EB-9C47-67A12BCA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F3C04-D420-4E93-BCBB-5559B5BA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C3940-3187-4A62-A01D-F0079954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2FE2-89E3-47E5-82EF-8E07F4B7C6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1D36-6253-4DD2-BAF6-22B3FACED5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B9C6-E627-46D9-8184-5331855FC6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D0A0-8C6B-41A6-BB77-44092DAD0D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13B3-71C4-4BC4-ABDB-9FBD2435D7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2813-F143-450B-84F5-93C78F5028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5C75-2521-452C-9937-43AB0B0CBC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C14B-3350-4E7F-A316-F93379F32F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1E70-B505-4E60-AC43-5ADBF5F555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F4BF-BC37-44A2-819F-6DC8B61E01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CC27-2FFC-4FDA-BDA7-7F06D57236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DDB6-7C35-442C-B6F9-E7F155D6EA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72F8-4B8A-4AC4-A23F-663A81294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FCB2-9953-4E51-AD6E-98CE8365B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05D1-61B6-4F7E-986B-91DC05FB2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C952-AD8F-4935-AE75-7F5F85903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33A0-EC80-4D27-B8F0-A9D1A95D2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AB30-3BA3-401F-8F49-6C5582E3F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C0C5-9D37-4090-A0B7-723EBB6B8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éunion RPCA, Paris av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3D58-65EA-47D4-81BD-C1A8F4B3A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948360" y="6237360"/>
            <a:ext cx="122400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2411280" y="6308640"/>
            <a:ext cx="4176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seau-rosa.eu/" TargetMode="External"/><Relationship Id="rId2" Type="http://schemas.openxmlformats.org/officeDocument/2006/relationships/hyperlink" Target="http://www.rosa-network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2411280" y="6308640"/>
            <a:ext cx="4176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Food Security Network - RO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3789360"/>
            <a:ext cx="7201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gress, challenges and 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468360" y="1700280"/>
            <a:ext cx="41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aring food prices and food secu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468360" y="2421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and maternal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undernutri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its ca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395280" y="40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Social transf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concepts, practical issues and 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5"/>
          <p:cNvSpPr/>
          <p:nvPr/>
        </p:nvSpPr>
        <p:spPr>
          <a:xfrm>
            <a:off x="4572000" y="2421000"/>
            <a:ext cx="44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 to address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undernutrition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to inve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4500720" y="4005360"/>
            <a:ext cx="439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social transf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Necessary preconditions and proper sequencing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468360" y="530064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8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relief, rehabilitation and develop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4572000" y="170028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10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ining food prices: Crisis is ov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252720" y="907920"/>
            <a:ext cx="9396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OSA Focus – Month’s High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8"/>
          <p:cNvSpPr/>
          <p:nvPr/>
        </p:nvSpPr>
        <p:spPr>
          <a:xfrm>
            <a:off x="395280" y="3213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1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way forward for the EC to prioritise nutrition and to develop a nutrition strategy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9"/>
          <p:cNvSpPr/>
          <p:nvPr/>
        </p:nvSpPr>
        <p:spPr>
          <a:xfrm>
            <a:off x="324000" y="573408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1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od security issues related to climate chan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97080" y="980640"/>
            <a:ext cx="1022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ctivities linked to the priority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08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utrition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key nutrition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A Focus No. 2: Child and maternal undernutrition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s c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A Focus No. 4: Actions to address undernutrition: Where to inv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A Focus No. 12: The way forward for the EC to prioritise nutrition and to develop a nutrition strateg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on database of reference documents (ROSA Watch No.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actions supported by the EC (March-April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ing lessons from experiences in reducing maternal and child malnutrition (April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virtual extranet platform</a:t>
            </a:r>
            <a:br>
              <a:rPr sz="4000"/>
            </a:b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reseau-rosa.eu</a:t>
            </a:r>
            <a:br>
              <a:rPr sz="4000"/>
            </a:b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rosa-network.e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rcRect l="0" t="0" r="29524" b="188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Oval 11"/>
          <p:cNvSpPr/>
          <p:nvPr/>
        </p:nvSpPr>
        <p:spPr>
          <a:xfrm>
            <a:off x="1979640" y="4653000"/>
            <a:ext cx="244800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1692360" y="630864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rcRect l="886" t="0" r="2067" b="94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Oval 9"/>
          <p:cNvSpPr/>
          <p:nvPr/>
        </p:nvSpPr>
        <p:spPr>
          <a:xfrm>
            <a:off x="7236000" y="189000"/>
            <a:ext cx="93636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132000" y="1628640"/>
            <a:ext cx="1440000" cy="144720"/>
          </a:xfrm>
          <a:prstGeom prst="leftRightArrow">
            <a:avLst>
              <a:gd name="adj1" fmla="val 50000"/>
              <a:gd name="adj2" fmla="val 19808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900000" y="2205000"/>
            <a:ext cx="142920" cy="1873440"/>
          </a:xfrm>
          <a:prstGeom prst="upDownArrow">
            <a:avLst>
              <a:gd name="adj1" fmla="val 50000"/>
              <a:gd name="adj2" fmla="val 2609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rcRect l="2952" t="0" r="29524" b="47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3"/>
          <p:cNvSpPr/>
          <p:nvPr/>
        </p:nvSpPr>
        <p:spPr>
          <a:xfrm>
            <a:off x="900000" y="2205000"/>
            <a:ext cx="1224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rcRect l="8562" t="18896" r="10333" b="118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2"/>
          <a:srcRect l="8857" t="0" r="8857" b="4724"/>
          <a:stretch/>
        </p:blipFill>
        <p:spPr>
          <a:xfrm>
            <a:off x="1547640" y="4292640"/>
            <a:ext cx="62503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0347 L 0.00486 -0.32987 E">
                                      <p:cBhvr>
                                        <p:cTn id="7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rcRect l="5905" t="0" r="8857" b="23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rcRect l="8857" t="18896" r="8857" b="7086"/>
          <a:stretch/>
        </p:blipFill>
        <p:spPr>
          <a:xfrm>
            <a:off x="1908000" y="162864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rcRect l="11810" t="18896" r="11810" b="103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rcRect l="5905" t="0" r="29524" b="2362"/>
          <a:stretch/>
        </p:blipFill>
        <p:spPr>
          <a:xfrm>
            <a:off x="1692360" y="189000"/>
            <a:ext cx="712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rcRect l="8857" t="0" r="11810" b="4724"/>
          <a:stretch/>
        </p:blipFill>
        <p:spPr>
          <a:xfrm>
            <a:off x="-54000" y="0"/>
            <a:ext cx="9198000" cy="6904080"/>
          </a:xfrm>
          <a:prstGeom prst="rect">
            <a:avLst/>
          </a:prstGeom>
          <a:ln w="0">
            <a:noFill/>
          </a:ln>
        </p:spPr>
      </p:pic>
      <p:sp>
        <p:nvSpPr>
          <p:cNvPr id="214" name="Oval 5"/>
          <p:cNvSpPr/>
          <p:nvPr/>
        </p:nvSpPr>
        <p:spPr>
          <a:xfrm>
            <a:off x="1547640" y="4437000"/>
            <a:ext cx="561672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Background and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AL (European Food Security Network) until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seminars from 2002 to 200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&gt; A persistent request for a new network focused on foo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of a pilot phase in 2007 to provide a “virtual” space of exchange and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thematic networks within the EC (Wat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rcRect l="5905" t="2362" r="590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rcRect l="5905" t="78889" r="5905" b="9448"/>
          <a:stretch/>
        </p:blipFill>
        <p:spPr>
          <a:xfrm>
            <a:off x="0" y="6254640"/>
            <a:ext cx="9144000" cy="603360"/>
          </a:xfrm>
          <a:prstGeom prst="rect">
            <a:avLst/>
          </a:prstGeom>
          <a:ln w="0">
            <a:noFill/>
          </a:ln>
        </p:spPr>
      </p:pic>
      <p:sp>
        <p:nvSpPr>
          <p:cNvPr id="219" name="Oval 7"/>
          <p:cNvSpPr/>
          <p:nvPr/>
        </p:nvSpPr>
        <p:spPr>
          <a:xfrm>
            <a:off x="1979640" y="6237360"/>
            <a:ext cx="1655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rcRect l="5905" t="18896" r="5905" b="94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2"/>
          <a:srcRect l="23619" t="21257" r="29524" b="18896"/>
          <a:stretch/>
        </p:blipFill>
        <p:spPr>
          <a:xfrm>
            <a:off x="1835280" y="2023920"/>
            <a:ext cx="6337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rcRect l="11810" t="18896" r="11810" b="94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rcRect l="11810" t="21257" r="26571" b="63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rcRect l="8857" t="25981" r="8857" b="9448"/>
          <a:stretch/>
        </p:blipFill>
        <p:spPr>
          <a:xfrm>
            <a:off x="2374920" y="1538280"/>
            <a:ext cx="676908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rcRect l="11810" t="18896" r="13286" b="9448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8857" t="18896" r="8857" b="28343"/>
          <a:stretch/>
        </p:blipFill>
        <p:spPr>
          <a:xfrm>
            <a:off x="0" y="0"/>
            <a:ext cx="9144000" cy="341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rcRect l="13286" t="18896" r="14762" b="25037"/>
          <a:stretch/>
        </p:blipFill>
        <p:spPr>
          <a:xfrm>
            <a:off x="0" y="3284640"/>
            <a:ext cx="9156600" cy="3573360"/>
          </a:xfrm>
          <a:prstGeom prst="rect">
            <a:avLst/>
          </a:prstGeom>
          <a:ln w="0">
            <a:noFill/>
          </a:ln>
        </p:spPr>
      </p:pic>
      <p:sp>
        <p:nvSpPr>
          <p:cNvPr id="238" name="Oval 7"/>
          <p:cNvSpPr/>
          <p:nvPr/>
        </p:nvSpPr>
        <p:spPr>
          <a:xfrm>
            <a:off x="324000" y="2205000"/>
            <a:ext cx="511164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8172360" y="3284640"/>
            <a:ext cx="79236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in challeng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0643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solidate and reinforce th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atic priority 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transf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on the concept note (final vers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experiences within the EC community (lessons learned in Malawi, Ethiopia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nglade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entral America,…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bate on key issues (targeting, graduation, institutionalization, social transfers and nutr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in challenges for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on the concept note (country/region conce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understanding on undernutrition and awareness raising (multidimensionality and effect of indirect interven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ation of experiences and lessons learned in different contexts of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bate on key issue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nutrition be better incorporated into development policies, programmes and project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in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848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thematic priority ax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activities to facilitate and stimulate deb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 u="sng">
                <a:solidFill>
                  <a:srgbClr val="000000"/>
                </a:solidFill>
                <a:uFillTx/>
                <a:latin typeface="Arial"/>
              </a:rPr>
              <a:t>For members: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To play an </a:t>
            </a:r>
            <a:r>
              <a:rPr b="0" lang="en-IE" sz="3600" spc="-1" strike="noStrike">
                <a:solidFill>
                  <a:srgbClr val="cc0000"/>
                </a:solidFill>
                <a:latin typeface="Arial"/>
              </a:rPr>
              <a:t>active role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in the development of the virtual 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Background and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itiative of AIDCO E6 (thematic support) in collaboration with AIDCO G4 (training and knowledge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vide concrete support to the EC delegations and relevant staff as well as close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SzPct val="15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ctivities of the network are articulated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undertaken by AIDCO in the field of 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virtual platform: E-campus for e-learning (unit G4) and then a new extranet developed i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317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elop a common frame of reference in the field of foo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ing available necessary information and drawing attention to specific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understanding of key issues related to f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&gt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emination of relevant information, knowledge and awareness-raising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076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rengthen exchanges and coordination within the EC (Delegations, head quarters and partn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points of view and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ng to capitalize experiences and lessons learned in different contexts of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 of a community network highly involved in f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carte-du-monde-vierge 1"/>
          <p:cNvPicPr/>
          <p:nvPr/>
        </p:nvPicPr>
        <p:blipFill>
          <a:blip r:embed="rId1"/>
          <a:stretch/>
        </p:blipFill>
        <p:spPr>
          <a:xfrm>
            <a:off x="250920" y="1557360"/>
            <a:ext cx="8713800" cy="5143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OSA’s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724360" y="5300640"/>
            <a:ext cx="3240360" cy="1404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120 memb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ainly EC ac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40 close part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"/>
          <p:cNvSpPr/>
          <p:nvPr/>
        </p:nvSpPr>
        <p:spPr>
          <a:xfrm>
            <a:off x="1403280" y="4076640"/>
            <a:ext cx="1944720" cy="20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2"/>
          <p:cNvSpPr/>
          <p:nvPr/>
        </p:nvSpPr>
        <p:spPr>
          <a:xfrm>
            <a:off x="5292720" y="3429000"/>
            <a:ext cx="2735280" cy="144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matic priority a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99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aring food prices and foo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ernal and child mal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transfers and access to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security indicators and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cutting and other key issues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rade negotiations, climate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ur mai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timely and relevant information on food security issues : ROSA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understanding of key issues related to food security and stimulate debate: ROSA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exchange of views and coordinating a structured debate: discussion forums, request for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sharing of lessons learned and good practices to capitalise the experiences of the EC and its partners: call for contributions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ing and following-up the outcomes of regional and thematic semin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6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onthly news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332000" y="1773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1628640"/>
            <a:ext cx="367344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at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716360" y="1628640"/>
            <a:ext cx="35290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Wat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lev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1"/>
          <a:srcRect l="0" t="6173" r="0" b="0"/>
          <a:stretch/>
        </p:blipFill>
        <p:spPr>
          <a:xfrm>
            <a:off x="324000" y="2637000"/>
            <a:ext cx="266832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20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26244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21" descr=""/>
          <p:cNvPicPr/>
          <p:nvPr/>
        </p:nvPicPr>
        <p:blipFill>
          <a:blip r:embed="rId3"/>
          <a:stretch/>
        </p:blipFill>
        <p:spPr>
          <a:xfrm>
            <a:off x="1476360" y="2637000"/>
            <a:ext cx="238428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23" descr=""/>
          <p:cNvPicPr/>
          <p:nvPr/>
        </p:nvPicPr>
        <p:blipFill>
          <a:blip r:embed="rId4"/>
          <a:stretch/>
        </p:blipFill>
        <p:spPr>
          <a:xfrm>
            <a:off x="4500720" y="2637000"/>
            <a:ext cx="25416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Picture 24" descr=""/>
          <p:cNvPicPr/>
          <p:nvPr/>
        </p:nvPicPr>
        <p:blipFill>
          <a:blip r:embed="rId5"/>
          <a:stretch/>
        </p:blipFill>
        <p:spPr>
          <a:xfrm>
            <a:off x="5292720" y="2637000"/>
            <a:ext cx="247824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Picture 25" descr=""/>
          <p:cNvPicPr/>
          <p:nvPr/>
        </p:nvPicPr>
        <p:blipFill>
          <a:blip r:embed="rId6"/>
          <a:stretch/>
        </p:blipFill>
        <p:spPr>
          <a:xfrm>
            <a:off x="6372360" y="2637000"/>
            <a:ext cx="210636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04:36Z</dcterms:created>
  <dc:creator>Bénédicte HERMELIN</dc:creator>
  <dc:description/>
  <dc:language>en-US</dc:language>
  <cp:lastModifiedBy>user</cp:lastModifiedBy>
  <dcterms:modified xsi:type="dcterms:W3CDTF">2011-02-17T16:31:12Z</dcterms:modified>
  <cp:revision>408</cp:revision>
  <dc:subject/>
  <dc:title>Impact of export support measures on food aid and food security</dc:title>
</cp:coreProperties>
</file>